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3.wmf" ContentType="image/x-wmf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C465-878B-4A00-A23B-84E2C29C0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FF2C-C46A-41C4-B38E-44FF2E02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D8C0-34AF-4671-96E6-515FCA91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5A46-ED64-4B3D-96DE-16DB486C5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417-A2D9-4B9D-B698-FD5EF449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B54B-4BE7-435D-B739-2FA2C622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B7CB-BF7E-4882-85B9-AD05AB95B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9CB6-546A-4479-9D61-F7A19A773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C8B6-8D38-459F-A189-C3C47B6DF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45A2-ACD7-4144-A0E0-328FE4A96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4C3A-A8CF-4EA4-84F4-CA400F78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3F33-B146-4709-8A99-CFD6D3089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16AB-243E-4ECD-9C65-BAB6A1E77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010-CF3F-4E0B-9971-B48524EEB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77B-4918-40A5-99ED-806D7FAFE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CB43-33B5-4BEC-8C75-EDD4CF4B0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8C7A-A00C-4D5C-A0BF-726D9502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110C-E095-4B1F-A11F-2D3519DC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4248-C349-4BC0-8D90-DB12FBDD3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3114-F48E-4E19-8439-D04AE360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7A97-36E9-478E-B5CD-653151BE7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20F-82FF-49A2-865B-687025017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F939-A0BF-442E-8EC7-084C0950B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B002-B3CD-4665-BE08-9ED3932D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84A3-3CF4-4CA9-9B6D-2549A136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2D12-D28F-4A7F-BB62-8659625B6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14B0-91A3-4703-89D4-FA2A80348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323-B15F-453A-8D79-6C5EE6409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3C90-3B41-4B64-94EE-9A4D5359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E7D5-D504-4BE0-A353-6342A5BC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2BF0-70C0-4C5E-A1F8-8EC38B406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9A3E-7C69-43CC-92AD-AB4848AB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E7B-461F-431C-B16C-F4368C144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EB57-85A7-4EB0-9EB0-C15344C5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0E7C-2AA1-4202-895B-36E8E3044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572D-0179-42CF-A711-C4CA00623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327-7436-412A-95FF-E13555DE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DCB-05C4-4B70-B538-0A245CFC7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2D61-11AC-4B65-879F-522CEBD78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C836-6653-489E-9CD6-39F88916A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BFB9-71BB-4937-B822-67ED4A14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39A5-C378-4086-B666-68BDD480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F086-64EA-4421-80D4-CAF4F251E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E81B-3252-471A-BA99-6BB7B489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A712-BA21-468C-8E53-59E3DD464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BA7C-4F30-49E2-83EE-F487CC733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B465-5654-4875-8367-E8774FCA9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374F-5756-4FD5-9F05-9B3F0DEC2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BAD1-AFCA-4E27-9E56-15189908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59B-0BCF-4120-ABCF-7A8F05A7F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9FFD-CCD3-4FAE-8F10-B9BF52AE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123E-9C56-41CB-9271-7963B680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F2B7-196E-4E6C-B142-E576D4837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4037-B80A-4730-A57A-DA8E6D026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35D2-F27D-4F19-96BB-81C30DF1E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3C6F-92E7-42B9-AFC5-9B45059D6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8031-F710-431C-9422-DD51E03AB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D887-C2BC-4851-88A3-99E05E835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1F5B-85BB-4823-9760-C71AC62A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A351-1C75-4749-A549-C707F59B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4445-32A2-4011-B077-2619A966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57A4-4163-4998-B8AC-06DEA1A7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9DCC-1A8B-41CC-8352-B37810806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4A3A-D8EC-4DCF-8AF9-AE612A873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2D73-EFF9-47CF-808C-F60CF955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74C-27BF-40C1-A054-062562C3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BB7-9D5B-4024-B74F-2B6B0300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E3B-5F92-43F2-AE3A-29A5AE49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77A-964E-42D0-A083-E5261B53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E84F-B096-4F7C-AE30-140F8035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F3FE-AF02-4763-AA57-462FE473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D303-3FDD-4FE8-87CE-738F1976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8295-090B-4BAA-9246-05602023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BE87-50A5-45A7-A4FC-A94649E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9EED-2056-4F17-B3AC-36AE0D42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4B2F-9E7C-4D82-8D39-DB1FB54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E54-5D8A-4A09-804C-FE4B9711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7A87-9599-4505-B69F-5C901498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3C3E-6FD2-4B2D-ADF2-394E7B1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D46A-9EBA-450E-9468-DCF860EC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C5EE-682D-471D-AD7F-2BA5F67C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ABAF-DD7D-46E5-8A96-BAECC1B7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A55-09EF-4380-98D7-BE62975A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B79-658B-45B2-861F-B3C3B171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AF3-0261-4D4C-AAB2-E407C90B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D79-EF3A-4EF0-A08E-9DF07387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A1A-432E-474A-9035-B0E76D02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B58-FB74-4210-87C2-23BF9A4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32C-96B0-4FB9-B1B0-BB618248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prstGeom prst="pie">
                  <a:avLst/>
                </a:pr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esent Tense  -ar 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gular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371600" y="1447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895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eces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447920" y="4267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is t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dd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00400" y="76212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  as 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886200" y="236232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  as 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971800" y="380988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  as 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3505320" y="266688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2590920" y="411480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2895480" y="1219320"/>
            <a:ext cx="381240" cy="1600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5"/>
          <p:cNvSpPr/>
          <p:nvPr/>
        </p:nvSpPr>
        <p:spPr>
          <a:xfrm>
            <a:off x="21337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2057400" y="11430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19051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8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23623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i"/>
          <p:cNvPicPr/>
          <p:nvPr/>
        </p:nvPicPr>
        <p:blipFill>
          <a:blip r:embed="rId1"/>
          <a:stretch/>
        </p:blipFill>
        <p:spPr>
          <a:xfrm>
            <a:off x="1828800" y="2133720"/>
            <a:ext cx="5486400" cy="39909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914400" y="1600200"/>
            <a:ext cx="2133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248520" y="1219320"/>
            <a:ext cx="2209680" cy="503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u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3809880" y="106668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t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809880" y="175248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n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3809880" y="251460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loo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3809880" y="320040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3809880" y="3962520"/>
            <a:ext cx="2362320" cy="990360"/>
          </a:xfrm>
          <a:prstGeom prst="rightArrow">
            <a:avLst>
              <a:gd name="adj1" fmla="val 50000"/>
              <a:gd name="adj2" fmla="val 5963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loo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3809880" y="4648320"/>
            <a:ext cx="2362320" cy="990360"/>
          </a:xfrm>
          <a:prstGeom prst="rightArrow">
            <a:avLst>
              <a:gd name="adj1" fmla="val 50000"/>
              <a:gd name="adj2" fmla="val 5963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ca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733920" y="5410080"/>
            <a:ext cx="2361960" cy="990720"/>
          </a:xfrm>
          <a:prstGeom prst="rightArrow">
            <a:avLst>
              <a:gd name="adj1" fmla="val 50000"/>
              <a:gd name="adj2" fmla="val 59602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9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18288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2438280" y="12193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8"/>
          <p:cNvSpPr/>
          <p:nvPr/>
        </p:nvSpPr>
        <p:spPr>
          <a:xfrm>
            <a:off x="21337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1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you-singular"/>
          <p:cNvPicPr/>
          <p:nvPr/>
        </p:nvPicPr>
        <p:blipFill>
          <a:blip r:embed="rId1"/>
          <a:stretch/>
        </p:blipFill>
        <p:spPr>
          <a:xfrm>
            <a:off x="1900080" y="1754280"/>
            <a:ext cx="5484960" cy="39909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"/>
          <p:cNvSpPr txBox="1"/>
          <p:nvPr/>
        </p:nvSpPr>
        <p:spPr>
          <a:xfrm>
            <a:off x="914400" y="1600200"/>
            <a:ext cx="2133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ú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248520" y="1219320"/>
            <a:ext cx="2209680" cy="503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i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u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1981080" y="1143000"/>
            <a:ext cx="221004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18288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23623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914400" y="1447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gor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914400" y="1447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gor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3"/>
          <p:cNvSpPr/>
          <p:nvPr/>
        </p:nvSpPr>
        <p:spPr>
          <a:xfrm>
            <a:off x="21337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con mi amigo Ju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con mi amigo Ju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3"/>
          <p:cNvSpPr/>
          <p:nvPr/>
        </p:nvSpPr>
        <p:spPr>
          <a:xfrm>
            <a:off x="2057400" y="11430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televisión con mis ami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he"/>
          <p:cNvPicPr/>
          <p:nvPr/>
        </p:nvPicPr>
        <p:blipFill>
          <a:blip r:embed="rId1"/>
          <a:stretch/>
        </p:blipFill>
        <p:spPr>
          <a:xfrm>
            <a:off x="1676520" y="2057400"/>
            <a:ext cx="5103720" cy="358128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"/>
          <p:cNvSpPr txBox="1"/>
          <p:nvPr/>
        </p:nvSpPr>
        <p:spPr>
          <a:xfrm>
            <a:off x="380880" y="685800"/>
            <a:ext cx="2133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é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248520" y="1219320"/>
            <a:ext cx="2209680" cy="503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us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televisión con mis ami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2209680" y="12193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mochila para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mochila para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mochila en la tiend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mochila en la tiend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mochila ver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mochila ver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eta negra y jeans azu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eta negra y jeans azu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1981080" y="1143000"/>
            <a:ext cx="221004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falda azul y una blusa blan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he"/>
          <p:cNvPicPr/>
          <p:nvPr/>
        </p:nvPicPr>
        <p:blipFill>
          <a:blip r:embed="rId1"/>
          <a:stretch/>
        </p:blipFill>
        <p:spPr>
          <a:xfrm>
            <a:off x="1708200" y="2055960"/>
            <a:ext cx="4722840" cy="35827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685800"/>
            <a:ext cx="2133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ll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248520" y="1219320"/>
            <a:ext cx="2209680" cy="503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us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falda azul y una blusa blan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5"/>
          <p:cNvSpPr/>
          <p:nvPr/>
        </p:nvSpPr>
        <p:spPr>
          <a:xfrm>
            <a:off x="23623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haqueta verde  y unos pantalones marro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haqueta verde  y unos pantalones marro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1981080" y="12193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 amarilla y unos pantalones marro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 amarilla y unos pantalones marro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3"/>
          <p:cNvSpPr/>
          <p:nvPr/>
        </p:nvSpPr>
        <p:spPr>
          <a:xfrm>
            <a:off x="2133720" y="11430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no _______ un sombrero ho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no _______ un sombrero ho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9718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en una tienda de rop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en una tienda de rop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un restaurante mexica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1371600" y="1447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371600" y="2895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ecesit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447920" y="4267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r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Times New Roman"/>
              </a:rPr>
              <a:t>-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un restaurante mexica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1981080" y="12193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18288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la escuela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la escuela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3623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6"/>
          <p:cNvSpPr/>
          <p:nvPr/>
        </p:nvSpPr>
        <p:spPr>
          <a:xfrm>
            <a:off x="1752480" y="2438280"/>
            <a:ext cx="5562720" cy="3733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371600" y="1447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Times New Roman"/>
              </a:rPr>
              <a:t>Me gust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habl</a:t>
            </a:r>
            <a:r>
              <a:rPr b="0" lang="es-ES" sz="54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219320" y="39625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Times New Roman"/>
              </a:rPr>
              <a:t>Me gust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mir</a:t>
            </a:r>
            <a:r>
              <a:rPr b="0" lang="es-ES" sz="54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la televis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is used wi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ph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e gusta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371600" y="1447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371600" y="2895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ecesit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47920" y="4267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r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Times New Roman"/>
              </a:rPr>
              <a:t>To add 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Times New Roman"/>
              </a:rPr>
              <a:t>end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remove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4800" spc="-1" strike="noStrike">
                <a:solidFill>
                  <a:srgbClr val="ff0000"/>
                </a:solidFill>
                <a:latin typeface="Times New Roman"/>
              </a:rPr>
              <a:t>a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infinit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90920" y="1600200"/>
            <a:ext cx="609480" cy="7621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2590560" y="1676520"/>
            <a:ext cx="53316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3276720" y="3048120"/>
            <a:ext cx="609480" cy="7617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276360" y="3124080"/>
            <a:ext cx="53316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438280" y="4419720"/>
            <a:ext cx="609840" cy="7617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2438280" y="4495680"/>
            <a:ext cx="53352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371600" y="1447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895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eces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447920" y="4267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is lea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ver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0:40:39Z</dcterms:created>
  <dc:creator>Paul Widergren</dc:creator>
  <dc:description/>
  <dc:language>en-US</dc:language>
  <cp:lastModifiedBy>Jackson</cp:lastModifiedBy>
  <dcterms:modified xsi:type="dcterms:W3CDTF">2011-03-17T04:39:46Z</dcterms:modified>
  <cp:revision>6</cp:revision>
  <dc:subject/>
  <dc:title>Present Tense  -ar  Verbs</dc:title>
</cp:coreProperties>
</file>