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5E52-64D5-46DF-A53F-7C0E27F9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F7A-1F49-4982-AEAF-A58FE815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FA9F-E2FE-403C-AB8E-E2A6A5B4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6E49-E12A-4F21-8328-D1C35D2A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72D3-FBB5-4123-B38B-9C43678B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A5C8-56DF-479A-97E7-ED97D14E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03B-3F49-4932-9B27-062D54CD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E83-F621-44FF-A4B1-C929BFDE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317-E279-4D30-B508-DBFC1A212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FE03-9A0B-4A5E-A835-86085EA2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E1A-FA6C-4940-ADC8-7B7C920F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57D-D5DE-4D05-ABCD-25718452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11EC-BCC1-49FA-97B4-9509467F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3432-F0FC-4AC3-B788-DC089040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9431-3F51-4BC1-9431-4C09797E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3F21-C556-4A2F-8FF2-AC110290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42D-6B59-456E-A1D2-3D169352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D36E-B54C-4133-BAD0-04F42495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5A5D-1757-4B38-875A-58225BAD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A27-E639-46FA-8159-695737FD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90C-2942-417D-9FCE-990E28CC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BFC-1071-4E33-836B-A8956FBF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585-0CFD-4580-83F7-66F3254D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2F57-EBDB-4F93-B0C3-C394D6DC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0F1F-6B9F-445E-9F5B-ADCC5AD2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C670-D968-4A5A-875F-D487C224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F8D-BDA7-49F9-9472-6EC0BD96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DD65-BDC8-4C91-B3D2-022AC883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0066-6698-4746-943A-15BDF293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615A-71C9-473E-9F41-6A7180726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29C-EEA5-4C6F-99BA-E32BFE3F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D7A2-60C8-4071-88CF-363B2703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C76-62AA-4B2D-9992-39EE9CDB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F9A-EAF9-4BFF-A32A-99B1BEA0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1672-F4D6-4D97-B47F-F557679F8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5E99-D785-4A35-B2A1-26593403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F43-18AF-457A-9444-29B3BB30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CE88-22E7-42EA-871C-E095EFB3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610D-C423-46E0-96A7-57CE26AF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7703-7931-4C47-B942-3C66CCB7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6F7-DDB1-49C0-B1D4-DCB10CD1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A1B-D507-48AE-91A3-25D248A4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C1AC-4643-40FF-B1B9-92F90068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E37E-398C-43DE-B5E8-1FBA235C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7EC-3071-4B2B-BDC4-A6CD6C39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1A09-4C69-47EA-AD4B-B574EDF2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A14-56D8-4E32-B212-E69DCD71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645-058C-451A-81C1-22B5785A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F174-E6A6-4BE4-8A03-B958A077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B73-EFE7-4E04-A99D-FD42696D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109-BE7F-4741-90E4-40347BC1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694-F10D-4E6A-A118-422B1121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DAB-E6E6-4BE1-A90A-DD9E8135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119-6536-4E0A-80A7-273C7145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A918-711E-4748-8780-B64F9E41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C77-FDB4-46A4-B18B-242252C7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2685-AC77-4840-BCF9-32638369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A57-C696-4801-A707-CE93ED42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8BA-2682-4C41-9732-FF21A175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9A2-C197-40C4-93A2-EEA36EC7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F555-D262-41AB-A079-364DB331D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D406-EB8C-4AD2-8B1F-661B3C91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62B-CC96-4BB9-A743-EFDF1A4B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F3E-FBD4-4E54-8F2C-EB65AC8E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250-CD3A-4505-B3A4-6BA61A9A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62F-F61E-47B2-8E6B-51071CAB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BB4-3BEE-4F7F-9AAD-FA5F58B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397-A97B-40BC-A8DF-CD54A4C5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634-109D-4072-8E9E-C856A319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CCF-F8A7-409C-B593-846A31CA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A6DD-0DF9-40C6-B6D3-CF74D52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DF9-2566-4B23-BB97-12DCCCA0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5438-DFC2-4F8E-9379-C5F1278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D890-8DAD-4B9F-94FA-453F10A2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4E48-F6F4-4493-AC2F-58BCB90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692-F145-4455-8C90-EDB2AB0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6DE-F373-4500-9687-7D4580C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E44E-FF87-479A-93AD-7AF37DD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D78-0A5B-433D-90DB-C4A8BB2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B0A1-37C0-4F2C-8019-9F468BD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E250-0631-4510-81FA-0E777DF7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3F83-DD21-4926-AC59-271A32CC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650-FEFF-4FD3-8DF0-7754647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C4F-F6AD-4FCD-A516-B40F6258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8D5-EFCC-49CC-89AF-19AAEF6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E73-F152-4D28-A30F-3E9D0AF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30F-B1A0-466F-9C7F-4BFADB1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270-B04D-41CC-84CA-3E27E8E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B8F-CEB2-4CD1-A69C-963974B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esent Tense  -ar 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gular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s 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dd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0400" y="76212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886200" y="236232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971800" y="38098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  as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50532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2590920" y="411480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2895480" y="121932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05740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9051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8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BUGC086D"/>
          <p:cNvPicPr/>
          <p:nvPr/>
        </p:nvPicPr>
        <p:blipFill>
          <a:blip r:embed="rId2"/>
          <a:stretch/>
        </p:blipFill>
        <p:spPr>
          <a:xfrm>
            <a:off x="7543800" y="25146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9909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914400" y="16002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3809880" y="106668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809880" y="175248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809880" y="251460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loo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3809880" y="320040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3809880" y="3962520"/>
            <a:ext cx="2362320" cy="990360"/>
          </a:xfrm>
          <a:prstGeom prst="rightArrow">
            <a:avLst>
              <a:gd name="adj1" fmla="val 50000"/>
              <a:gd name="adj2" fmla="val 596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loo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3809880" y="4648320"/>
            <a:ext cx="2362320" cy="990360"/>
          </a:xfrm>
          <a:prstGeom prst="rightArrow">
            <a:avLst>
              <a:gd name="adj1" fmla="val 50000"/>
              <a:gd name="adj2" fmla="val 596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733920" y="5410080"/>
            <a:ext cx="2361960" cy="990720"/>
          </a:xfrm>
          <a:prstGeom prst="rightArrow">
            <a:avLst>
              <a:gd name="adj1" fmla="val 50000"/>
              <a:gd name="adj2" fmla="val 59602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9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8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24382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i"/>
          <p:cNvPicPr/>
          <p:nvPr/>
        </p:nvPicPr>
        <p:blipFill>
          <a:blip r:embed="rId1"/>
          <a:stretch/>
        </p:blipFill>
        <p:spPr>
          <a:xfrm>
            <a:off x="5791320" y="990720"/>
            <a:ext cx="2819160" cy="2050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8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1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you-singular"/>
          <p:cNvPicPr/>
          <p:nvPr/>
        </p:nvPicPr>
        <p:blipFill>
          <a:blip r:embed="rId1"/>
          <a:stretch/>
        </p:blipFill>
        <p:spPr>
          <a:xfrm>
            <a:off x="1900080" y="1754280"/>
            <a:ext cx="5484960" cy="39909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914400" y="16002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you-singular"/>
          <p:cNvPicPr/>
          <p:nvPr/>
        </p:nvPicPr>
        <p:blipFill>
          <a:blip r:embed="rId1"/>
          <a:stretch/>
        </p:blipFill>
        <p:spPr>
          <a:xfrm>
            <a:off x="6095880" y="1066680"/>
            <a:ext cx="2367000" cy="17226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1981080" y="1143000"/>
            <a:ext cx="221004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e"/>
          <p:cNvPicPr/>
          <p:nvPr/>
        </p:nvPicPr>
        <p:blipFill>
          <a:blip r:embed="rId1"/>
          <a:stretch/>
        </p:blipFill>
        <p:spPr>
          <a:xfrm>
            <a:off x="6400800" y="990720"/>
            <a:ext cx="2055960" cy="1600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she"/>
          <p:cNvPicPr/>
          <p:nvPr/>
        </p:nvPicPr>
        <p:blipFill>
          <a:blip r:embed="rId1"/>
          <a:stretch/>
        </p:blipFill>
        <p:spPr>
          <a:xfrm>
            <a:off x="5943600" y="838080"/>
            <a:ext cx="2849400" cy="2286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914400" y="1447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cami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4" descr="SHRT5"/>
          <p:cNvPicPr/>
          <p:nvPr/>
        </p:nvPicPr>
        <p:blipFill>
          <a:blip r:embed="rId2"/>
          <a:stretch/>
        </p:blipFill>
        <p:spPr>
          <a:xfrm>
            <a:off x="7391520" y="274320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5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8" descr="BILLCOIN"/>
          <p:cNvPicPr/>
          <p:nvPr/>
        </p:nvPicPr>
        <p:blipFill>
          <a:blip r:embed="rId3"/>
          <a:stretch/>
        </p:blipFill>
        <p:spPr>
          <a:xfrm>
            <a:off x="5257800" y="2819520"/>
            <a:ext cx="1925640" cy="8539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914400" y="1447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gor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914400" y="1447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gor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3"/>
          <p:cNvSpPr/>
          <p:nvPr/>
        </p:nvSpPr>
        <p:spPr>
          <a:xfrm>
            <a:off x="21337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con mi amigo Ju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con mi amigo Ju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205740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televisión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he"/>
          <p:cNvPicPr/>
          <p:nvPr/>
        </p:nvPicPr>
        <p:blipFill>
          <a:blip r:embed="rId1"/>
          <a:stretch/>
        </p:blipFill>
        <p:spPr>
          <a:xfrm>
            <a:off x="1676520" y="2057400"/>
            <a:ext cx="5103720" cy="35812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380880" y="6858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é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televisión con mis ami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22096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para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para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mochila en la tien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la mochila en la tien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ve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mochila ve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6" descr="BKPACK5"/>
          <p:cNvPicPr/>
          <p:nvPr/>
        </p:nvPicPr>
        <p:blipFill>
          <a:blip r:embed="rId1"/>
          <a:stretch/>
        </p:blipFill>
        <p:spPr>
          <a:xfrm>
            <a:off x="6781680" y="2819520"/>
            <a:ext cx="1241640" cy="14619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eta negra y jeans azu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eta negra y jeans azu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981080" y="1143000"/>
            <a:ext cx="221004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falda azul y una blusa blan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he"/>
          <p:cNvPicPr/>
          <p:nvPr/>
        </p:nvPicPr>
        <p:blipFill>
          <a:blip r:embed="rId1"/>
          <a:stretch/>
        </p:blipFill>
        <p:spPr>
          <a:xfrm>
            <a:off x="1708200" y="2055960"/>
            <a:ext cx="4722840" cy="3582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68580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l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248520" y="1219320"/>
            <a:ext cx="2209680" cy="503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u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falda azul y una blusa blan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haqueta verde 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haqueta verde 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19810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 amarilla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914400" y="144792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 una camisa amarilla y unos pantalones marro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2133720" y="1143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no _______ un sombrero ho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no _______ un sombrero ho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971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l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en una tienda de rop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_______ en una tienda de rop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20574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un restaurante mexica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-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ú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un restaurante mexica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981080" y="1219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182880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533412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914400" y="1447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_______ en la escuela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09480" y="51055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971800" y="51055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362320" y="1219320"/>
            <a:ext cx="22096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1752480" y="2438280"/>
            <a:ext cx="5562720" cy="3733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71600" y="1447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Me gust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habl</a:t>
            </a: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por teléfo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19320" y="39625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Me gusta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mir</a:t>
            </a:r>
            <a:r>
              <a:rPr b="0" lang="es-ES" sz="5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 la televis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s used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ph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e gusta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To add 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end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remove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4800" spc="-1" strike="noStrike">
                <a:solidFill>
                  <a:srgbClr val="ff0000"/>
                </a:solidFill>
                <a:latin typeface="Times New Roman"/>
              </a:rPr>
              <a:t>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infinit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90920" y="1600200"/>
            <a:ext cx="609480" cy="762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2590560" y="1676520"/>
            <a:ext cx="53316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276720" y="3048120"/>
            <a:ext cx="609480" cy="76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276360" y="3124080"/>
            <a:ext cx="53316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438280" y="4419720"/>
            <a:ext cx="609840" cy="76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438280" y="4495680"/>
            <a:ext cx="53352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71600" y="1447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895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ece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47920" y="4267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5334120" y="1676520"/>
            <a:ext cx="2971800" cy="42670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267080"/>
              <a:gd name="textAreaBottom" fmla="*/ 4122000 h 4267080"/>
            </a:gdLst>
            <a:ahLst/>
            <a:rect l="textAreaLeft" t="textAreaTop" r="textAreaRight" b="textAreaBottom"/>
            <a:pathLst>
              <a:path w="21600" h="31013">
                <a:moveTo>
                  <a:pt x="3600" y="0"/>
                </a:moveTo>
                <a:arcTo wR="3600" hR="3600" stAng="16200000" swAng="-5400000"/>
                <a:lnTo>
                  <a:pt x="0" y="27413"/>
                </a:lnTo>
                <a:arcTo wR="3600" hR="3600" stAng="10800000" swAng="-5400000"/>
                <a:lnTo>
                  <a:pt x="18000" y="31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is lea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57200" y="6389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0:40:39Z</dcterms:created>
  <dc:creator>Paul Widergren</dc:creator>
  <dc:description/>
  <dc:language>en-US</dc:language>
  <cp:lastModifiedBy>Jackson</cp:lastModifiedBy>
  <dcterms:modified xsi:type="dcterms:W3CDTF">2011-03-17T04:39:46Z</dcterms:modified>
  <cp:revision>6</cp:revision>
  <dc:subject/>
  <dc:title>Present Tense  -ar  Verbs</dc:title>
</cp:coreProperties>
</file>