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3CB9-EE22-475D-BCCB-A80D5754A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8457-439C-4B10-8AC6-A4910C7D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2BD9-647F-4F79-802C-3A13CBB82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99DD-B6F1-4BC9-9F4D-BADC4A8B7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004B0-4E9F-4074-89B2-1813C83A0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2FA11-0A6C-49A1-A567-B4CC079CD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29584-0443-4E91-BF23-F967063AF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00A8F-279C-4304-9B0B-D84ABF79C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CC56D-A3C3-4FF0-8319-78FC19FA8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72261-6FD4-437F-B96C-4CF2BFD81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D20F0-730A-4095-A7A0-7457A0CD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D957-7B32-4C3C-AC0B-F5DC8E9B2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30C69-FB7B-4BA3-8281-B3616631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2F31A-BE63-45C4-8A76-E17BC318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FB9EE-1F86-4EF3-9E0D-8728C12E8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B6AB4-7C57-4ED4-9AD2-4E8E2FD11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EF234-F690-4C0A-B03D-CCCB4F278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A57C-B9AE-4BFF-87E5-D4BF56D6F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8981-181A-41E5-9819-0CAAFDCE8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89B1-8F57-4A1F-8877-D59DBB886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5F2A-E5D6-4311-AA87-B8B815960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D86C-F9E3-4040-B7BA-6060F3D5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B43A-4AB7-4A89-ADC6-61A37AA8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4B3C-B0FC-467C-BB29-28D60E05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65240" y="75960"/>
            <a:ext cx="8813520" cy="6629760"/>
            <a:chOff x="165240" y="75960"/>
            <a:chExt cx="8813520" cy="6629760"/>
          </a:xfrm>
        </p:grpSpPr>
        <p:sp>
          <p:nvSpPr>
            <p:cNvPr id="1" name="Rectangle 3"/>
            <p:cNvSpPr/>
            <p:nvPr/>
          </p:nvSpPr>
          <p:spPr>
            <a:xfrm>
              <a:off x="165240" y="241200"/>
              <a:ext cx="8813520" cy="5994360"/>
            </a:xfrm>
            <a:prstGeom prst="rect">
              <a:avLst/>
            </a:prstGeom>
            <a:noFill/>
            <a:ln w="25560">
              <a:solidFill>
                <a:srgbClr val="ffcc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 flipH="1" rot="10800000">
              <a:off x="6399360" y="75960"/>
              <a:ext cx="782640" cy="685800"/>
            </a:xfrm>
            <a:prstGeom prst="triangle">
              <a:avLst>
                <a:gd name="adj" fmla="val 49995"/>
              </a:avLst>
            </a:prstGeom>
            <a:solidFill>
              <a:srgbClr val="ff6633"/>
            </a:solidFill>
            <a:ln w="0">
              <a:noFill/>
            </a:ln>
            <a:effectLst>
              <a:outerShdw dist="155100" dir="2098867" blurRad="0" rotWithShape="0">
                <a:srgbClr val="86868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" name="AutoShape 5"/>
            <p:cNvSpPr/>
            <p:nvPr/>
          </p:nvSpPr>
          <p:spPr>
            <a:xfrm>
              <a:off x="2154240" y="6019920"/>
              <a:ext cx="782640" cy="685800"/>
            </a:xfrm>
            <a:prstGeom prst="triangle">
              <a:avLst>
                <a:gd name="adj" fmla="val 49995"/>
              </a:avLst>
            </a:prstGeom>
            <a:solidFill>
              <a:srgbClr val="ff6633"/>
            </a:solidFill>
            <a:ln w="0">
              <a:noFill/>
            </a:ln>
            <a:effectLst>
              <a:outerShdw dist="227005" dir="1593903" blurRad="0" rotWithShape="0">
                <a:srgbClr val="86868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2A13B-BBF6-4F06-9D41-01A5942F38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165240" y="1294920"/>
            <a:ext cx="8813520" cy="2502360"/>
            <a:chOff x="165240" y="1294920"/>
            <a:chExt cx="8813520" cy="2502360"/>
          </a:xfrm>
        </p:grpSpPr>
        <p:sp>
          <p:nvSpPr>
            <p:cNvPr id="46" name="Rectangle 3"/>
            <p:cNvSpPr/>
            <p:nvPr/>
          </p:nvSpPr>
          <p:spPr>
            <a:xfrm>
              <a:off x="165240" y="1460520"/>
              <a:ext cx="8813520" cy="2336760"/>
            </a:xfrm>
            <a:prstGeom prst="rect">
              <a:avLst/>
            </a:prstGeom>
            <a:noFill/>
            <a:ln w="25560">
              <a:solidFill>
                <a:srgbClr val="ffcc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 flipH="1" rot="10800000">
              <a:off x="912960" y="1294920"/>
              <a:ext cx="782640" cy="685800"/>
            </a:xfrm>
            <a:prstGeom prst="triangle">
              <a:avLst>
                <a:gd name="adj" fmla="val 49995"/>
              </a:avLst>
            </a:prstGeom>
            <a:solidFill>
              <a:srgbClr val="ff6633"/>
            </a:solidFill>
            <a:ln w="0">
              <a:noFill/>
            </a:ln>
            <a:effectLst>
              <a:outerShdw dist="155100" dir="2098867" blurRad="0" rotWithShape="0">
                <a:srgbClr val="86868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213B1-2793-4A1C-B133-A2A260768587}" type="slidenum"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9966"/>
                </a:solidFill>
                <a:latin typeface="Times New Roman"/>
              </a:rPr>
              <a:t>Present tense verb form review</a:t>
            </a:r>
            <a:endParaRPr b="0" lang="en-US" sz="80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99"/>
                </a:solidFill>
                <a:latin typeface="Times New Roman"/>
              </a:rPr>
              <a:t>present tense</a:t>
            </a:r>
            <a:endParaRPr b="0" lang="en-US" sz="4800" spc="-1" strike="noStrike">
              <a:solidFill>
                <a:srgbClr val="ffcc99"/>
              </a:solidFill>
              <a:latin typeface="Times New Roman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99"/>
                </a:solidFill>
                <a:latin typeface="Times New Roman"/>
              </a:rPr>
              <a:t>ir a + inf.</a:t>
            </a:r>
            <a:endParaRPr b="0" lang="en-US" sz="4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91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2"/>
          <p:cNvSpPr/>
          <p:nvPr/>
        </p:nvSpPr>
        <p:spPr>
          <a:xfrm>
            <a:off x="2666880" y="3886200"/>
            <a:ext cx="358164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ome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609480" y="60948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Beto siempre ___________ una merienda en la cafetería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28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2"/>
          <p:cNvSpPr/>
          <p:nvPr/>
        </p:nvSpPr>
        <p:spPr>
          <a:xfrm>
            <a:off x="1447920" y="1676520"/>
            <a:ext cx="289548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ome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09480" y="60948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Beto siempre ___________ una merienda en la cafetería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32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AutoShape 2"/>
          <p:cNvSpPr/>
          <p:nvPr/>
        </p:nvSpPr>
        <p:spPr>
          <a:xfrm>
            <a:off x="2666880" y="3886200"/>
            <a:ext cx="358164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ome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609480" y="60948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Mañana va a  ___________ algo en la cafetería también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36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2"/>
          <p:cNvSpPr/>
          <p:nvPr/>
        </p:nvSpPr>
        <p:spPr>
          <a:xfrm>
            <a:off x="1523880" y="1600200"/>
            <a:ext cx="2971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ome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609480" y="60948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Mañana va a  ___________ algo en la cafetería también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40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AutoShape 2"/>
          <p:cNvSpPr/>
          <p:nvPr/>
        </p:nvSpPr>
        <p:spPr>
          <a:xfrm>
            <a:off x="2666880" y="3886200"/>
            <a:ext cx="358164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hace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533520" y="609480"/>
            <a:ext cx="8229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Tú ___________ la tarea en la clase de matemáticas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44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AutoShape 2"/>
          <p:cNvSpPr/>
          <p:nvPr/>
        </p:nvSpPr>
        <p:spPr>
          <a:xfrm>
            <a:off x="1905120" y="228600"/>
            <a:ext cx="358128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haces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533520" y="609480"/>
            <a:ext cx="8229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Tú ___________ la tarea en la clase de matemáticas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48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AutoShape 2"/>
          <p:cNvSpPr/>
          <p:nvPr/>
        </p:nvSpPr>
        <p:spPr>
          <a:xfrm>
            <a:off x="2666880" y="3886200"/>
            <a:ext cx="358164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hace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304920" y="609480"/>
            <a:ext cx="883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Mañana vas a _________ la tarea en la clase de matemáticas como siempre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52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AutoShape 2"/>
          <p:cNvSpPr/>
          <p:nvPr/>
        </p:nvSpPr>
        <p:spPr>
          <a:xfrm>
            <a:off x="5181480" y="457200"/>
            <a:ext cx="29718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hace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304920" y="609480"/>
            <a:ext cx="883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Mañana vas a _________ la tarea en la clase de matemáticas como siempre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56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AutoShape 2"/>
          <p:cNvSpPr/>
          <p:nvPr/>
        </p:nvSpPr>
        <p:spPr>
          <a:xfrm>
            <a:off x="2666880" y="3886200"/>
            <a:ext cx="358164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asa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685800" y="990720"/>
            <a:ext cx="792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Yo siempre __________ un rato con mis amigos 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60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AutoShape 2"/>
          <p:cNvSpPr/>
          <p:nvPr/>
        </p:nvSpPr>
        <p:spPr>
          <a:xfrm>
            <a:off x="4724280" y="457200"/>
            <a:ext cx="358164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aso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685800" y="990720"/>
            <a:ext cx="792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Yo siempre __________ un rato con mis amigos 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64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8"/>
          <p:cNvSpPr/>
          <p:nvPr/>
        </p:nvSpPr>
        <p:spPr>
          <a:xfrm>
            <a:off x="2666880" y="3886200"/>
            <a:ext cx="358164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limpio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685800" y="99072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Yo siempre ___________ la casa los sábados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2666880" y="3886200"/>
            <a:ext cx="358164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limpia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96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AutoShape 2"/>
          <p:cNvSpPr/>
          <p:nvPr/>
        </p:nvSpPr>
        <p:spPr>
          <a:xfrm>
            <a:off x="2666880" y="3886200"/>
            <a:ext cx="358164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asa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685800" y="99072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Mañana voy a ________ un rato con mis amigos también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68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utoShape 2"/>
          <p:cNvSpPr/>
          <p:nvPr/>
        </p:nvSpPr>
        <p:spPr>
          <a:xfrm>
            <a:off x="5257800" y="533520"/>
            <a:ext cx="3124080" cy="1218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asa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685800" y="99072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Mañana voy a ________ un rato con mis amigos también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72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AutoShape 2"/>
          <p:cNvSpPr/>
          <p:nvPr/>
        </p:nvSpPr>
        <p:spPr>
          <a:xfrm>
            <a:off x="2666880" y="3886200"/>
            <a:ext cx="358164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685800" y="99072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Nosotros siempre ___________ al cine los sábados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76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utoShape 2"/>
          <p:cNvSpPr/>
          <p:nvPr/>
        </p:nvSpPr>
        <p:spPr>
          <a:xfrm>
            <a:off x="1371600" y="2057400"/>
            <a:ext cx="304812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vamos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685800" y="99072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Nosotros siempre ___________ al cine los sábados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80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AutoShape 2"/>
          <p:cNvSpPr/>
          <p:nvPr/>
        </p:nvSpPr>
        <p:spPr>
          <a:xfrm>
            <a:off x="2666880" y="3886200"/>
            <a:ext cx="358164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685800" y="99072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Vamos a ___________ al cine el sábado que viene también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84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AutoShape 2"/>
          <p:cNvSpPr/>
          <p:nvPr/>
        </p:nvSpPr>
        <p:spPr>
          <a:xfrm>
            <a:off x="3809880" y="533520"/>
            <a:ext cx="3581640" cy="1218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685800" y="99072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Vamos a ___________ al cine el sábado que viene también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88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AutoShape 2"/>
          <p:cNvSpPr/>
          <p:nvPr/>
        </p:nvSpPr>
        <p:spPr>
          <a:xfrm>
            <a:off x="2666880" y="3886200"/>
            <a:ext cx="358164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habla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685800" y="99072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Mis amigas siempre ___________ por teléfono conmigo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2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4"/>
          <p:cNvSpPr/>
          <p:nvPr/>
        </p:nvSpPr>
        <p:spPr>
          <a:xfrm>
            <a:off x="685800" y="99072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Mis amigas siempre ___________ por teléfono conmigo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4" name="AutoShape 2"/>
          <p:cNvSpPr/>
          <p:nvPr/>
        </p:nvSpPr>
        <p:spPr>
          <a:xfrm>
            <a:off x="1295280" y="2057400"/>
            <a:ext cx="350532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hablan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6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AutoShape 2"/>
          <p:cNvSpPr/>
          <p:nvPr/>
        </p:nvSpPr>
        <p:spPr>
          <a:xfrm>
            <a:off x="2666880" y="3886200"/>
            <a:ext cx="358164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habla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685800" y="99072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Mañana van a  ________ por teléfono conmigo también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00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AutoShape 2"/>
          <p:cNvSpPr/>
          <p:nvPr/>
        </p:nvSpPr>
        <p:spPr>
          <a:xfrm>
            <a:off x="5334120" y="838080"/>
            <a:ext cx="32004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habla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685800" y="99072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Mañana van a  ________ por teléfono conmigo también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04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AutoShape 2"/>
          <p:cNvSpPr/>
          <p:nvPr/>
        </p:nvSpPr>
        <p:spPr>
          <a:xfrm>
            <a:off x="4876920" y="533520"/>
            <a:ext cx="3581280" cy="1218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limpio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685800" y="99072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Yo siempre ___________ la casa los sábados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00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AutoShape 2"/>
          <p:cNvSpPr/>
          <p:nvPr/>
        </p:nvSpPr>
        <p:spPr>
          <a:xfrm>
            <a:off x="2666880" y="3886200"/>
            <a:ext cx="358164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escribi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685800" y="990720"/>
            <a:ext cx="792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Yo ___________ cartas a mis amigos en España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08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AutoShape 2"/>
          <p:cNvSpPr/>
          <p:nvPr/>
        </p:nvSpPr>
        <p:spPr>
          <a:xfrm>
            <a:off x="1981080" y="533520"/>
            <a:ext cx="3581640" cy="1218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escribo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685800" y="990720"/>
            <a:ext cx="792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Yo ___________ cartas a mis amigos en España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12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AutoShape 2"/>
          <p:cNvSpPr/>
          <p:nvPr/>
        </p:nvSpPr>
        <p:spPr>
          <a:xfrm>
            <a:off x="2666880" y="3886200"/>
            <a:ext cx="358164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escribi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685800" y="60948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Mañana voy a  ___________ una carta también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16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AutoShape 2"/>
          <p:cNvSpPr/>
          <p:nvPr/>
        </p:nvSpPr>
        <p:spPr>
          <a:xfrm>
            <a:off x="1219320" y="1600200"/>
            <a:ext cx="304776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escribi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685800" y="60948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Mañana voy a  ___________ una carta también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20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AutoShape 2"/>
          <p:cNvSpPr/>
          <p:nvPr/>
        </p:nvSpPr>
        <p:spPr>
          <a:xfrm>
            <a:off x="2666880" y="3886200"/>
            <a:ext cx="358164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hace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685800" y="990720"/>
            <a:ext cx="792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Nosotros ___________ ejercicio en el gimnasio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24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AutoShape 2"/>
          <p:cNvSpPr/>
          <p:nvPr/>
        </p:nvSpPr>
        <p:spPr>
          <a:xfrm>
            <a:off x="4038480" y="533520"/>
            <a:ext cx="3581640" cy="1218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hacemos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685800" y="990720"/>
            <a:ext cx="792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Nosotros ___________ ejercicio en el gimnasio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28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AutoShape 2"/>
          <p:cNvSpPr/>
          <p:nvPr/>
        </p:nvSpPr>
        <p:spPr>
          <a:xfrm>
            <a:off x="2666880" y="3886200"/>
            <a:ext cx="358164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hace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685800" y="99072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Mañana vamos a  ___________ ejercicio allí también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32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AutoShape 2"/>
          <p:cNvSpPr/>
          <p:nvPr/>
        </p:nvSpPr>
        <p:spPr>
          <a:xfrm>
            <a:off x="1066680" y="1981080"/>
            <a:ext cx="31244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hace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685800" y="99072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Mañana vamos a  ___________ ejercicio allí también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36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AutoShape 2"/>
          <p:cNvSpPr/>
          <p:nvPr/>
        </p:nvSpPr>
        <p:spPr>
          <a:xfrm>
            <a:off x="2666880" y="3886200"/>
            <a:ext cx="358164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repara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685800" y="990720"/>
            <a:ext cx="792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Mi mamá siempre ___________ la comida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40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4"/>
          <p:cNvSpPr/>
          <p:nvPr/>
        </p:nvSpPr>
        <p:spPr>
          <a:xfrm>
            <a:off x="685800" y="990720"/>
            <a:ext cx="792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Mi mamá siempre ___________ la comida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42" name="AutoShape 2"/>
          <p:cNvSpPr/>
          <p:nvPr/>
        </p:nvSpPr>
        <p:spPr>
          <a:xfrm>
            <a:off x="1219320" y="1981080"/>
            <a:ext cx="312408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repara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44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2"/>
          <p:cNvSpPr/>
          <p:nvPr/>
        </p:nvSpPr>
        <p:spPr>
          <a:xfrm>
            <a:off x="2666880" y="3886200"/>
            <a:ext cx="358164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limpia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685800" y="99072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Yo voy a ___________ la casa el sábado que viene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04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AutoShape 2"/>
          <p:cNvSpPr/>
          <p:nvPr/>
        </p:nvSpPr>
        <p:spPr>
          <a:xfrm>
            <a:off x="2666880" y="3886200"/>
            <a:ext cx="358164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repara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380880" y="990720"/>
            <a:ext cx="8229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Esta noche va a ___________ la comida como siempre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48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4"/>
          <p:cNvSpPr/>
          <p:nvPr/>
        </p:nvSpPr>
        <p:spPr>
          <a:xfrm>
            <a:off x="380880" y="990720"/>
            <a:ext cx="8229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Esta noche va a ___________ la comida como siempre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50" name="AutoShape 2"/>
          <p:cNvSpPr/>
          <p:nvPr/>
        </p:nvSpPr>
        <p:spPr>
          <a:xfrm>
            <a:off x="838080" y="1981080"/>
            <a:ext cx="3200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repara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52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AutoShape 2"/>
          <p:cNvSpPr/>
          <p:nvPr/>
        </p:nvSpPr>
        <p:spPr>
          <a:xfrm>
            <a:off x="2666880" y="3886200"/>
            <a:ext cx="358164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asea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685800" y="99072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A nosotros nos gusta   ___________ por el parque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56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AutoShape 2"/>
          <p:cNvSpPr/>
          <p:nvPr/>
        </p:nvSpPr>
        <p:spPr>
          <a:xfrm>
            <a:off x="1219320" y="1981080"/>
            <a:ext cx="32004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asea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685800" y="99072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A nosotros nos gusta   ___________ por el parque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60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AutoShape 2"/>
          <p:cNvSpPr/>
          <p:nvPr/>
        </p:nvSpPr>
        <p:spPr>
          <a:xfrm>
            <a:off x="2666880" y="3886200"/>
            <a:ext cx="358164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asea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685800" y="99072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Mañana vamos a    ___________ por el parque también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64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4"/>
          <p:cNvSpPr/>
          <p:nvPr/>
        </p:nvSpPr>
        <p:spPr>
          <a:xfrm>
            <a:off x="762120" y="99072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Mañana vamos a    ___________ por el parque también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66" name="AutoShape 2"/>
          <p:cNvSpPr/>
          <p:nvPr/>
        </p:nvSpPr>
        <p:spPr>
          <a:xfrm>
            <a:off x="1295280" y="2057400"/>
            <a:ext cx="32004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asea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68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AutoShape 2"/>
          <p:cNvSpPr/>
          <p:nvPr/>
        </p:nvSpPr>
        <p:spPr>
          <a:xfrm>
            <a:off x="2666880" y="3886200"/>
            <a:ext cx="358164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bebe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685800" y="99072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Yo siempre  _________ un refresco después de la escuela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72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AutoShape 2"/>
          <p:cNvSpPr/>
          <p:nvPr/>
        </p:nvSpPr>
        <p:spPr>
          <a:xfrm>
            <a:off x="4876920" y="609480"/>
            <a:ext cx="358128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bebo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685800" y="99072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Yo siempre  _________ un refresco después de la escuela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76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AutoShape 2"/>
          <p:cNvSpPr/>
          <p:nvPr/>
        </p:nvSpPr>
        <p:spPr>
          <a:xfrm>
            <a:off x="2666880" y="3886200"/>
            <a:ext cx="358164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bebe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609480" y="685800"/>
            <a:ext cx="7925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Mañana voy a _________ un refresco también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80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AutoShape 2"/>
          <p:cNvSpPr/>
          <p:nvPr/>
        </p:nvSpPr>
        <p:spPr>
          <a:xfrm>
            <a:off x="685800" y="1600200"/>
            <a:ext cx="31240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bebe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609480" y="685800"/>
            <a:ext cx="7925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Mañana voy a _________ un refresco también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84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3962520" y="609480"/>
            <a:ext cx="358128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limpia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685800" y="99072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Yo voy a ___________ la casa el sábado que viene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08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AutoShape 2"/>
          <p:cNvSpPr/>
          <p:nvPr/>
        </p:nvSpPr>
        <p:spPr>
          <a:xfrm>
            <a:off x="2666880" y="3886200"/>
            <a:ext cx="358164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ve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685800" y="990720"/>
            <a:ext cx="792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José siempre _________ televisión por la noche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88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AutoShape 2"/>
          <p:cNvSpPr/>
          <p:nvPr/>
        </p:nvSpPr>
        <p:spPr>
          <a:xfrm>
            <a:off x="4952880" y="762120"/>
            <a:ext cx="3124440" cy="99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ve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685800" y="990720"/>
            <a:ext cx="792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José siempre _________ televisión por la noche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92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AutoShape 2"/>
          <p:cNvSpPr/>
          <p:nvPr/>
        </p:nvSpPr>
        <p:spPr>
          <a:xfrm>
            <a:off x="2666880" y="3886200"/>
            <a:ext cx="358164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ve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685800" y="99072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Mañana va a  _________ televisión por la noche también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96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AutoShape 2"/>
          <p:cNvSpPr/>
          <p:nvPr/>
        </p:nvSpPr>
        <p:spPr>
          <a:xfrm>
            <a:off x="5105520" y="533520"/>
            <a:ext cx="3581280" cy="1218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ve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685800" y="99072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Mañana va a  _________ televisión por la noche también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00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AutoShape 2"/>
          <p:cNvSpPr/>
          <p:nvPr/>
        </p:nvSpPr>
        <p:spPr>
          <a:xfrm>
            <a:off x="2666880" y="3886200"/>
            <a:ext cx="358164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ome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685800" y="99072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Los chicos  siempre ___________ unos chicharrones deliciosos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04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4"/>
          <p:cNvSpPr/>
          <p:nvPr/>
        </p:nvSpPr>
        <p:spPr>
          <a:xfrm>
            <a:off x="685800" y="99072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Los chicos  siempre ___________ unos chicharrones deliciosos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06" name="AutoShape 2"/>
          <p:cNvSpPr/>
          <p:nvPr/>
        </p:nvSpPr>
        <p:spPr>
          <a:xfrm>
            <a:off x="1143000" y="1981080"/>
            <a:ext cx="304812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omen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08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AutoShape 2"/>
          <p:cNvSpPr/>
          <p:nvPr/>
        </p:nvSpPr>
        <p:spPr>
          <a:xfrm>
            <a:off x="2666880" y="3886200"/>
            <a:ext cx="358164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ome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685800" y="99072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Mañana van a  ________ unos chicharrones deliciosos también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12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AutoShape 2"/>
          <p:cNvSpPr/>
          <p:nvPr/>
        </p:nvSpPr>
        <p:spPr>
          <a:xfrm>
            <a:off x="5334120" y="914400"/>
            <a:ext cx="32004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ome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685800" y="99072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Mañana van a  ________ unos chicharrones deliciosos también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16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AutoShape 2"/>
          <p:cNvSpPr/>
          <p:nvPr/>
        </p:nvSpPr>
        <p:spPr>
          <a:xfrm>
            <a:off x="2666880" y="3886200"/>
            <a:ext cx="358164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685800" y="99072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Nosotros siempre  ___________ de compras los sábados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20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4"/>
          <p:cNvSpPr/>
          <p:nvPr/>
        </p:nvSpPr>
        <p:spPr>
          <a:xfrm>
            <a:off x="685800" y="99072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Nosotros siempre  ___________ de compras los sábados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22" name="AutoShape 2"/>
          <p:cNvSpPr/>
          <p:nvPr/>
        </p:nvSpPr>
        <p:spPr>
          <a:xfrm>
            <a:off x="1371600" y="1981080"/>
            <a:ext cx="281952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vamos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24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2"/>
          <p:cNvSpPr/>
          <p:nvPr/>
        </p:nvSpPr>
        <p:spPr>
          <a:xfrm>
            <a:off x="2666880" y="3886200"/>
            <a:ext cx="358164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anta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685800" y="990720"/>
            <a:ext cx="792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Las chicas ___________ en el coro todos los días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12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AutoShape 2"/>
          <p:cNvSpPr/>
          <p:nvPr/>
        </p:nvSpPr>
        <p:spPr>
          <a:xfrm>
            <a:off x="2666880" y="3886200"/>
            <a:ext cx="358164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685800" y="99072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Vamos a _________ de compras el sábado que viene también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28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AutoShape 2"/>
          <p:cNvSpPr/>
          <p:nvPr/>
        </p:nvSpPr>
        <p:spPr>
          <a:xfrm>
            <a:off x="3733920" y="762120"/>
            <a:ext cx="312408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685800" y="99072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Vamos a _________ de compras el sábado que viene también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32" name="AutoShape 5"/>
          <p:cNvSpPr/>
          <p:nvPr/>
        </p:nvSpPr>
        <p:spPr>
          <a:xfrm>
            <a:off x="304920" y="380880"/>
            <a:ext cx="8534160" cy="571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8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20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33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2"/>
          <p:cNvSpPr/>
          <p:nvPr/>
        </p:nvSpPr>
        <p:spPr>
          <a:xfrm>
            <a:off x="4495680" y="533520"/>
            <a:ext cx="3581640" cy="1218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antan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685800" y="990720"/>
            <a:ext cx="792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Las chicas ___________ en el coro todos los días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16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2"/>
          <p:cNvSpPr/>
          <p:nvPr/>
        </p:nvSpPr>
        <p:spPr>
          <a:xfrm>
            <a:off x="2666880" y="3886200"/>
            <a:ext cx="358164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anta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685800" y="60948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Las chicas van a  ___________ mañana también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20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utoShape 2"/>
          <p:cNvSpPr/>
          <p:nvPr/>
        </p:nvSpPr>
        <p:spPr>
          <a:xfrm>
            <a:off x="1066680" y="1600200"/>
            <a:ext cx="29718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anta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685800" y="60948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Las chicas van a  ___________ mañana también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24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9T11:24:19Z</dcterms:created>
  <dc:creator>Paul Widergren</dc:creator>
  <dc:description/>
  <dc:language>en-US</dc:language>
  <cp:lastModifiedBy>Jackson</cp:lastModifiedBy>
  <dcterms:modified xsi:type="dcterms:W3CDTF">2011-03-17T04:51:28Z</dcterms:modified>
  <cp:revision>5</cp:revision>
  <dc:subject/>
  <dc:title>Present tense verb form review</dc:title>
</cp:coreProperties>
</file>