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3CA-6666-4CFF-8038-1E72C2B5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114-A739-404A-A0D2-F12115A2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C21-2E54-46BD-9B80-E2E1778B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754-389A-4002-A636-3B525437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D703-C19A-46A9-B36C-6F924E4B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C929-7624-4214-8096-1FB06157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5C65-96F8-4091-9259-AEA773B1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8D9D-A856-46D1-B5F7-00F8CE12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BB4E-CD72-4F47-BF24-9D4E6808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0D4E-C8DE-4BC8-9554-CF8AFEE7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908E-266A-438B-8FC7-1D2573D6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AF9-23D4-48FA-91DC-AE3ECBC6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61CD-5DE9-4D28-9B0D-0FE225E5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9E6B-EF83-4E4A-B7E6-800FFA3C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4FE3-CF93-4CD5-AE4E-313B9168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D284-78E3-4207-9068-7ABC9EE0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5756-E1A1-413D-9E27-3FF4E36B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0A1-3137-4D5C-BCC8-04FB9434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DDE-D460-452A-8383-D407DF29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BC3-A955-4470-8BF0-CEB94CE0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5AD-7C80-4FE8-A47A-92E18186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512-2313-43D3-ADD7-582FAACA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EF8-DC2A-424A-9796-73E2F3E9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58F-831C-4183-BF47-28236E75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44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764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BCBC-034B-4876-8078-BF1102D04F5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2560"/>
              <a:chOff x="0" y="3200400"/>
              <a:chExt cx="9144000" cy="412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3720"/>
                <a:ext cx="9144000" cy="1029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668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0000"/>
                <a:ext cx="9144000" cy="10296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1EA9-1F4A-43ED-94E5-9A697DCB805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3200400" y="2438280"/>
            <a:ext cx="2143080" cy="317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38080" y="2362320"/>
            <a:ext cx="76964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muy inteligente.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muy intelige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38080" y="2362320"/>
            <a:ext cx="7696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muy inteligente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muy inteligente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Arkansas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 hoy, 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err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bonito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Arkansas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 hoy, 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err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bonito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8080" y="236232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hica es de la República Dominica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 gusta el hel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ted conoce a la señora Alb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enes quince añ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Ecuad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14400" y="5335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a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080" y="236232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g questions are used when the speaker is trying to involve the listener in the convers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estás enferm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buen tiempo ho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 cumpleaños es maña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¡Ah! Te gusta Jul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tenemos un examen ho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 / 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838080" y="2133720"/>
            <a:ext cx="7239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Y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questions can be answer with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These questions normally start with the verb.  The subject in Spanish is often at the end of the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Estás bi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estoy b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no estoy b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Te gusta corr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me gusta corr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no me gusta corr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Ya están listos tod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ya estamos list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no ya estamos list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62120" y="2057400"/>
            <a:ext cx="769608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lase de algebra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mpiez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 las och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080" y="236232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stener is put in the position of agreeing or disagreeing with the speak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2057400"/>
            <a:ext cx="769608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mpiez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clase de algebra a las och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señora Martínez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profes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señora Martínez la profes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gimnasio está cerca de la cafete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almuerzo es al mediod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lase de español es por la tar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lase de computación es difíci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erto está en la clase de españ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 trabaja después del coleg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estudiantes escriben muchas composi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080" y="236232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formed by adding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t the end of a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estudiantes escriben muchas composi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 and the subject la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Los ch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juegan al balonces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 and the subject la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Juegan al baloncesto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los ch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 and the subject la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lase de historia es interes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 and the subject la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fue divert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 and the subject la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 abuela es simpat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62120" y="2057400"/>
            <a:ext cx="7696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 and the subject la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exige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914400" y="5335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838080" y="2133720"/>
            <a:ext cx="7239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rd type of questions words request information. These questions begin with a question word like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838080" y="2133720"/>
            <a:ext cx="723924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 means ‘who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tu tía favori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la chica al lado de Dav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838080" y="1828800"/>
            <a:ext cx="723924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 means ‘who’ when dealing with groups of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n esas chicos jugando al béisb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 los profesores de matématicas aquí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2362320"/>
            <a:ext cx="72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sentence is negative only or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hould be used. Using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fter a another no is a no-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Pablo, Sara, y Jul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tu nueva amig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iene una calcualadora que puedo us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tus pad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e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el presidente de Méxic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mi lápi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s después de la escue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n los chicos ah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un restaurante mexicano en Harr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tu herma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Arkansas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 hoy, 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err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bonito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n tod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queda corre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el museo de antropologí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mos cuando estamos en Méxic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mi lápi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la tarea para la clase de matématic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838080" y="2666880"/>
            <a:ext cx="8305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engo que ir cuando quiero comprar una computad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228600" y="380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la clase de espoñ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cuesta la camisa roj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los enchilad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2362320"/>
            <a:ext cx="7696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say to get a friend to agree or disagree with you as you make the following statement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es divert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ienes la clase de algeb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la fecha de tu cumpleañ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s a visitar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Comment 6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cuesta este sombrer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los pantalones de ray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ermina la cl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mpiezan las cla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cuesta un motocicleta como la tuy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juegas baloncesto en el gimnas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s al cine? Quiero acompaña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838080" y="2362320"/>
            <a:ext cx="7696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say to get a friend to agree or disagree with you as you make the following statement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es divertida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dinero necesito para comer en este restauran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6"/>
          <p:cNvSpPr/>
          <p:nvPr/>
        </p:nvSpPr>
        <p:spPr>
          <a:xfrm>
            <a:off x="1676520" y="1905120"/>
            <a:ext cx="6172200" cy="342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8080" y="2362320"/>
            <a:ext cx="7696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say to get a friend to agree or disagree with you as you make the following statement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es divertida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0:13:03Z</dcterms:created>
  <dc:creator>Paul Widergren</dc:creator>
  <dc:description/>
  <dc:language>en-US</dc:language>
  <cp:lastModifiedBy>Jackson</cp:lastModifiedBy>
  <dcterms:modified xsi:type="dcterms:W3CDTF">2011-03-17T04:52:10Z</dcterms:modified>
  <cp:revision>4</cp:revision>
  <dc:subject/>
  <dc:title>No Slide Title</dc:title>
</cp:coreProperties>
</file>