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182A-BFE9-4F44-9412-AF5420011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C15B-8B6D-470D-8E81-90484D035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03DC-E626-4D90-A5A4-5DB58DF7D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66F1-42AA-4292-9622-4909B331F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5FC72-589A-43CC-8EDA-252BBED34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6C404-74C7-4B9D-BF63-5C91830A6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8B783-2065-45BE-9A8F-265CF25BC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64893-A145-4494-A22E-BC1B8514E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8FA40-ECC2-4F05-BDE9-2A651C958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CD460-AE1D-42B1-A3BA-56169B16C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8BB20-B20F-457A-93A2-EB02AB613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AAEE-B896-4CE5-9667-288D681CA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B5096-B53B-4D6F-94DA-144135FB8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9267C-C41F-4326-900F-D80194826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45B4E-F583-45A3-A2E2-F3C89CBC4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279E4-E7A0-44A5-A876-60B10078C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529A1-72DC-4EBB-9CC8-1AE9F48CC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440B-3992-4659-827D-D405B546C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299B-2AB7-4F70-BF12-88F7377E1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2E21-5C67-4DA2-953B-7A21E7C4D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6925-1A76-4FDC-B6F7-AFB3BBA22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1DF7-0793-4921-B0CD-B868555EB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87ED-1320-4F0F-A26A-3D3987AF4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962B-9565-4AFF-8067-9F8A24A62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1440"/>
            <a:ext cx="9144000" cy="6859440"/>
            <a:chOff x="0" y="-1440"/>
            <a:chExt cx="9144000" cy="6859440"/>
          </a:xfrm>
        </p:grpSpPr>
        <p:sp>
          <p:nvSpPr>
            <p:cNvPr id="1" name="Rectangle 3"/>
            <p:cNvSpPr/>
            <p:nvPr/>
          </p:nvSpPr>
          <p:spPr>
            <a:xfrm>
              <a:off x="0" y="1371600"/>
              <a:ext cx="9144000" cy="54864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6548400"/>
              <a:ext cx="9144000" cy="30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0" y="-1440"/>
              <a:ext cx="9144000" cy="1611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0" y="1609560"/>
              <a:ext cx="9144000" cy="414000"/>
              <a:chOff x="0" y="1609560"/>
              <a:chExt cx="9144000" cy="414000"/>
            </a:xfrm>
          </p:grpSpPr>
          <p:sp>
            <p:nvSpPr>
              <p:cNvPr id="5" name="Rectangle 7"/>
              <p:cNvSpPr/>
              <p:nvPr/>
            </p:nvSpPr>
            <p:spPr>
              <a:xfrm>
                <a:off x="0" y="1609560"/>
                <a:ext cx="9144000" cy="10368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0" y="1713240"/>
                <a:ext cx="9144000" cy="104400"/>
              </a:xfrm>
              <a:prstGeom prst="rect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0" y="1817640"/>
                <a:ext cx="9144000" cy="1033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0" y="1920240"/>
                <a:ext cx="9144000" cy="103320"/>
              </a:xfrm>
              <a:prstGeom prst="rect">
                <a:avLst/>
              </a:pr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85FE0-EB3E-485D-BAF4-B492B6DFD024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-1440"/>
            <a:ext cx="9144000" cy="6859440"/>
            <a:chOff x="0" y="-1440"/>
            <a:chExt cx="9144000" cy="6859440"/>
          </a:xfrm>
        </p:grpSpPr>
        <p:sp>
          <p:nvSpPr>
            <p:cNvPr id="51" name="Rectangle 3"/>
            <p:cNvSpPr/>
            <p:nvPr/>
          </p:nvSpPr>
          <p:spPr>
            <a:xfrm>
              <a:off x="0" y="2895480"/>
              <a:ext cx="9144000" cy="396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0" y="6548400"/>
              <a:ext cx="9144000" cy="30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Rectangle 5"/>
            <p:cNvSpPr/>
            <p:nvPr/>
          </p:nvSpPr>
          <p:spPr>
            <a:xfrm>
              <a:off x="0" y="-1440"/>
              <a:ext cx="9144000" cy="3201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Group 6"/>
            <p:cNvGrpSpPr/>
            <p:nvPr/>
          </p:nvGrpSpPr>
          <p:grpSpPr>
            <a:xfrm>
              <a:off x="0" y="3200400"/>
              <a:ext cx="9144000" cy="412560"/>
              <a:chOff x="0" y="3200400"/>
              <a:chExt cx="9144000" cy="412560"/>
            </a:xfrm>
          </p:grpSpPr>
          <p:sp>
            <p:nvSpPr>
              <p:cNvPr id="55" name="Rectangle 7"/>
              <p:cNvSpPr/>
              <p:nvPr/>
            </p:nvSpPr>
            <p:spPr>
              <a:xfrm>
                <a:off x="0" y="3200400"/>
                <a:ext cx="9144000" cy="10332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0" y="3303720"/>
                <a:ext cx="9144000" cy="102960"/>
              </a:xfrm>
              <a:prstGeom prst="rect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0" y="3406680"/>
                <a:ext cx="9144000" cy="1033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0" y="3510000"/>
                <a:ext cx="9144000" cy="102960"/>
              </a:xfrm>
              <a:prstGeom prst="rect">
                <a:avLst/>
              </a:pr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DD260-7538-408D-817A-6DCE2769A098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QUESTION WORD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WordArt 4"/>
          <p:cNvSpPr txBox="1"/>
          <p:nvPr/>
        </p:nvSpPr>
        <p:spPr>
          <a:xfrm>
            <a:off x="3200400" y="2438280"/>
            <a:ext cx="2143080" cy="317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" name="Foot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914400" y="5335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838080" y="2362320"/>
            <a:ext cx="7696440" cy="44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 profesor es muy inteligente.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 profesor es muy inteligent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Foot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914400" y="5335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838080" y="2362320"/>
            <a:ext cx="769644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 profesor es muy inteligente, </a:t>
            </a: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¿no?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 profesor es muy inteligente, </a:t>
            </a: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¿verda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Foot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914400" y="5335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838080" y="2362320"/>
            <a:ext cx="769644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Model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res de Arkansas, </a:t>
            </a: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¿no?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ce calor hoy,  </a:t>
            </a: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¿verdad?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 perro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n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es bonito, </a:t>
            </a: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¿verdad?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Foot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914400" y="5335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838080" y="2362320"/>
            <a:ext cx="769644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Model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res de Arkansas, </a:t>
            </a: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¿no?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ce calor hoy,  </a:t>
            </a: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¿verdad?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 perro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n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es bonito, </a:t>
            </a: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¿verdad?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Foot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914400" y="5335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838080" y="2362320"/>
            <a:ext cx="7696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hica es de la República Dominican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Foot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914400" y="5335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838080" y="2362320"/>
            <a:ext cx="7696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ce calo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Foot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914400" y="5335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838080" y="2362320"/>
            <a:ext cx="7696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 gusta el helad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Foot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914400" y="5335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838080" y="2362320"/>
            <a:ext cx="7696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ted conoce a la señora Alb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Foot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914400" y="5335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838080" y="2362320"/>
            <a:ext cx="7696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enes quince año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oot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914400" y="5335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838080" y="2362320"/>
            <a:ext cx="7696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res de Ecuado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Foot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914400" y="533520"/>
            <a:ext cx="73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 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Tag 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838080" y="2362320"/>
            <a:ext cx="72392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g questions are used when the speaker is trying to involve the listener in the conversat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Foot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914400" y="5335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838080" y="2362320"/>
            <a:ext cx="7696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 estás enferm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Foot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914400" y="5335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838080" y="2362320"/>
            <a:ext cx="7696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ce buen tiempo ho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Foot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914400" y="5335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838080" y="2362320"/>
            <a:ext cx="7696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 cumpleaños es mañan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Foot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914400" y="5335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838080" y="2362320"/>
            <a:ext cx="7696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¡Ah! Te gusta Juli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Foot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914400" y="5335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838080" y="2362320"/>
            <a:ext cx="7696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 tenemos un examen ho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Foot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914400" y="5335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 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Sí / N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838080" y="2133720"/>
            <a:ext cx="72392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Y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N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questions can be answer with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sí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n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 These questions normally start with the verb.  The subject in Spanish is often at the end of the senten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Foot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914400" y="5335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838080" y="2362320"/>
            <a:ext cx="769644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Model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Estás bie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Sí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estoy bie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N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no estoy bie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Foot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914400" y="5335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838080" y="2362320"/>
            <a:ext cx="769644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Model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Te gusta corr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Sí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me gusta corr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N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no me gusta corr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Foot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914400" y="5335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838080" y="2362320"/>
            <a:ext cx="769644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Model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Ya están listos todo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Sí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ya estamos listo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N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no ya estamos listo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Foot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914400" y="5335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762120" y="2057400"/>
            <a:ext cx="7696080" cy="546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 the following statements to sí/no questions by placing the verb first in the senten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Model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clase de algebra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empiez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a las och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Foot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914400" y="5335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080" y="2362320"/>
            <a:ext cx="72392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istener is put in the position of agreeing or disagreeing with the speak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Foot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914400" y="5335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762120" y="2057400"/>
            <a:ext cx="7696080" cy="546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 the following statements to sí/no questions by placing the verb first in the senten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Model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Empiez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la clase de algebra a las och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Foot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914400" y="5335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762120" y="2057400"/>
            <a:ext cx="76960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 the following statements to sí/no questions by placing the verb first in the senten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señora Martínez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la profesor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Foot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914400" y="5335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762120" y="2057400"/>
            <a:ext cx="76960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 the following statements to sí/no questions by placing the verb first in the senten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la señora Martínez la profesor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Foot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914400" y="5335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762120" y="2057400"/>
            <a:ext cx="76960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 the following statements to sí/no questions by placing the verb first in the senten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 gimnasio está cerca de la cafeteri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Foot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914400" y="5335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762120" y="2057400"/>
            <a:ext cx="7696080" cy="27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 the following statements to sí/no questions by placing the verb first in the senten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 almuerzo es al mediodí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Foot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914400" y="5335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762120" y="2057400"/>
            <a:ext cx="76960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 the following statements to sí/no questions by placing the verb first in the senten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clase de español es por la tard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Foot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2"/>
          <p:cNvSpPr/>
          <p:nvPr/>
        </p:nvSpPr>
        <p:spPr>
          <a:xfrm>
            <a:off x="914400" y="5335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762120" y="2057400"/>
            <a:ext cx="76960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 the following statements to sí/no questions by placing the verb first in the senten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clase de computación es difíci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Foot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2"/>
          <p:cNvSpPr/>
          <p:nvPr/>
        </p:nvSpPr>
        <p:spPr>
          <a:xfrm>
            <a:off x="914400" y="5335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762120" y="2057400"/>
            <a:ext cx="76960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 the following statements to sí/no questions by placing the verb first in the senten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berto está en la clase de españo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Foot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914400" y="5335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762120" y="2057400"/>
            <a:ext cx="7696080" cy="27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 the following statements to sí/no questions by placing the verb first in the senten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ra trabaja después del colegi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Foot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914400" y="5335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762120" y="2057400"/>
            <a:ext cx="76960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 the following statements to sí/no questions by placing the verb first in the senten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s estudiantes escriben muchas composicion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Foot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914400" y="5335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838080" y="2362320"/>
            <a:ext cx="72392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y are formed by adding </a:t>
            </a: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¿no?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¿verdad?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at the end of a senten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oot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914400" y="5335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762120" y="2057400"/>
            <a:ext cx="76960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 the following statements to sí/no questions by placing the verb first in the senten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s estudiantes escriben muchas composicion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Foot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914400" y="5335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762120" y="2057400"/>
            <a:ext cx="7696080" cy="27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 the following statements to sí/no questions by placing the verb first in the sentence and the subject last in the senten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Los chico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juegan al baloncest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Foot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914400" y="5335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762120" y="2057400"/>
            <a:ext cx="7696080" cy="27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 the following statements to sí/no questions by placing the verb first in the sentence and the subject last in the senten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Juegan al baloncesto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los chico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Foot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2"/>
          <p:cNvSpPr/>
          <p:nvPr/>
        </p:nvSpPr>
        <p:spPr>
          <a:xfrm>
            <a:off x="914400" y="5335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762120" y="2057400"/>
            <a:ext cx="76960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 the following statements to sí/no questions by placing the verb first in the sentence and the subject last in the senten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clase de historia es interesant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Foot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914400" y="5335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762120" y="2057400"/>
            <a:ext cx="7696080" cy="27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 the following statements to sí/no questions by placing the verb first in the sentence and the subject last in the senten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fiesta fue divertid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Foot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2"/>
          <p:cNvSpPr/>
          <p:nvPr/>
        </p:nvSpPr>
        <p:spPr>
          <a:xfrm>
            <a:off x="914400" y="5335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762120" y="2057400"/>
            <a:ext cx="7696080" cy="27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 the following statements to sí/no questions by placing the verb first in the sentence and the subject last in the senten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 abuela es simpatic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oot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914400" y="5335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762120" y="2057400"/>
            <a:ext cx="7696080" cy="27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 the following statements to sí/no questions by placing the verb first in the sentence and the subject last in the senten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 profesor es exigent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Foot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2"/>
          <p:cNvSpPr/>
          <p:nvPr/>
        </p:nvSpPr>
        <p:spPr>
          <a:xfrm>
            <a:off x="914400" y="533520"/>
            <a:ext cx="73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 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838080" y="2133720"/>
            <a:ext cx="72392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hird type of questions words request information. These questions begin with a question word like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qué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dónd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or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uánd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Foot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914400" y="53352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 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¿Quien?  (Wh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838080" y="2133720"/>
            <a:ext cx="7239240" cy="55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Quié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  means ‘who’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Quié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es tu tía favorit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Quié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es la chica al lado de Davi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Foot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914400" y="53352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 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¿Quien?  (Wh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838080" y="1828800"/>
            <a:ext cx="7239240" cy="66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Quién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  means ‘who’ when dealing with groups of peop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Quién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on esas chicos jugando al béisbo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Quiénes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n los profesores de matématicas aquí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Foot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914400" y="5335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838080" y="2362320"/>
            <a:ext cx="72392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the sentence is negative only or </a:t>
            </a: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¿verdad?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hould be used. Using </a:t>
            </a: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¿no?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after a another no is a no-n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Foot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2"/>
          <p:cNvSpPr/>
          <p:nvPr/>
        </p:nvSpPr>
        <p:spPr>
          <a:xfrm>
            <a:off x="914400" y="53352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 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¿Quien?  (Wh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838080" y="2666880"/>
            <a:ext cx="7239240" cy="31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Quié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 or 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Quién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_____________ son Pablo, Sara, y Juli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Comment 4"/>
          <p:cNvSpPr/>
          <p:nvPr/>
        </p:nvSpPr>
        <p:spPr>
          <a:xfrm>
            <a:off x="1387440" y="4191120"/>
            <a:ext cx="3184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uié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Footer Placeholder 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2"/>
          <p:cNvSpPr/>
          <p:nvPr/>
        </p:nvSpPr>
        <p:spPr>
          <a:xfrm>
            <a:off x="914400" y="53352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 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¿Quien?  (Wh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838080" y="2666880"/>
            <a:ext cx="7239240" cy="31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Quié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 or 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Quién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_____________ es tu nueva amig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Comment 4"/>
          <p:cNvSpPr/>
          <p:nvPr/>
        </p:nvSpPr>
        <p:spPr>
          <a:xfrm>
            <a:off x="1387440" y="4191120"/>
            <a:ext cx="3184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Footer Placeholder 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2"/>
          <p:cNvSpPr/>
          <p:nvPr/>
        </p:nvSpPr>
        <p:spPr>
          <a:xfrm>
            <a:off x="914400" y="53352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 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¿Quien?  (Wh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838080" y="2666880"/>
            <a:ext cx="7239240" cy="31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Quié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 or 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Quién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_____________ tiene una calcualadora que puedo usa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Comment 4"/>
          <p:cNvSpPr/>
          <p:nvPr/>
        </p:nvSpPr>
        <p:spPr>
          <a:xfrm>
            <a:off x="1387440" y="4191120"/>
            <a:ext cx="3184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Footer Placeholder 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2"/>
          <p:cNvSpPr/>
          <p:nvPr/>
        </p:nvSpPr>
        <p:spPr>
          <a:xfrm>
            <a:off x="914400" y="53352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 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¿Quien?  (Wh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838080" y="2666880"/>
            <a:ext cx="7239240" cy="31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Quié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 or 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Quién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_____________ son tus padr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Comment 4"/>
          <p:cNvSpPr/>
          <p:nvPr/>
        </p:nvSpPr>
        <p:spPr>
          <a:xfrm>
            <a:off x="1387440" y="4191120"/>
            <a:ext cx="3184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uié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Footer Placeholder 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2"/>
          <p:cNvSpPr/>
          <p:nvPr/>
        </p:nvSpPr>
        <p:spPr>
          <a:xfrm>
            <a:off x="914400" y="53352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 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¿Quien?  (Wh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838080" y="2666880"/>
            <a:ext cx="8305920" cy="31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Quié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 or 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Quién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_____________ es el presidente de Méxic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Comment 4"/>
          <p:cNvSpPr/>
          <p:nvPr/>
        </p:nvSpPr>
        <p:spPr>
          <a:xfrm>
            <a:off x="1387440" y="4191120"/>
            <a:ext cx="3184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Footer Placeholder 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380880" y="53352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 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¿Dónde / Adónde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838080" y="2666880"/>
            <a:ext cx="8305920" cy="25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Dónd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 or 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Adónd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_____________ está mi lápiz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Comment 4"/>
          <p:cNvSpPr/>
          <p:nvPr/>
        </p:nvSpPr>
        <p:spPr>
          <a:xfrm>
            <a:off x="1387440" y="4191120"/>
            <a:ext cx="3184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ón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Footer Placeholder 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380880" y="53352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 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¿Dónde / Adónde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838080" y="2666880"/>
            <a:ext cx="8305920" cy="31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Dónd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 or 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Adónd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_____________ vas después de la escuel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Comment 4"/>
          <p:cNvSpPr/>
          <p:nvPr/>
        </p:nvSpPr>
        <p:spPr>
          <a:xfrm>
            <a:off x="1387440" y="4191120"/>
            <a:ext cx="3184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dón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Footer Placeholder 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2"/>
          <p:cNvSpPr/>
          <p:nvPr/>
        </p:nvSpPr>
        <p:spPr>
          <a:xfrm>
            <a:off x="380880" y="53352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 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¿Dónde / Adónde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838080" y="2666880"/>
            <a:ext cx="8305920" cy="31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Dónd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 or 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Adónd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_____________ van los chicos ahor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Comment 4"/>
          <p:cNvSpPr/>
          <p:nvPr/>
        </p:nvSpPr>
        <p:spPr>
          <a:xfrm>
            <a:off x="1387440" y="4191120"/>
            <a:ext cx="3184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dón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Footer Placeholder 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2"/>
          <p:cNvSpPr/>
          <p:nvPr/>
        </p:nvSpPr>
        <p:spPr>
          <a:xfrm>
            <a:off x="380880" y="53352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 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¿Dónde / Adónde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838080" y="2666880"/>
            <a:ext cx="8305920" cy="31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Dónd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 or 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Adónd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_____________ está un restaurante mexicano en Harris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Comment 4"/>
          <p:cNvSpPr/>
          <p:nvPr/>
        </p:nvSpPr>
        <p:spPr>
          <a:xfrm>
            <a:off x="1387440" y="4191120"/>
            <a:ext cx="3184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ón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Footer Placeholder 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2"/>
          <p:cNvSpPr/>
          <p:nvPr/>
        </p:nvSpPr>
        <p:spPr>
          <a:xfrm>
            <a:off x="380880" y="53352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 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¿Dónde / Adónde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838080" y="2666880"/>
            <a:ext cx="8305920" cy="25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Dónd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 or 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Adónd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_____________ está tu herman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Comment 4"/>
          <p:cNvSpPr/>
          <p:nvPr/>
        </p:nvSpPr>
        <p:spPr>
          <a:xfrm>
            <a:off x="1387440" y="4191120"/>
            <a:ext cx="3184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ón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Footer Placeholder 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914400" y="5335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838080" y="2362320"/>
            <a:ext cx="769644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Model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res de Arkansas, </a:t>
            </a: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¿no?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ce calor hoy,  </a:t>
            </a: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¿verdad?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 perro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n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es bonito, </a:t>
            </a: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¿verdad?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Foot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2"/>
          <p:cNvSpPr/>
          <p:nvPr/>
        </p:nvSpPr>
        <p:spPr>
          <a:xfrm>
            <a:off x="380880" y="53352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 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¿Dónde / Adónde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838080" y="2666880"/>
            <a:ext cx="8305920" cy="25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Dónd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 or 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Adónd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_____________ van todo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Comment 4"/>
          <p:cNvSpPr/>
          <p:nvPr/>
        </p:nvSpPr>
        <p:spPr>
          <a:xfrm>
            <a:off x="1387440" y="4191120"/>
            <a:ext cx="3184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dón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Footer Placeholder 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2"/>
          <p:cNvSpPr/>
          <p:nvPr/>
        </p:nvSpPr>
        <p:spPr>
          <a:xfrm>
            <a:off x="380880" y="53352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 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¿Dónde / Adónde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838080" y="2666880"/>
            <a:ext cx="8305920" cy="25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Dónd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 or 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Adónd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_____________ queda correo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Comment 4"/>
          <p:cNvSpPr/>
          <p:nvPr/>
        </p:nvSpPr>
        <p:spPr>
          <a:xfrm>
            <a:off x="1387440" y="4191120"/>
            <a:ext cx="3184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ón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Footer Placeholder 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2"/>
          <p:cNvSpPr/>
          <p:nvPr/>
        </p:nvSpPr>
        <p:spPr>
          <a:xfrm>
            <a:off x="380880" y="53352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 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¿Dónde / Adónde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838080" y="2666880"/>
            <a:ext cx="8305920" cy="31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Dónd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 or 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Adónd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_____________ está el museo de antropologí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Comment 4"/>
          <p:cNvSpPr/>
          <p:nvPr/>
        </p:nvSpPr>
        <p:spPr>
          <a:xfrm>
            <a:off x="1387440" y="4191120"/>
            <a:ext cx="3184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ón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Footer Placeholder 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2"/>
          <p:cNvSpPr/>
          <p:nvPr/>
        </p:nvSpPr>
        <p:spPr>
          <a:xfrm>
            <a:off x="380880" y="53352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 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¿Dónde / Adónde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838080" y="2666880"/>
            <a:ext cx="8305920" cy="31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Dónd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 or 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Adónd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_____________ vamos cuando estamos en Méxic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Comment 4"/>
          <p:cNvSpPr/>
          <p:nvPr/>
        </p:nvSpPr>
        <p:spPr>
          <a:xfrm>
            <a:off x="1387440" y="4191120"/>
            <a:ext cx="3184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dón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Footer Placeholder 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2"/>
          <p:cNvSpPr/>
          <p:nvPr/>
        </p:nvSpPr>
        <p:spPr>
          <a:xfrm>
            <a:off x="380880" y="53352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 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¿Dónde / Adónde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3"/>
          <p:cNvSpPr/>
          <p:nvPr/>
        </p:nvSpPr>
        <p:spPr>
          <a:xfrm>
            <a:off x="838080" y="2666880"/>
            <a:ext cx="8305920" cy="25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Dónd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 or 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Adónd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_____________ está mi lápiz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Comment 4"/>
          <p:cNvSpPr/>
          <p:nvPr/>
        </p:nvSpPr>
        <p:spPr>
          <a:xfrm>
            <a:off x="1387440" y="4191120"/>
            <a:ext cx="3184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ón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Footer Placeholder 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2"/>
          <p:cNvSpPr/>
          <p:nvPr/>
        </p:nvSpPr>
        <p:spPr>
          <a:xfrm>
            <a:off x="380880" y="53352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 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¿Dónde / Adónde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838080" y="2666880"/>
            <a:ext cx="8305920" cy="31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Dónd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 or 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Adónd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_____________ está la tarea para la clase de matématica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Comment 4"/>
          <p:cNvSpPr/>
          <p:nvPr/>
        </p:nvSpPr>
        <p:spPr>
          <a:xfrm>
            <a:off x="1387440" y="4191120"/>
            <a:ext cx="3184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ón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Footer Placeholder 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3"/>
          <p:cNvSpPr/>
          <p:nvPr/>
        </p:nvSpPr>
        <p:spPr>
          <a:xfrm>
            <a:off x="838080" y="2666880"/>
            <a:ext cx="8305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Dónd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 or 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Adónd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_____________ tengo que ir cuando quiero comprar una computador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Comment 4"/>
          <p:cNvSpPr/>
          <p:nvPr/>
        </p:nvSpPr>
        <p:spPr>
          <a:xfrm>
            <a:off x="1387440" y="4191120"/>
            <a:ext cx="3184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dón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5"/>
          <p:cNvSpPr/>
          <p:nvPr/>
        </p:nvSpPr>
        <p:spPr>
          <a:xfrm>
            <a:off x="228600" y="38088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 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¿Dónde / Adónde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Footer Placeholder 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 Box 2"/>
          <p:cNvSpPr/>
          <p:nvPr/>
        </p:nvSpPr>
        <p:spPr>
          <a:xfrm>
            <a:off x="228600" y="5335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¿Cuándo?/¿Cuánt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3"/>
          <p:cNvSpPr/>
          <p:nvPr/>
        </p:nvSpPr>
        <p:spPr>
          <a:xfrm>
            <a:off x="838080" y="2666880"/>
            <a:ext cx="8305920" cy="31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uánd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 or 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uánt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_____________ es la clase de espoño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Comment 4"/>
          <p:cNvSpPr/>
          <p:nvPr/>
        </p:nvSpPr>
        <p:spPr>
          <a:xfrm>
            <a:off x="1387440" y="4191120"/>
            <a:ext cx="3184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uán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Footer Placeholder 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 Box 2"/>
          <p:cNvSpPr/>
          <p:nvPr/>
        </p:nvSpPr>
        <p:spPr>
          <a:xfrm>
            <a:off x="228600" y="5335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¿Cuándo?/¿Cuánt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838080" y="2666880"/>
            <a:ext cx="8305920" cy="31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uánd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 or 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uánt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_____________ cuesta la camisa roj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Comment 4"/>
          <p:cNvSpPr/>
          <p:nvPr/>
        </p:nvSpPr>
        <p:spPr>
          <a:xfrm>
            <a:off x="1387440" y="4191120"/>
            <a:ext cx="3184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uá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Footer Placeholder 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2"/>
          <p:cNvSpPr/>
          <p:nvPr/>
        </p:nvSpPr>
        <p:spPr>
          <a:xfrm>
            <a:off x="228600" y="5335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¿Cuándo?/¿Cuánt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3"/>
          <p:cNvSpPr/>
          <p:nvPr/>
        </p:nvSpPr>
        <p:spPr>
          <a:xfrm>
            <a:off x="838080" y="2666880"/>
            <a:ext cx="8305920" cy="31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uánd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 or 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uánto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_____________ son los enchilada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Comment 4"/>
          <p:cNvSpPr/>
          <p:nvPr/>
        </p:nvSpPr>
        <p:spPr>
          <a:xfrm>
            <a:off x="1387440" y="4191120"/>
            <a:ext cx="3184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uán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Footer Placeholder 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914400" y="5335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838080" y="2362320"/>
            <a:ext cx="7696440" cy="39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can you say to get a friend to agree or disagree with you as you make the following statements?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Model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fiesta es divertid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Foot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2"/>
          <p:cNvSpPr/>
          <p:nvPr/>
        </p:nvSpPr>
        <p:spPr>
          <a:xfrm>
            <a:off x="228600" y="5335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¿Cuándo?/¿Cuánt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3"/>
          <p:cNvSpPr/>
          <p:nvPr/>
        </p:nvSpPr>
        <p:spPr>
          <a:xfrm>
            <a:off x="838080" y="2666880"/>
            <a:ext cx="8305920" cy="31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uánd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 or 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uánt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_____________ tienes la clase de algebr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Comment 4"/>
          <p:cNvSpPr/>
          <p:nvPr/>
        </p:nvSpPr>
        <p:spPr>
          <a:xfrm>
            <a:off x="1387440" y="4191120"/>
            <a:ext cx="3184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uán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Footer Placeholder 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 Box 2"/>
          <p:cNvSpPr/>
          <p:nvPr/>
        </p:nvSpPr>
        <p:spPr>
          <a:xfrm>
            <a:off x="228600" y="5335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¿Cuándo?/¿Cuánt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3"/>
          <p:cNvSpPr/>
          <p:nvPr/>
        </p:nvSpPr>
        <p:spPr>
          <a:xfrm>
            <a:off x="838080" y="2666880"/>
            <a:ext cx="8305920" cy="31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uánd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 or 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uánt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_____________ es la fecha de tu cumpleaño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Comment 4"/>
          <p:cNvSpPr/>
          <p:nvPr/>
        </p:nvSpPr>
        <p:spPr>
          <a:xfrm>
            <a:off x="1387440" y="4191120"/>
            <a:ext cx="3184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uán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Footer Placeholder 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2"/>
          <p:cNvSpPr/>
          <p:nvPr/>
        </p:nvSpPr>
        <p:spPr>
          <a:xfrm>
            <a:off x="228600" y="5335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¿Cuándo?/¿Cuánt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3"/>
          <p:cNvSpPr/>
          <p:nvPr/>
        </p:nvSpPr>
        <p:spPr>
          <a:xfrm>
            <a:off x="838080" y="2666880"/>
            <a:ext cx="8305920" cy="25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uánd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 or 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uánt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_____________ vas a visitarm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Comment 6"/>
          <p:cNvSpPr/>
          <p:nvPr/>
        </p:nvSpPr>
        <p:spPr>
          <a:xfrm>
            <a:off x="1387440" y="4191120"/>
            <a:ext cx="3184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uán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Footer Placeholder 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2"/>
          <p:cNvSpPr/>
          <p:nvPr/>
        </p:nvSpPr>
        <p:spPr>
          <a:xfrm>
            <a:off x="228600" y="5335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¿Cuándo?/¿Cuánt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3"/>
          <p:cNvSpPr/>
          <p:nvPr/>
        </p:nvSpPr>
        <p:spPr>
          <a:xfrm>
            <a:off x="838080" y="2666880"/>
            <a:ext cx="8305920" cy="31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uánd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 or 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uánt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_____________ cuesta este sombrer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Comment 4"/>
          <p:cNvSpPr/>
          <p:nvPr/>
        </p:nvSpPr>
        <p:spPr>
          <a:xfrm>
            <a:off x="1387440" y="4191120"/>
            <a:ext cx="3184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uá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Footer Placeholder 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 Box 2"/>
          <p:cNvSpPr/>
          <p:nvPr/>
        </p:nvSpPr>
        <p:spPr>
          <a:xfrm>
            <a:off x="228600" y="5335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¿Cuándo?/¿Cuánt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3"/>
          <p:cNvSpPr/>
          <p:nvPr/>
        </p:nvSpPr>
        <p:spPr>
          <a:xfrm>
            <a:off x="838080" y="2666880"/>
            <a:ext cx="8305920" cy="31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uánd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 or 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uánt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_____________ son los pantalones de raya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Comment 4"/>
          <p:cNvSpPr/>
          <p:nvPr/>
        </p:nvSpPr>
        <p:spPr>
          <a:xfrm>
            <a:off x="1387440" y="4191120"/>
            <a:ext cx="3184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uán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Footer Placeholder 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2"/>
          <p:cNvSpPr/>
          <p:nvPr/>
        </p:nvSpPr>
        <p:spPr>
          <a:xfrm>
            <a:off x="228600" y="5335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¿Cuándo?/¿Cuánt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3"/>
          <p:cNvSpPr/>
          <p:nvPr/>
        </p:nvSpPr>
        <p:spPr>
          <a:xfrm>
            <a:off x="838080" y="2666880"/>
            <a:ext cx="8305920" cy="25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uánd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 or 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uánt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_____________ termina la clas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Comment 4"/>
          <p:cNvSpPr/>
          <p:nvPr/>
        </p:nvSpPr>
        <p:spPr>
          <a:xfrm>
            <a:off x="1387440" y="4191120"/>
            <a:ext cx="3184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uán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Footer Placeholder 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 Box 2"/>
          <p:cNvSpPr/>
          <p:nvPr/>
        </p:nvSpPr>
        <p:spPr>
          <a:xfrm>
            <a:off x="228600" y="5335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¿Cuándo?/¿Cuánt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3"/>
          <p:cNvSpPr/>
          <p:nvPr/>
        </p:nvSpPr>
        <p:spPr>
          <a:xfrm>
            <a:off x="838080" y="2666880"/>
            <a:ext cx="8305920" cy="31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uánd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 or 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uánt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_____________ empiezan las clas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Comment 4"/>
          <p:cNvSpPr/>
          <p:nvPr/>
        </p:nvSpPr>
        <p:spPr>
          <a:xfrm>
            <a:off x="1387440" y="4191120"/>
            <a:ext cx="3184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uán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Footer Placeholder 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 Box 2"/>
          <p:cNvSpPr/>
          <p:nvPr/>
        </p:nvSpPr>
        <p:spPr>
          <a:xfrm>
            <a:off x="228600" y="5335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¿Cuándo?/¿Cuánt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838080" y="2666880"/>
            <a:ext cx="8305920" cy="31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uánd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 or 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uánt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_____________ cuesta un motocicleta como la tuy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Comment 4"/>
          <p:cNvSpPr/>
          <p:nvPr/>
        </p:nvSpPr>
        <p:spPr>
          <a:xfrm>
            <a:off x="1387440" y="4191120"/>
            <a:ext cx="3184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uá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Footer Placeholder 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Text Box 2"/>
          <p:cNvSpPr/>
          <p:nvPr/>
        </p:nvSpPr>
        <p:spPr>
          <a:xfrm>
            <a:off x="228600" y="5335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¿Cuándo?/¿Cuánt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3"/>
          <p:cNvSpPr/>
          <p:nvPr/>
        </p:nvSpPr>
        <p:spPr>
          <a:xfrm>
            <a:off x="838080" y="2666880"/>
            <a:ext cx="8305920" cy="31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uánd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 or 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uánt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_____________ juegas baloncesto en el gimnasi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Comment 4"/>
          <p:cNvSpPr/>
          <p:nvPr/>
        </p:nvSpPr>
        <p:spPr>
          <a:xfrm>
            <a:off x="1387440" y="4191120"/>
            <a:ext cx="3184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uán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Footer Placeholder 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3"/>
          <p:cNvSpPr/>
          <p:nvPr/>
        </p:nvSpPr>
        <p:spPr>
          <a:xfrm>
            <a:off x="838080" y="2666880"/>
            <a:ext cx="8305920" cy="31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uánd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 or 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uánt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_____________ vas al cine? Quiero acompañart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Comment 4"/>
          <p:cNvSpPr/>
          <p:nvPr/>
        </p:nvSpPr>
        <p:spPr>
          <a:xfrm>
            <a:off x="1387440" y="4191120"/>
            <a:ext cx="3184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uán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5"/>
          <p:cNvSpPr/>
          <p:nvPr/>
        </p:nvSpPr>
        <p:spPr>
          <a:xfrm>
            <a:off x="0" y="5335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¿Cuándo?/¿Cuánt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Footer Placeholder 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914400" y="5335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838080" y="2362320"/>
            <a:ext cx="7696440" cy="39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can you say to get a friend to agree or disagree with you as you make the following statements?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Model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fiesta es divertida, </a:t>
            </a: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¿no?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Foot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 Box 3"/>
          <p:cNvSpPr/>
          <p:nvPr/>
        </p:nvSpPr>
        <p:spPr>
          <a:xfrm>
            <a:off x="838080" y="2666880"/>
            <a:ext cx="8305920" cy="31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uánd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 or 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uánt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_____________ dinero necesito para comer en este restaurant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Comment 4"/>
          <p:cNvSpPr/>
          <p:nvPr/>
        </p:nvSpPr>
        <p:spPr>
          <a:xfrm>
            <a:off x="1387440" y="4191120"/>
            <a:ext cx="3184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uá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5"/>
          <p:cNvSpPr/>
          <p:nvPr/>
        </p:nvSpPr>
        <p:spPr>
          <a:xfrm>
            <a:off x="0" y="5335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¿Cuándo?/¿Cuánt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Oval 6"/>
          <p:cNvSpPr/>
          <p:nvPr/>
        </p:nvSpPr>
        <p:spPr>
          <a:xfrm>
            <a:off x="1676520" y="1905120"/>
            <a:ext cx="6172200" cy="3429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Footer Placeholder 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914400" y="5335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838080" y="2362320"/>
            <a:ext cx="7696440" cy="39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can you say to get a friend to agree or disagree with you as you make the following statements?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Model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fiesta es divertida, </a:t>
            </a: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¿verda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Foot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3T10:13:03Z</dcterms:created>
  <dc:creator>Paul Widergren</dc:creator>
  <dc:description/>
  <dc:language>en-US</dc:language>
  <cp:lastModifiedBy>Jackson</cp:lastModifiedBy>
  <dcterms:modified xsi:type="dcterms:W3CDTF">2011-03-17T04:52:10Z</dcterms:modified>
  <cp:revision>4</cp:revision>
  <dc:subject/>
  <dc:title>No Slide Title</dc:title>
</cp:coreProperties>
</file>