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61F4-E11B-4132-BC87-2958FFB42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45C7-A5CE-4931-9ABD-C7E435614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C851-2008-4A07-8F01-828FB7E04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D6CB-AB63-499A-BC1D-C0BA230C1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FA98-D552-486A-947B-B614E9B69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5BA6-D5F4-4D58-92BB-DF76E05BD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51B1-DC37-4FBE-8A44-34786E4A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C674-EB7A-433B-90F4-5250AF850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3C87-15CD-4ADC-B2DF-1EB1A8F8A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855-292F-45AD-A2D3-22C76B29A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32E6-A584-4ADE-AA22-F71487AB0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0A5B-4DC6-4863-ADBF-C1098E98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C103-1D56-4DF3-B9EF-BB9BD9ACF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6181-FE75-4C2F-A524-339814EE1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2FB4-4FB6-49EE-987F-743AF5F3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DF93-BDE5-42B8-9AE4-BA1DF6DE1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19B4-8D26-4A4E-8E11-8E459472D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4877-DEA3-4502-8127-9BD3722F0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9AF3-865C-459A-83E9-C56494A14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849A-EA3E-43FA-9F0E-B7CDC6D07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B798-A2B7-4AEA-B313-5312CE3E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52A0-7B79-4872-9124-1D51E0E39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E738-3FB5-4E11-9F2B-287FFF642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FCEA-33CE-44ED-9EE7-F48CE7098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4DA1-7AAA-4372-BA3B-D99D3CF0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E46B-006B-494D-B6F3-BDDFCC969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BB2E-93F0-4FFD-BD71-0239B1D48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32A8-8117-4882-8808-62CE59774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0BF4-F6C7-45CA-AAF3-0A118831A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4DC2-C456-48B7-A643-C8708D454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2B1F-08CF-4123-9C90-10A1B0179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894-4CF3-4F84-8F87-0157520CA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2F6F-4119-47AE-86A4-85E0CF1D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BB23-84CB-4A4C-8F32-F4449026E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8A5F-2B78-4F35-BFA1-FF13AF8E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F38E-43A3-4BCD-B333-9DC63603A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60FA-B21A-471D-817B-84947A174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55F-117A-498F-B872-0B8D7F47A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F84-25C9-4DE0-BBB1-6336BC975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56F6-4D16-44BA-80EE-AF3579CBC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6967-0060-495C-B392-71DDB04CD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AAA-3D13-486D-831C-408484C22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828F-82A7-4100-AEBF-401E5745A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971B-6E7E-4F34-9BE9-DC5C14897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975-9EB0-4140-A286-B67D71CEE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76F6-32D4-4CA1-BF0C-5FC6D1CA4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6CC5-4434-445B-9FEA-80F83DC12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FE0C-0A11-4C55-9110-04A3C0E08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D952-1409-460A-A5CF-20A61AB9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2995-11A9-41A7-88AE-843727402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3091-F56C-4117-963B-A148D95B9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D552-DEFA-47CF-AB31-FE7FEE20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09B8-8A9A-4E67-A77E-BD197BA4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0F61-BB96-4F24-BCD1-33E427DB9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44EF-EE37-4590-8061-1A30A2207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56FE-88A3-447D-B800-CF0BECE97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2DC7-1AB0-4BAA-B0A4-CF02F174D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5881-521B-4457-9DD7-41EABA5A2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43F-B1C3-4A2C-B892-F1B5A2C6F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AA27-30AC-4153-88BC-7C81A6726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E4F6-E124-4B9A-ABA8-6738BE299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AE54-C735-49BE-B4A9-A7A4DC996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4E5F-60F9-49F5-B912-ADF30A2D8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D5C2-8889-4DA9-BD5F-C41C40101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98B-F0EF-4622-9BE7-73578BF2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AB5-A5E0-4765-8971-F0BB46FE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ABB-E9C4-4590-9D1F-DC969370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9F2-773A-434B-A752-A671F82A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569-9E3D-4990-9656-4F930173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561-E0C8-4117-970E-9CB4C2E1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96B-0CBD-4DC4-A96F-2986B96A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68F-C9CE-4861-BDBE-594D0AC0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BD0-C3CD-4F0D-B86E-7693A54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47F-2CD1-43F1-9B25-44EEDEB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CD2-6E7F-4A67-99E1-175A274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68E-7DAD-4E42-A03C-966058B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BAA9-A718-432A-9439-4C493489B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523880" y="1219320"/>
            <a:ext cx="6172200" cy="441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Questio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ords 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aja, bonita, morena, y muy simp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5"/>
          <p:cNvSpPr/>
          <p:nvPr/>
        </p:nvSpPr>
        <p:spPr>
          <a:xfrm>
            <a:off x="914400" y="4952880"/>
            <a:ext cx="2057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aja, bonita, morena, y muy simp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5"/>
          <p:cNvSpPr/>
          <p:nvPr/>
        </p:nvSpPr>
        <p:spPr>
          <a:xfrm>
            <a:off x="1752480" y="1143000"/>
            <a:ext cx="2057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1932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95280" y="3048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Ecuador, de la capi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21932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95280" y="3048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Ecuador, de la capi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Comment 4"/>
          <p:cNvSpPr/>
          <p:nvPr/>
        </p:nvSpPr>
        <p:spPr>
          <a:xfrm>
            <a:off x="259092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3048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tres y cua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295280" y="3048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tres y cua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5"/>
          <p:cNvSpPr/>
          <p:nvPr/>
        </p:nvSpPr>
        <p:spPr>
          <a:xfrm>
            <a:off x="19810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Al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Al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6"/>
          <p:cNvSpPr/>
          <p:nvPr/>
        </p:nvSpPr>
        <p:spPr>
          <a:xfrm>
            <a:off x="190512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direcc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95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726 Calle oc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direcc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295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726 Calle oc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6"/>
          <p:cNvSpPr/>
          <p:nvPr/>
        </p:nvSpPr>
        <p:spPr>
          <a:xfrm>
            <a:off x="1828800" y="53352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fecha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26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o en Mi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Comment 4"/>
          <p:cNvSpPr/>
          <p:nvPr/>
        </p:nvSpPr>
        <p:spPr>
          <a:xfrm>
            <a:off x="35053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5"/>
          <p:cNvSpPr/>
          <p:nvPr/>
        </p:nvSpPr>
        <p:spPr>
          <a:xfrm>
            <a:off x="914400" y="495288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o en Mi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4"/>
          <p:cNvSpPr/>
          <p:nvPr/>
        </p:nvSpPr>
        <p:spPr>
          <a:xfrm>
            <a:off x="35053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5"/>
          <p:cNvSpPr/>
          <p:nvPr/>
        </p:nvSpPr>
        <p:spPr>
          <a:xfrm>
            <a:off x="1752480" y="114300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u professión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3429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o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u profesión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19320" y="3429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o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6"/>
          <p:cNvSpPr/>
          <p:nvPr/>
        </p:nvSpPr>
        <p:spPr>
          <a:xfrm>
            <a:off x="1752480" y="114300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invier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nero, febrero, y marz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invier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nero, febrero, y marz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primave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abril, mayo, y jun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primave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abril, mayo, y jun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Comment 4"/>
          <p:cNvSpPr/>
          <p:nvPr/>
        </p:nvSpPr>
        <p:spPr>
          <a:xfrm>
            <a:off x="1676520" y="11430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vera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ulio, agosto, y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vera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ulio, agosto, y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fecha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26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6"/>
          <p:cNvSpPr/>
          <p:nvPr/>
        </p:nvSpPr>
        <p:spPr>
          <a:xfrm>
            <a:off x="182880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otoñ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ctubre, noviembre, y dic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otoñ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ctubre, noviembre, y dic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219320" y="13716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304812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ñana es el sába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219320" y="13716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295280" y="304812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ñana es el sába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5"/>
          <p:cNvSpPr/>
          <p:nvPr/>
        </p:nvSpPr>
        <p:spPr>
          <a:xfrm>
            <a:off x="182880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295280" y="3048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295280" y="3048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5"/>
          <p:cNvSpPr/>
          <p:nvPr/>
        </p:nvSpPr>
        <p:spPr>
          <a:xfrm>
            <a:off x="182880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6"/>
          <p:cNvSpPr/>
          <p:nvPr/>
        </p:nvSpPr>
        <p:spPr>
          <a:xfrm>
            <a:off x="3352680" y="121932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n las chicas de Colom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 y Ju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n las chicas de Colom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 y Ju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Comment 6"/>
          <p:cNvSpPr/>
          <p:nvPr/>
        </p:nvSpPr>
        <p:spPr>
          <a:xfrm>
            <a:off x="182880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95280" y="27432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ir a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295280" y="30481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va, la novia de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295280" y="30481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va, la novia de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914400" y="2971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Cartagena, una ciudad costera de Colo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Comment 4"/>
          <p:cNvSpPr/>
          <p:nvPr/>
        </p:nvSpPr>
        <p:spPr>
          <a:xfrm>
            <a:off x="3124080" y="495288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914400" y="2971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Cartagena, una ciudad costera de Colo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mment 4"/>
          <p:cNvSpPr/>
          <p:nvPr/>
        </p:nvSpPr>
        <p:spPr>
          <a:xfrm>
            <a:off x="2438280" y="121932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Comment 3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Comment 4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5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mment 4"/>
          <p:cNvSpPr/>
          <p:nvPr/>
        </p:nvSpPr>
        <p:spPr>
          <a:xfrm>
            <a:off x="1600200" y="457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omment 5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219320" y="27432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enso ir al cine para ver una nueva pelícu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Comment 5"/>
          <p:cNvSpPr/>
          <p:nvPr/>
        </p:nvSpPr>
        <p:spPr>
          <a:xfrm>
            <a:off x="99072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219320" y="27432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enso ir al cine para ver una nueva pelícu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Comment 5"/>
          <p:cNvSpPr/>
          <p:nvPr/>
        </p:nvSpPr>
        <p:spPr>
          <a:xfrm>
            <a:off x="1752480" y="380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295280" y="30481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“Tortilla Soup” con Hector Elizo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295280" y="30481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“Tortilla Soup” con Hector Elizo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mment 6"/>
          <p:cNvSpPr/>
          <p:nvPr/>
        </p:nvSpPr>
        <p:spPr>
          <a:xfrm>
            <a:off x="167652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295280" y="27432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ir a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5"/>
          <p:cNvSpPr/>
          <p:nvPr/>
        </p:nvSpPr>
        <p:spPr>
          <a:xfrm>
            <a:off x="19051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película empieza a las ocho y di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película empieza a las ocho y di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omment 5"/>
          <p:cNvSpPr/>
          <p:nvPr/>
        </p:nvSpPr>
        <p:spPr>
          <a:xfrm>
            <a:off x="2362320" y="5335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219320" y="838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uesta un bille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27432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siete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Comment 6"/>
          <p:cNvSpPr/>
          <p:nvPr/>
        </p:nvSpPr>
        <p:spPr>
          <a:xfrm>
            <a:off x="6095880" y="4952880"/>
            <a:ext cx="27432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219320" y="838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uesta un bille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371600" y="27432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siete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Comment 4"/>
          <p:cNvSpPr/>
          <p:nvPr/>
        </p:nvSpPr>
        <p:spPr>
          <a:xfrm>
            <a:off x="160020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Comment 6"/>
          <p:cNvSpPr/>
          <p:nvPr/>
        </p:nvSpPr>
        <p:spPr>
          <a:xfrm>
            <a:off x="6095880" y="4952880"/>
            <a:ext cx="27432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uelven ustede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295280" y="3048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lvimos a eso de las o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Comment 4"/>
          <p:cNvSpPr/>
          <p:nvPr/>
        </p:nvSpPr>
        <p:spPr>
          <a:xfrm>
            <a:off x="3276720" y="4952880"/>
            <a:ext cx="25905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Comment 6"/>
          <p:cNvSpPr/>
          <p:nvPr/>
        </p:nvSpPr>
        <p:spPr>
          <a:xfrm>
            <a:off x="6095880" y="4952880"/>
            <a:ext cx="2590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uelven ustede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1295280" y="3048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lvimos a eso de las o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Comment 4"/>
          <p:cNvSpPr/>
          <p:nvPr/>
        </p:nvSpPr>
        <p:spPr>
          <a:xfrm>
            <a:off x="3276720" y="4952880"/>
            <a:ext cx="25905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Comment 6"/>
          <p:cNvSpPr/>
          <p:nvPr/>
        </p:nvSpPr>
        <p:spPr>
          <a:xfrm>
            <a:off x="1828800" y="609480"/>
            <a:ext cx="2590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Comment 4"/>
          <p:cNvSpPr/>
          <p:nvPr/>
        </p:nvSpPr>
        <p:spPr>
          <a:xfrm>
            <a:off x="57150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Comment 6"/>
          <p:cNvSpPr/>
          <p:nvPr/>
        </p:nvSpPr>
        <p:spPr>
          <a:xfrm>
            <a:off x="320040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Comment 6"/>
          <p:cNvSpPr/>
          <p:nvPr/>
        </p:nvSpPr>
        <p:spPr>
          <a:xfrm>
            <a:off x="319896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1219320" y="1371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25 centav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Comment 4"/>
          <p:cNvSpPr/>
          <p:nvPr/>
        </p:nvSpPr>
        <p:spPr>
          <a:xfrm>
            <a:off x="3200400" y="495288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1219320" y="13716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25 centav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Comment 4"/>
          <p:cNvSpPr/>
          <p:nvPr/>
        </p:nvSpPr>
        <p:spPr>
          <a:xfrm>
            <a:off x="1905120" y="114300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Widerg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mment 5"/>
          <p:cNvSpPr/>
          <p:nvPr/>
        </p:nvSpPr>
        <p:spPr>
          <a:xfrm>
            <a:off x="17524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1219320" y="1371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cuesta esta blusa blan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3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Comment 4"/>
          <p:cNvSpPr/>
          <p:nvPr/>
        </p:nvSpPr>
        <p:spPr>
          <a:xfrm>
            <a:off x="3124080" y="4952880"/>
            <a:ext cx="2667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1219320" y="1371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cuesta esta blusa blan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3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Comment 4"/>
          <p:cNvSpPr/>
          <p:nvPr/>
        </p:nvSpPr>
        <p:spPr>
          <a:xfrm>
            <a:off x="1905120" y="114300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1523880" y="1219320"/>
            <a:ext cx="6172200" cy="441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Widerg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úmero de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4-46-12-1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úmero de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4-46-12-1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6"/>
          <p:cNvSpPr/>
          <p:nvPr/>
        </p:nvSpPr>
        <p:spPr>
          <a:xfrm>
            <a:off x="1752480" y="114300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0:01:47Z</dcterms:created>
  <dc:creator>Paul Widergren</dc:creator>
  <dc:description/>
  <dc:language>en-US</dc:language>
  <cp:lastModifiedBy>Jackson</cp:lastModifiedBy>
  <dcterms:modified xsi:type="dcterms:W3CDTF">2011-03-17T04:56:26Z</dcterms:modified>
  <cp:revision>6</cp:revision>
  <dc:subject/>
  <dc:title>No Slide Title</dc:title>
</cp:coreProperties>
</file>