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80DE-7E25-43EB-85CF-CD2570BB1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4534-4A46-4875-8820-8710995EE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BAAC-E103-4A9C-9B93-E0580644D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B835-09FE-4077-8B37-3431CC93C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FBE2-86A4-4B43-8A28-CF4730F81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C4D0-C01C-4DD9-99EC-B82C361CA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145E-5FC0-4123-8E10-A77AA37F2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F527-60F8-409F-95CA-7A27AEADF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72C9-EA50-4094-9A0C-8DA97B065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5A56-D087-4367-B740-4B1753BDD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1818-D380-4716-BC5C-0C19A2A62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A103-B20D-4518-AD13-230227A02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88C0-6DAB-4CF1-99D8-5EE33BB48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3132-C4AF-4B32-BF68-715A3749E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C252-E00F-462B-91A9-5B8E4A5E7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1E91-7327-40F6-BFD9-90E5237D4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0C02-55DB-445C-B866-15E82A41A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9E74-B221-4087-91DC-A13D4F973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730F-66F2-4B04-880A-BCF94DC3D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A61F-F8C7-49EF-B6F6-8D740525C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3660-D58B-46D4-B575-355B0A251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9F0B-324D-45BA-9F2D-0F201E29F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BDE7-2AE6-4B2F-AB29-9284C89F2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5ED1-38A5-4236-87E6-FFE914523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C195-0E71-449D-97F7-98E428C2D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C31A-1375-4730-8C4E-3B34536F1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7B03-CA89-4307-A305-2E171BCB2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64BF-D8BF-4E56-9C21-31008B3C0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E469-6F84-4D69-BCB3-66725E6DA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ACA8-E42D-49EE-B8C9-BE1928296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0342-6C66-4922-BCCB-D551297A6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9EED-D623-4050-80FC-E9A045B6D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853E-9420-40D8-86B4-77F35C31E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598A-A0F8-4203-94BE-EEC1F1CCE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4F26-7717-4E79-923A-25FF989AA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2B66-3C04-4FB3-ACD3-EFBBDEF06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FA38-96B3-47F5-9EB6-53FC8AABB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EBA0-7746-4186-A1FD-FFA2C41B0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02B4-9EE7-4D4B-A65C-0CFEB7E52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C8C5-58A4-48A3-93E7-AAC73833A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ADA9-C3B4-4743-841E-04444AB59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574F-1B02-460C-82BF-DA04F008E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13FC-250A-43A7-B79D-E0124B562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0886-C1AD-4B51-9135-1815F6B26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DA87-454D-46E4-867D-1CBFA96BF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58C4-76B3-42D9-A7A6-C380E800E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59C7-30D9-4EFD-A218-1A3D8C0D8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7C20-638B-42A6-83F7-B8A5027AB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C441-1F44-4CA4-B95B-BE227EA36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7425-1B54-4923-BBEB-D27528201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F4F6-B9B3-43AD-996A-3747B4C70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5703-EBBA-4385-A252-27C9B08E1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7B57-E4B4-4C44-BD4B-EE4474C35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4252-2AAC-44FA-944C-D928ABC2A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ECE2-53E7-41BB-8AE5-985F7D2A9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CD8D-EA51-448F-A416-CDFCCEC0B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E688-3C7B-4870-B73F-B04C71C04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1640-AF61-4ED6-A1F1-20D813E0A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51C7-34BF-44D9-B570-0D3C359F2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F2F6-3E3C-4455-AD12-619E0236E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105F-26BD-4501-9FDD-3FEE8072C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C2E8-6804-44EB-BE86-CC73432F5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38B4-4BBF-45F2-B234-E971CF4BC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1C31-B2DE-4E8A-8B14-D9F9838AD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561B-2033-43F2-8893-3821F71B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947F-8978-4757-8202-6A87508F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04CB-C527-4975-9EDB-1BA9FE91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E19-0A84-4F75-A339-BC8B0256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CD4-65E5-49DC-B781-4209194F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553-7747-45C8-A9D4-26B97A58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774-2C3C-49B5-BF2C-D1C81B0F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8B1-BA0E-409D-B0EB-6F14AAB3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4226-DE15-431A-8845-1A70EFBF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3BEB-0152-486A-90B3-B5FA8AC2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2115-156A-4B6C-8788-6E4F4FEA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D82-BFED-466D-BDF3-A2D16D51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7C61-7491-4136-AB86-D4F94DD42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"/>
          <p:cNvSpPr/>
          <p:nvPr/>
        </p:nvSpPr>
        <p:spPr>
          <a:xfrm>
            <a:off x="1523880" y="1219320"/>
            <a:ext cx="6172200" cy="4419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Questio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ords 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95280" y="304812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baja, bonita, morena, y muy simpát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Comment 5"/>
          <p:cNvSpPr/>
          <p:nvPr/>
        </p:nvSpPr>
        <p:spPr>
          <a:xfrm>
            <a:off x="914400" y="4952880"/>
            <a:ext cx="20574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295280" y="304812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baja, bonita, morena, y muy simpát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omment 5"/>
          <p:cNvSpPr/>
          <p:nvPr/>
        </p:nvSpPr>
        <p:spPr>
          <a:xfrm>
            <a:off x="1752480" y="1143000"/>
            <a:ext cx="20574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219320" y="7621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295280" y="304812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Ecuador, de la capi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219320" y="7621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295280" y="304812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Ecuador, de la capi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Comment 4"/>
          <p:cNvSpPr/>
          <p:nvPr/>
        </p:nvSpPr>
        <p:spPr>
          <a:xfrm>
            <a:off x="2590920" y="609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hora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295280" y="304812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las tres y cuar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hora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295280" y="30481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las tres y cuar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omment 5"/>
          <p:cNvSpPr/>
          <p:nvPr/>
        </p:nvSpPr>
        <p:spPr>
          <a:xfrm>
            <a:off x="198108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e llam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 llamo Al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e llam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 llamo Al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Comment 6"/>
          <p:cNvSpPr/>
          <p:nvPr/>
        </p:nvSpPr>
        <p:spPr>
          <a:xfrm>
            <a:off x="1905120" y="11430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9528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direcc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295280" y="304812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726 Calle oc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29528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direcc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295280" y="304812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726 Calle oc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omment 6"/>
          <p:cNvSpPr/>
          <p:nvPr/>
        </p:nvSpPr>
        <p:spPr>
          <a:xfrm>
            <a:off x="1828800" y="53352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la fecha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26 de sept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iv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vo en Mia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Comment 4"/>
          <p:cNvSpPr/>
          <p:nvPr/>
        </p:nvSpPr>
        <p:spPr>
          <a:xfrm>
            <a:off x="35053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Comment 5"/>
          <p:cNvSpPr/>
          <p:nvPr/>
        </p:nvSpPr>
        <p:spPr>
          <a:xfrm>
            <a:off x="914400" y="4952880"/>
            <a:ext cx="2133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iv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vo en Mia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Comment 4"/>
          <p:cNvSpPr/>
          <p:nvPr/>
        </p:nvSpPr>
        <p:spPr>
          <a:xfrm>
            <a:off x="35053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Comment 5"/>
          <p:cNvSpPr/>
          <p:nvPr/>
        </p:nvSpPr>
        <p:spPr>
          <a:xfrm>
            <a:off x="1752480" y="1143000"/>
            <a:ext cx="2133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su professión, señ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19320" y="34290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y doct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su profesión, señ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19320" y="34290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y doct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Comment 6"/>
          <p:cNvSpPr/>
          <p:nvPr/>
        </p:nvSpPr>
        <p:spPr>
          <a:xfrm>
            <a:off x="1752480" y="114300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invier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143000" y="32004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enero, febrero, y marz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invier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143000" y="32004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enero, febrero, y marz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primaver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143000" y="32004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abril, mayo, y jun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primaver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143000" y="32004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abril, mayo, y jun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Comment 4"/>
          <p:cNvSpPr/>
          <p:nvPr/>
        </p:nvSpPr>
        <p:spPr>
          <a:xfrm>
            <a:off x="1676520" y="11430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vera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143000" y="32004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julio, agosto, y sept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vera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143000" y="32004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julio, agosto, y sept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la fecha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26 de sept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mment 6"/>
          <p:cNvSpPr/>
          <p:nvPr/>
        </p:nvSpPr>
        <p:spPr>
          <a:xfrm>
            <a:off x="1828800" y="11430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otoñ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143000" y="32004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octubre, noviembre, y dic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otoñ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143000" y="32004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octubre, noviembre, y dic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219320" y="13716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día es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295280" y="3048120"/>
            <a:ext cx="541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ñana es el sába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1219320" y="13716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día es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295280" y="3048120"/>
            <a:ext cx="541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ñana es el sába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Comment 5"/>
          <p:cNvSpPr/>
          <p:nvPr/>
        </p:nvSpPr>
        <p:spPr>
          <a:xfrm>
            <a:off x="1828800" y="11430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a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295280" y="30481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oy bien, gracias, ¿y tú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a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295280" y="304812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oy bien, gracias, ¿y tú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omment 5"/>
          <p:cNvSpPr/>
          <p:nvPr/>
        </p:nvSpPr>
        <p:spPr>
          <a:xfrm>
            <a:off x="182880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a, ¿________ está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a, ¿________ está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Comment 6"/>
          <p:cNvSpPr/>
          <p:nvPr/>
        </p:nvSpPr>
        <p:spPr>
          <a:xfrm>
            <a:off x="3352680" y="121932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n las chicas de Colomb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Sara y Jul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n las chicas de Colomb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Sara y Jul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Comment 6"/>
          <p:cNvSpPr/>
          <p:nvPr/>
        </p:nvSpPr>
        <p:spPr>
          <a:xfrm>
            <a:off x="1828800" y="6858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295280" y="27432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 ir al c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l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295280" y="304812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va, la novia de Rober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l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295280" y="304812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va, la novia de Rober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Comment 4"/>
          <p:cNvSpPr/>
          <p:nvPr/>
        </p:nvSpPr>
        <p:spPr>
          <a:xfrm>
            <a:off x="160020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914400" y="29718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Cartagena, una ciudad costera de Colomb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Comment 4"/>
          <p:cNvSpPr/>
          <p:nvPr/>
        </p:nvSpPr>
        <p:spPr>
          <a:xfrm>
            <a:off x="3124080" y="4952880"/>
            <a:ext cx="23623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914400" y="29718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Cartagena, una ciudad costera de Colomb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Comment 4"/>
          <p:cNvSpPr/>
          <p:nvPr/>
        </p:nvSpPr>
        <p:spPr>
          <a:xfrm>
            <a:off x="2438280" y="1219320"/>
            <a:ext cx="23623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abe la respue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Comment 3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Comment 4"/>
          <p:cNvSpPr/>
          <p:nvPr/>
        </p:nvSpPr>
        <p:spPr>
          <a:xfrm>
            <a:off x="106668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Comment 5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219320" y="27432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 lo s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abe la respue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Comment 4"/>
          <p:cNvSpPr/>
          <p:nvPr/>
        </p:nvSpPr>
        <p:spPr>
          <a:xfrm>
            <a:off x="1600200" y="4572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Comment 5"/>
          <p:cNvSpPr/>
          <p:nvPr/>
        </p:nvSpPr>
        <p:spPr>
          <a:xfrm>
            <a:off x="106668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Comment 6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219320" y="27432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 lo s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esta fin de sem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219320" y="27432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ienso ir al cine para ver una nueva pelícu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Comment 5"/>
          <p:cNvSpPr/>
          <p:nvPr/>
        </p:nvSpPr>
        <p:spPr>
          <a:xfrm>
            <a:off x="99072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Comment 6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esta fin de sem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219320" y="27432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ienso ir al cine para ver una nueva pelícu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Comment 5"/>
          <p:cNvSpPr/>
          <p:nvPr/>
        </p:nvSpPr>
        <p:spPr>
          <a:xfrm>
            <a:off x="1752480" y="380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Comment 6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 la pelícu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295280" y="3048120"/>
            <a:ext cx="67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 llama “Tortilla Soup” con Hector Elizon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 la pelícu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295280" y="3048120"/>
            <a:ext cx="67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 llama “Tortilla Soup” con Hector Elizon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Comment 6"/>
          <p:cNvSpPr/>
          <p:nvPr/>
        </p:nvSpPr>
        <p:spPr>
          <a:xfrm>
            <a:off x="1676520" y="6858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295280" y="27432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 ir al c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Comment 5"/>
          <p:cNvSpPr/>
          <p:nvPr/>
        </p:nvSpPr>
        <p:spPr>
          <a:xfrm>
            <a:off x="1905120" y="6858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121932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A ________ hora empieza la pelícu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219320" y="274320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película empieza a las ocho y die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121932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A ________ hora empieza la pelícu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219320" y="274320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película empieza a las ocho y die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Comment 5"/>
          <p:cNvSpPr/>
          <p:nvPr/>
        </p:nvSpPr>
        <p:spPr>
          <a:xfrm>
            <a:off x="2362320" y="5335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219320" y="83808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cuesta un bille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371600" y="274320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siete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Comment 6"/>
          <p:cNvSpPr/>
          <p:nvPr/>
        </p:nvSpPr>
        <p:spPr>
          <a:xfrm>
            <a:off x="6095880" y="4952880"/>
            <a:ext cx="27432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1219320" y="83808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cuesta un bille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371600" y="27432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siete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Comment 4"/>
          <p:cNvSpPr/>
          <p:nvPr/>
        </p:nvSpPr>
        <p:spPr>
          <a:xfrm>
            <a:off x="1600200" y="609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Comment 6"/>
          <p:cNvSpPr/>
          <p:nvPr/>
        </p:nvSpPr>
        <p:spPr>
          <a:xfrm>
            <a:off x="6095880" y="4952880"/>
            <a:ext cx="27432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vuelven ustedes en cas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295280" y="30481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lvimos a eso de las o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Comment 4"/>
          <p:cNvSpPr/>
          <p:nvPr/>
        </p:nvSpPr>
        <p:spPr>
          <a:xfrm>
            <a:off x="3276720" y="4952880"/>
            <a:ext cx="25905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Comment 6"/>
          <p:cNvSpPr/>
          <p:nvPr/>
        </p:nvSpPr>
        <p:spPr>
          <a:xfrm>
            <a:off x="6095880" y="4952880"/>
            <a:ext cx="2590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vuelven ustedes en cas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1295280" y="30481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lvimos a eso de las o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Comment 4"/>
          <p:cNvSpPr/>
          <p:nvPr/>
        </p:nvSpPr>
        <p:spPr>
          <a:xfrm>
            <a:off x="3276720" y="4952880"/>
            <a:ext cx="25905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Comment 6"/>
          <p:cNvSpPr/>
          <p:nvPr/>
        </p:nvSpPr>
        <p:spPr>
          <a:xfrm>
            <a:off x="1828800" y="609480"/>
            <a:ext cx="2590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tá mi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á en el escritor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Comment 4"/>
          <p:cNvSpPr/>
          <p:nvPr/>
        </p:nvSpPr>
        <p:spPr>
          <a:xfrm>
            <a:off x="571500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Comment 6"/>
          <p:cNvSpPr/>
          <p:nvPr/>
        </p:nvSpPr>
        <p:spPr>
          <a:xfrm>
            <a:off x="320040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tá mi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á en el escritor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Comment 4"/>
          <p:cNvSpPr/>
          <p:nvPr/>
        </p:nvSpPr>
        <p:spPr>
          <a:xfrm>
            <a:off x="160020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Comment 6"/>
          <p:cNvSpPr/>
          <p:nvPr/>
        </p:nvSpPr>
        <p:spPr>
          <a:xfrm>
            <a:off x="319896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1219320" y="137160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es el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25 centav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Comment 4"/>
          <p:cNvSpPr/>
          <p:nvPr/>
        </p:nvSpPr>
        <p:spPr>
          <a:xfrm>
            <a:off x="3200400" y="4952880"/>
            <a:ext cx="2666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Comment 6"/>
          <p:cNvSpPr/>
          <p:nvPr/>
        </p:nvSpPr>
        <p:spPr>
          <a:xfrm>
            <a:off x="6095880" y="4952880"/>
            <a:ext cx="25146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a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1219320" y="137160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es el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25 centav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Comment 4"/>
          <p:cNvSpPr/>
          <p:nvPr/>
        </p:nvSpPr>
        <p:spPr>
          <a:xfrm>
            <a:off x="1905120" y="1143000"/>
            <a:ext cx="2666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Comment 6"/>
          <p:cNvSpPr/>
          <p:nvPr/>
        </p:nvSpPr>
        <p:spPr>
          <a:xfrm>
            <a:off x="6095880" y="4952880"/>
            <a:ext cx="25146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a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profesor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señor Widergr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s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una calculad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s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una calculad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Comment 5"/>
          <p:cNvSpPr/>
          <p:nvPr/>
        </p:nvSpPr>
        <p:spPr>
          <a:xfrm>
            <a:off x="175248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1219320" y="137160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cuesta esta blusa blan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35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Comment 4"/>
          <p:cNvSpPr/>
          <p:nvPr/>
        </p:nvSpPr>
        <p:spPr>
          <a:xfrm>
            <a:off x="3124080" y="4952880"/>
            <a:ext cx="26672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Comment 6"/>
          <p:cNvSpPr/>
          <p:nvPr/>
        </p:nvSpPr>
        <p:spPr>
          <a:xfrm>
            <a:off x="6095880" y="4952880"/>
            <a:ext cx="25146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a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1219320" y="137160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cuesta esta blusa blan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35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Comment 4"/>
          <p:cNvSpPr/>
          <p:nvPr/>
        </p:nvSpPr>
        <p:spPr>
          <a:xfrm>
            <a:off x="1905120" y="1143000"/>
            <a:ext cx="2666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Comment 6"/>
          <p:cNvSpPr/>
          <p:nvPr/>
        </p:nvSpPr>
        <p:spPr>
          <a:xfrm>
            <a:off x="6095880" y="4952880"/>
            <a:ext cx="25146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a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7"/>
          <p:cNvSpPr/>
          <p:nvPr/>
        </p:nvSpPr>
        <p:spPr>
          <a:xfrm>
            <a:off x="1523880" y="1219320"/>
            <a:ext cx="6172200" cy="4419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profesor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señor Widergr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número de teléfo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4-46-12-1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número de teléfo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4-46-12-1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mment 6"/>
          <p:cNvSpPr/>
          <p:nvPr/>
        </p:nvSpPr>
        <p:spPr>
          <a:xfrm>
            <a:off x="1752480" y="114300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10:01:47Z</dcterms:created>
  <dc:creator>Paul Widergren</dc:creator>
  <dc:description/>
  <dc:language>en-US</dc:language>
  <cp:lastModifiedBy>Jackson</cp:lastModifiedBy>
  <dcterms:modified xsi:type="dcterms:W3CDTF">2011-03-17T04:56:26Z</dcterms:modified>
  <cp:revision>6</cp:revision>
  <dc:subject/>
  <dc:title>No Slide Title</dc:title>
</cp:coreProperties>
</file>