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8B2-ACDE-47E8-839A-0824FF9B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BC6-3E82-4195-84B1-6777FD5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BB6-79B3-4A68-9FE0-CC76A13E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3F3-1E9B-4477-AF93-D1FC97E3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78D7-0CBA-427D-BEC8-4A5FBC4E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EEF9-C94F-4498-AE8B-CC4D1236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6D0F-FE6C-4E40-A485-17EF7470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055D-3C28-4A4A-99B7-8F244078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D078-F2B7-4A83-A5C8-9D658B65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BA43-FF06-41D6-B016-61FD06C6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FE5B-AAE1-4149-B9EC-84380CD9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D01-C68D-4092-971D-9E3017D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915B-6F13-4F36-B6FB-963EAA7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25D0-66BB-4114-A005-0CE37E22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B571-DABC-4F13-9BBC-CA500654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B0DB-726E-4B85-953E-E7A0AA7F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2736-C829-48DC-AA48-4A571F22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51A-F2A6-4440-9D9A-64721109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2CD-616D-4A12-AA7F-C3A5B6D6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63F-6963-4A70-9096-73FB4188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881-A377-49F7-B6FD-9ACB09E7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27A-47AA-495A-8EFD-E5CC206A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C09-BA80-49DA-B272-92D8DF88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D62-6817-4DC6-BFE0-D17F0E5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7938-211B-4EBB-92A9-EFAB9F6850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92B-3DF1-42E0-81C6-5643FF8CB3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Question Words 4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Footer Placeholder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 haces ah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4267080"/>
            <a:ext cx="533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cabo de leer el periódico.  Pienso ver la tel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la fecha de tu cumpleañ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600200" y="51055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el dos de febrer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son los países de Sudaméric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600200" y="4800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on Colombia, Venezuela, Peru.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la capital de Uruguay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676520" y="50292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Montevide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la capital de Cub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600200" y="4952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la Haban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el teléfono de la escuel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600200" y="480060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el 4-46-22-2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el cumpleaños de Patricio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600200" y="480060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el 17 de marz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 tiempo hace hoy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buen tiemp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la fecha de hoy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23880" y="472428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el 30 de septiembr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días hay en el mes de septiembr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676520" y="48006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y 30 días en septiembr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Comment 4"/>
          <p:cNvSpPr/>
          <p:nvPr/>
        </p:nvSpPr>
        <p:spPr>
          <a:xfrm>
            <a:off x="1143000" y="2592360"/>
            <a:ext cx="2666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tal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Comment 5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   días hay en el mes octubr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600200" y="47242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y 31 días en el mes octubr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 color es la pizar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676520" y="4800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blan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la capital de Chil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600200" y="51055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Santiag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la capital de Españ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676520" y="510552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Madr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   días hay en una seman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47242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y 7 días en una sema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   días hay un año entero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600200" y="472428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y trescientos sesenta y cinco días en un año enter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762120" y="21337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 haces cuando hace buen tiempo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447920" y="4038480"/>
            <a:ext cx="6781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uando hace buen tiempo, me gusta trabajar fuera de la cas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Comment 4"/>
          <p:cNvSpPr/>
          <p:nvPr/>
        </p:nvSpPr>
        <p:spPr>
          <a:xfrm>
            <a:off x="1219320" y="198108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De________  color es tu coch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roj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Comment 4"/>
          <p:cNvSpPr/>
          <p:nvPr/>
        </p:nvSpPr>
        <p:spPr>
          <a:xfrm>
            <a:off x="2286000" y="259092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tu nombr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nombre es Pabl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años tien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676520" y="42670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engo dieciséis añ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tu teléfono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el 4-46-21-0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28600" y="2743200"/>
            <a:ext cx="8534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 buen tiempo hoy, ¿______?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434340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í, hace muy buen tiemp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Comment 4"/>
          <p:cNvSpPr/>
          <p:nvPr/>
        </p:nvSpPr>
        <p:spPr>
          <a:xfrm>
            <a:off x="6400800" y="2592360"/>
            <a:ext cx="1600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 clases tienes por la mañan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76520" y="457200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engo cuatro clases por la maña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 estudiantes hay en la clase de español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676520" y="457200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y diez estudiantes en la clase de españ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_ son esas chica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295280" y="4495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on Sara, Julia, y Ev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  te llama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 llamo Juli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1143000" y="2592360"/>
            <a:ext cx="20574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De ________ eres, Juli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oy de Colombia, de Cartage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Comment 4"/>
          <p:cNvSpPr/>
          <p:nvPr/>
        </p:nvSpPr>
        <p:spPr>
          <a:xfrm>
            <a:off x="1981080" y="259236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hermanos tien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676520" y="45720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engo dos herman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 años tien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engo dieciocho añ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es Juli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676520" y="42670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bonita y simpáti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Comment 4"/>
          <p:cNvSpPr/>
          <p:nvPr/>
        </p:nvSpPr>
        <p:spPr>
          <a:xfrm>
            <a:off x="1143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son los padres de Juli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676520" y="47242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on inteligentes y interesant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Comment 4"/>
          <p:cNvSpPr/>
          <p:nvPr/>
        </p:nvSpPr>
        <p:spPr>
          <a:xfrm>
            <a:off x="1295280" y="2590920"/>
            <a:ext cx="2438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vas a hacer este fin de seman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76520" y="48006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oy al cine para ver una pelícu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es tu prim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alta y rubia. Es muy popul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Comment 4"/>
          <p:cNvSpPr/>
          <p:nvPr/>
        </p:nvSpPr>
        <p:spPr>
          <a:xfrm>
            <a:off x="1143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está usted, señor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600200" y="4800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ien, gracias, ¿y usted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838080" y="2438280"/>
            <a:ext cx="7010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u cumpleaños es mañana,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600200" y="4800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, mi cumpleaños es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Comment 4"/>
          <p:cNvSpPr/>
          <p:nvPr/>
        </p:nvSpPr>
        <p:spPr>
          <a:xfrm>
            <a:off x="1371600" y="3429000"/>
            <a:ext cx="2666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está tu amiga Susan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600200" y="48006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en el gimnasio jugando al balonces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Comment 4"/>
          <p:cNvSpPr/>
          <p:nvPr/>
        </p:nvSpPr>
        <p:spPr>
          <a:xfrm>
            <a:off x="1143000" y="2592360"/>
            <a:ext cx="2133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62120" y="2743200"/>
            <a:ext cx="76197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eres de Jasper, ¿______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correcto.  Vivo en Jaspe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Comment 4"/>
          <p:cNvSpPr/>
          <p:nvPr/>
        </p:nvSpPr>
        <p:spPr>
          <a:xfrm>
            <a:off x="5867280" y="2592360"/>
            <a:ext cx="1447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viv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295280" y="42670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ivo en Jasper, Arkans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Comment 4"/>
          <p:cNvSpPr/>
          <p:nvPr/>
        </p:nvSpPr>
        <p:spPr>
          <a:xfrm>
            <a:off x="1143000" y="259236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62120" y="27432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En ______ parte de Arkansas es Jasper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600200" y="45720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Jasper es en el norte de Arkansa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Comment 4"/>
          <p:cNvSpPr/>
          <p:nvPr/>
        </p:nvSpPr>
        <p:spPr>
          <a:xfrm>
            <a:off x="2209680" y="2592360"/>
            <a:ext cx="1447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está el señor Emmett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66680" y="45720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á en su oficina hablando con un estudiant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 van ustedes después de la escuel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676520" y="47242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amos a WalMart en Harrison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 vas ah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676520" y="47242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oy a mi clase de álgebr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tu profesión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oy reportero para el periódico de aquí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 van Julia y Sa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676520" y="47242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an a un restaurante mexica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838080" y="220968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es tu amig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447920" y="3657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mi amiga Sar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Comment 4"/>
          <p:cNvSpPr/>
          <p:nvPr/>
        </p:nvSpPr>
        <p:spPr>
          <a:xfrm>
            <a:off x="1219320" y="205740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trabaja Pablo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143000" y="41911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rabaja como mesero en un restaurante mexica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viven la madre y la hermana de Pablo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143000" y="47242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iven en México, D.F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vas tú ah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676520" y="426708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oy al gimnasio para jugar al balonces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 te gustaría cenar hoy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676520" y="480060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amos a McDonald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Comment 4"/>
          <p:cNvSpPr/>
          <p:nvPr/>
        </p:nvSpPr>
        <p:spPr>
          <a:xfrm>
            <a:off x="1143000" y="2592360"/>
            <a:ext cx="2133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va, señor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676520" y="426708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isiera hablar con el director, por favo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es tu clase de español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60020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tengo a las ocho de la maña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838080" y="22096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_ es el español una lengua important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685800" y="4191120"/>
            <a:ext cx="7086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orque hay muchos hispanohablantes que viven en los Estados Unid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examen fue muy dificil,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3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í, el examen fue terribl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Comment 4"/>
          <p:cNvSpPr/>
          <p:nvPr/>
        </p:nvSpPr>
        <p:spPr>
          <a:xfrm>
            <a:off x="1447920" y="3657600"/>
            <a:ext cx="23619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es tu dirección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la calle Cabeza de Vaca 24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empieza la películ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60020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mpieza a las siete y media de la noch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van ustedes en vacacion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1600200" y="46483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amos en vacaciones en una sema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762120" y="2743200"/>
            <a:ext cx="79246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van en vacacion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60020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amos a Nueva Orleans este añ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trabaja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00200" y="46483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rabajo en WalMar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838080" y="220968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trabaja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447920" y="365760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rabajo los lunes, miércoles, y viernes. A veces tengo que trabajar los fines de sema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Comment 5"/>
          <p:cNvSpPr/>
          <p:nvPr/>
        </p:nvSpPr>
        <p:spPr>
          <a:xfrm>
            <a:off x="1219320" y="205740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 es el profesor de músic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295280" y="4495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el señor Brittain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Comment 4"/>
          <p:cNvSpPr/>
          <p:nvPr/>
        </p:nvSpPr>
        <p:spPr>
          <a:xfrm>
            <a:off x="1219320" y="205740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_ es el novio de Ev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295280" y="4495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Rober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Comment 4"/>
          <p:cNvSpPr/>
          <p:nvPr/>
        </p:nvSpPr>
        <p:spPr>
          <a:xfrm>
            <a:off x="12193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838080" y="2209680"/>
            <a:ext cx="701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_ quiere ir conmigo al centro comercial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219320" y="4952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quiero ir contig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Comment 4"/>
          <p:cNvSpPr/>
          <p:nvPr/>
        </p:nvSpPr>
        <p:spPr>
          <a:xfrm>
            <a:off x="12193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_ son usted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143000" y="4191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omos Miguel y Tuli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Comment 4"/>
          <p:cNvSpPr/>
          <p:nvPr/>
        </p:nvSpPr>
        <p:spPr>
          <a:xfrm>
            <a:off x="1523880" y="20574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_ te gusta el parqu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143000" y="4191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que... Es ideal para pasear con el perr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día es hoy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oy es lun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Comment 5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_ no vamos al centro comercial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143000" y="4191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¡Buena idea!  Me encanta ir de compra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_ llegas tarde a clase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143000" y="4191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 siento.  El autobús fue tard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___ no tienes la tare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143000" y="4191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 siento.  El perro la comió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A ______ hora empieza tu trabajo hoy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1447920" y="43434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trabajo empieza a las seis de la tarde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Comment 4"/>
          <p:cNvSpPr/>
          <p:nvPr/>
        </p:nvSpPr>
        <p:spPr>
          <a:xfrm>
            <a:off x="1981080" y="1981080"/>
            <a:ext cx="1371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A ______ hora es tu clase de matemática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1447920" y="43434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tengo a las diez y media de la maña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Comment 4"/>
          <p:cNvSpPr/>
          <p:nvPr/>
        </p:nvSpPr>
        <p:spPr>
          <a:xfrm>
            <a:off x="1981080" y="1981080"/>
            <a:ext cx="1371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Oval 5"/>
          <p:cNvSpPr/>
          <p:nvPr/>
        </p:nvSpPr>
        <p:spPr>
          <a:xfrm>
            <a:off x="1600200" y="1219320"/>
            <a:ext cx="5257800" cy="4724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  día es mañan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 el primer de octubr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________ son los meses de verano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523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on el junio, julio y agos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Comment 4"/>
          <p:cNvSpPr/>
          <p:nvPr/>
        </p:nvSpPr>
        <p:spPr>
          <a:xfrm>
            <a:off x="1143000" y="259236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0:03:36Z</dcterms:created>
  <dc:creator>Paul Widergren</dc:creator>
  <dc:description/>
  <dc:language>en-US</dc:language>
  <cp:lastModifiedBy>Jackson</cp:lastModifiedBy>
  <dcterms:modified xsi:type="dcterms:W3CDTF">2011-03-17T04:57:06Z</dcterms:modified>
  <cp:revision>4</cp:revision>
  <dc:subject/>
  <dc:title>No Slide Title</dc:title>
</cp:coreProperties>
</file>