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2CE-A566-4C76-8EB5-DD46D45B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8E5-55F0-4F27-899B-CF3E2BFB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1F9-2A8C-4A79-B13A-E6FDC27E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733-481F-4986-807A-5B84FB42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D687-4A26-4916-BA9E-F9F4C793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29F6-D174-44AD-96CE-692B607F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460A-DE49-4136-BDC3-7FFD5A26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0794-13D8-4C86-9F69-82F74C92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3ECF-0DCC-406F-B0AF-1644CA50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A60C-F953-4EC4-98AC-CD15E712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D233-8390-4848-8874-852641A7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0A1-CB72-4E11-B9A9-157F8622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D7E4-B390-44E7-913D-53F5C55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0A9F-5C7F-432B-BCBD-3419D9B9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9D06-E2CA-4703-9907-57B8979F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EA3C-06CD-4F84-A060-4AF3C4C0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BD52-B982-4B3E-AF14-F8D8C831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911-76C2-49CD-AABA-0C3D8222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1BE-7F08-45C2-BC3C-AA368F96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53A-D26D-4CE3-8452-01ADD868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DC7-B596-47D2-B230-A9FFFE9B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CEB-43BB-4787-9445-8088177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3C3-11FF-41E3-928E-012C3B89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D58-9451-464C-B272-EAFDE455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44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764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5CC4-A591-41EB-95BF-3BD23F44452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27F5-EE3E-471B-B2FF-4157FCE156C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590920" y="2362320"/>
            <a:ext cx="3809880" cy="369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2120" y="2743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puertas hay en la sala de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523880" y="4876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cuatro puert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62120" y="2743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pupitres hay en la sala de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523880" y="46483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veintisiete pupit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haces aho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676520" y="4267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preparando la cena. ¿Quieres ayudar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fecha del Día de Acción de Graci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600200" y="44956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veinticuatro de nov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países de Europ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600200" y="48006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spaña, Portugal, Italia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capital de Costa 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76520" y="50292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San Jo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cuesta este libro de Cub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600200" y="4952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1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4"/>
          <p:cNvSpPr/>
          <p:nvPr/>
        </p:nvSpPr>
        <p:spPr>
          <a:xfrm>
            <a:off x="1143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el profesión de tu pap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600200" y="4800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baja en una ofic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cumples añ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00200" y="4800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 cumpleaños es el próximo lu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tiempo hace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ueve y hace vie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2666880"/>
            <a:ext cx="8381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cuesta la chaque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cincuenta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mment 5"/>
          <p:cNvSpPr/>
          <p:nvPr/>
        </p:nvSpPr>
        <p:spPr>
          <a:xfrm>
            <a:off x="83808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fecha de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3880" y="4724280"/>
            <a:ext cx="61722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1</a:t>
            </a:r>
            <a:r>
              <a:rPr b="0" lang="en-US" sz="4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de nov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cuesta el disco compacto de Sant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676520" y="48006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a eso de los 1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mment 4"/>
          <p:cNvSpPr/>
          <p:nvPr/>
        </p:nvSpPr>
        <p:spPr>
          <a:xfrm>
            <a:off x="1143000" y="2592360"/>
            <a:ext cx="2666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  vas a comprar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600200" y="47242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comprarlo después de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tiempo hace en invierno en Minneso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676520" y="48006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ce mucho frío y nie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62120" y="2743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fecha del día de independencía en Méx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600200" y="5105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17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descubrió el nuevo mundo Columb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57200" y="46483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 el año mil cuatrocientos noventa y d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  días hay en el mes de febrer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85800" y="47242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28 días en febrero y a veces 2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minutos hay una ho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838080" y="4724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sesenta minutos en una h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62120" y="21337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haces cuando hace mal tiemp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447920" y="40384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ando hace mal tiempo, veo la tele o leo un lib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4"/>
          <p:cNvSpPr/>
          <p:nvPr/>
        </p:nvSpPr>
        <p:spPr>
          <a:xfrm>
            <a:off x="1219320" y="198108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62120" y="2743200"/>
            <a:ext cx="7696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 costó tu coch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676520" y="42670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tó 15 mil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Comment 4"/>
          <p:cNvSpPr/>
          <p:nvPr/>
        </p:nvSpPr>
        <p:spPr>
          <a:xfrm>
            <a:off x="1143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tu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7-41-12-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es tu nomb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 nombre es Sa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es el número de teléfono d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676520" y="4800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5-55-52-6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28600" y="2743200"/>
            <a:ext cx="8534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ú eres de aquí, ¿______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62120" y="434340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Soy de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omment 4"/>
          <p:cNvSpPr/>
          <p:nvPr/>
        </p:nvSpPr>
        <p:spPr>
          <a:xfrm>
            <a:off x="4724280" y="2592360"/>
            <a:ext cx="1600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 está corre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676520" y="457200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rreos está al lado de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 está el ban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676520" y="457200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 banco está enfrente de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son tus amig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295280" y="4495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, Julia, y 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Comment 4"/>
          <p:cNvSpPr/>
          <p:nvPr/>
        </p:nvSpPr>
        <p:spPr>
          <a:xfrm>
            <a:off x="12193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 se llama la profesora de teatr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676520" y="48769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Violeta Astor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omment 4"/>
          <p:cNvSpPr/>
          <p:nvPr/>
        </p:nvSpPr>
        <p:spPr>
          <a:xfrm>
            <a:off x="1143000" y="2592360"/>
            <a:ext cx="20574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son los estudiantes de ar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676520" y="45720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de Colombia, de Cartage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4"/>
          <p:cNvSpPr/>
          <p:nvPr/>
        </p:nvSpPr>
        <p:spPr>
          <a:xfrm>
            <a:off x="1981080" y="259236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685800" y="2133720"/>
            <a:ext cx="73915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estudiantes hay en la escuela de arte Simon Boliv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838080" y="49528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a eso de doscientos estudiantes al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4"/>
          <p:cNvSpPr/>
          <p:nvPr/>
        </p:nvSpPr>
        <p:spPr>
          <a:xfrm>
            <a:off x="1143000" y="198108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años tien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676520" y="46483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ene veintidós añ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vas a hacer este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676520" y="4800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l restaurante méxicano con mi fami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85800" y="42670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ómico y simpático.  Tiene tale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4"/>
          <p:cNvSpPr/>
          <p:nvPr/>
        </p:nvSpPr>
        <p:spPr>
          <a:xfrm>
            <a:off x="1143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Robert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0880" y="41148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uen músico. Toca el saxofón y la clarinete muy b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mment 4"/>
          <p:cNvSpPr/>
          <p:nvPr/>
        </p:nvSpPr>
        <p:spPr>
          <a:xfrm>
            <a:off x="1143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v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42670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antipática y dogm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4"/>
          <p:cNvSpPr/>
          <p:nvPr/>
        </p:nvSpPr>
        <p:spPr>
          <a:xfrm>
            <a:off x="1143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novio de Ev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295280" y="4495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12193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990720" y="4267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restaurante méxicano donde trabaj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mment 4"/>
          <p:cNvSpPr/>
          <p:nvPr/>
        </p:nvSpPr>
        <p:spPr>
          <a:xfrm>
            <a:off x="1143000" y="2592360"/>
            <a:ext cx="2133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762120" y="2743200"/>
            <a:ext cx="8076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blo es de México, ¿______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600200" y="3886200"/>
            <a:ext cx="5334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orrecto.  Es del D.F. pero vive ahora en Colo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Comment 4"/>
          <p:cNvSpPr/>
          <p:nvPr/>
        </p:nvSpPr>
        <p:spPr>
          <a:xfrm>
            <a:off x="6248520" y="2592360"/>
            <a:ext cx="1447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vi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295280" y="42670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e en Cartegena.  Estudia con una b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4"/>
          <p:cNvSpPr/>
          <p:nvPr/>
        </p:nvSpPr>
        <p:spPr>
          <a:xfrm>
            <a:off x="1143000" y="259236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762120" y="27432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tudia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600200" y="39625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udia en la escuela de arte Simón Bolív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Comment 4"/>
          <p:cNvSpPr/>
          <p:nvPr/>
        </p:nvSpPr>
        <p:spPr>
          <a:xfrm>
            <a:off x="121932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trabaja Pablo en el restaurante méxic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66680" y="45720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rque tiene que ganar dine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Comment 4"/>
          <p:cNvSpPr/>
          <p:nvPr/>
        </p:nvSpPr>
        <p:spPr>
          <a:xfrm>
            <a:off x="1143000" y="2592360"/>
            <a:ext cx="2514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an Sara y Jul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762120" y="47242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n al restaurante méxicano donde trabaja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día es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y es lu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mment 5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es Ele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523880" y="41911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ena es la hermana menor de Sa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son Julia y Sa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676520" y="47242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nuevas amigas de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Comment 4"/>
          <p:cNvSpPr/>
          <p:nvPr/>
        </p:nvSpPr>
        <p:spPr>
          <a:xfrm>
            <a:off x="129528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el señor Tor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219320" y="44956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director de la escuela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4"/>
          <p:cNvSpPr/>
          <p:nvPr/>
        </p:nvSpPr>
        <p:spPr>
          <a:xfrm>
            <a:off x="1219320" y="205740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143000" y="41911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e en Cartegena, Colo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n la madre y la hermana d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143000" y="47242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en en México, D.F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va Pablo después de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838080" y="472428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 a su trabajo en el restaurante méxic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 vas a las once y cuarto de la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600200" y="457200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mi clase de matémati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 hora es tu clase de matemátic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43434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tengo a las once y cuarto de la mañ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Comment 4"/>
          <p:cNvSpPr/>
          <p:nvPr/>
        </p:nvSpPr>
        <p:spPr>
          <a:xfrm>
            <a:off x="1981080" y="1981080"/>
            <a:ext cx="1371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llegas tarde a cla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143000" y="4191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 siento.  El autobús fue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762120" y="2286000"/>
            <a:ext cx="70102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cuesta una nueva computadora aquí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990720" y="48006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malmente a eso de mil dólares, señ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Comment 4"/>
          <p:cNvSpPr/>
          <p:nvPr/>
        </p:nvSpPr>
        <p:spPr>
          <a:xfrm>
            <a:off x="1219320" y="213372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años tien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676520" y="426708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go dieciséis añ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tu clase de españo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60020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tengo a las ocho de la mañ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838080" y="22096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no vamos al cine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685800" y="41911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¿por qué 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685800" y="22096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 cumpleaños es maña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600200" y="44956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voy a cumplir diecisiete añ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omment 4"/>
          <p:cNvSpPr/>
          <p:nvPr/>
        </p:nvSpPr>
        <p:spPr>
          <a:xfrm>
            <a:off x="1371600" y="312408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60020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mpieza a las tres y cuarto de la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trabaj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600200" y="46483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bajo en Bob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838080" y="220968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trabaj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447920" y="3657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bajo todos los días después de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Comment 5"/>
          <p:cNvSpPr/>
          <p:nvPr/>
        </p:nvSpPr>
        <p:spPr>
          <a:xfrm>
            <a:off x="1219320" y="205740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 hora empieza tu trabajo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447920" y="43434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 trabajo empieza a las cuatro de la tarde h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Comment 4"/>
          <p:cNvSpPr/>
          <p:nvPr/>
        </p:nvSpPr>
        <p:spPr>
          <a:xfrm>
            <a:off x="1981080" y="1981080"/>
            <a:ext cx="1371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533520" y="27432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examen en la clase de españo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990720" y="4800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 examen es el jueves de esta sem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Comment 4"/>
          <p:cNvSpPr/>
          <p:nvPr/>
        </p:nvSpPr>
        <p:spPr>
          <a:xfrm>
            <a:off x="106668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533520" y="27432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necesario estudi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990720" y="4800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 examen va a ser dific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Comment 4"/>
          <p:cNvSpPr/>
          <p:nvPr/>
        </p:nvSpPr>
        <p:spPr>
          <a:xfrm>
            <a:off x="106668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2"/>
          <p:cNvSpPr txBox="1"/>
          <p:nvPr/>
        </p:nvSpPr>
        <p:spPr>
          <a:xfrm>
            <a:off x="3505320" y="3733920"/>
            <a:ext cx="268128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2" name="Footer Placeholder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tu profe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reportero para el periódico de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tu dirección en intern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5800" y="46483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abezadevaca@yahoo.c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676520" y="426708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miércoles veintiséis de octu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0:03:36Z</dcterms:created>
  <dc:creator>Paul Widergren</dc:creator>
  <dc:description/>
  <dc:language>en-US</dc:language>
  <cp:lastModifiedBy>Jackson</cp:lastModifiedBy>
  <dcterms:modified xsi:type="dcterms:W3CDTF">2011-03-17T04:57:33Z</dcterms:modified>
  <cp:revision>5</cp:revision>
  <dc:subject/>
  <dc:title>No Slide Title</dc:title>
</cp:coreProperties>
</file>