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C56-944D-4164-8408-1A2EA4D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BBF-CB94-4811-B571-4160049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72E-87F3-4EBC-81E2-CA26125C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56A-7810-4594-B7E0-9E1A7930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986E-0B85-4026-8993-DC66812F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8B01-A69B-42FF-A905-2461C4C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BA70-981B-4A86-B35E-EDEDA64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BB8-85AB-44EB-B0D2-F7CB1E8C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7503-CAC0-46B6-83CB-EA9BB6F4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7EF0-FC19-4CF4-BB3D-6FB319A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FB72-56C2-42E3-A1F5-406B165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8B8-CD54-4F33-8592-7C81DE9E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6611-1893-4629-A1D3-4411DE3B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39B4-C1C1-466B-AFCD-488ED68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F6D-099C-43C5-A155-D23A8470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2817-E117-4C05-93D8-6EB21575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5CB-0746-44D3-BEC5-13309ACA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BB0-E9B4-4387-A987-AAEBC4C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DDE-0EB5-46D2-AD88-BF6C239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8FD-D899-4916-AB09-6EECDD1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642-8CB9-4051-9E58-C1F295D3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554-78B3-4EB6-AC17-824566D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DDD-F2C3-474F-B8B6-9D17708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84B-15D6-4162-A832-F136E0F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15920"/>
              <a:ext cx="9134640" cy="661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D87-530A-4B19-93C5-9140295EC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115920"/>
              <a:ext cx="9134640" cy="661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9E3-E2AF-47C1-AD44-1857D069627E}" type="slidenum"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Verb tense review 1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1143000" y="3657600"/>
            <a:ext cx="7086600" cy="2133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 / Future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/ Past Progressiv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 / 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los estudiantes - sentars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ient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están sentandose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van a sentarse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Next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evt="onNext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Next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9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los estudiantes - sentars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286000" y="1828800"/>
            <a:ext cx="45720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entaron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e estaban sent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286000" y="3276720"/>
            <a:ext cx="45720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entaban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0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1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evt="onNext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0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Next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0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Next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0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57200" y="304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padres – celebrar su aniversari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286000" y="1828800"/>
            <a:ext cx="609588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estan celebr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van a celebr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9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Next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1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Next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1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Next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1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57200" y="304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padres – celebrar su aniversari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286000" y="1828800"/>
            <a:ext cx="62485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ro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staban celebr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86000" y="3276720"/>
            <a:ext cx="64771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b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Next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2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Next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2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Next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2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– andar en el parqu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o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estoy and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voy a and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7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Next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3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Next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3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evt="onNext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– andar en el parqu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uve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estaba and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0" y="3276720"/>
            <a:ext cx="38098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6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Next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4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Next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evt="onNext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4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>
            <a:hlinkClick r:id="" action="ppaction://hlinkshowjump?jump=nextslide"/>
          </p:cNvPr>
          <p:cNvSpPr/>
          <p:nvPr/>
        </p:nvSpPr>
        <p:spPr>
          <a:xfrm>
            <a:off x="1447920" y="1905120"/>
            <a:ext cx="647676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- trabajar en el restaurant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o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estoy trabaj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voy a trabaj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9" name="AutoShape 11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Next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Next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Next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- trabajar en el restaurant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é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estaba trabaj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8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Next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Next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Next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– ver una película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es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estás vie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as a ve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Next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Next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Next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– ver una película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iste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estabas vie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0" y="3276720"/>
            <a:ext cx="37339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eías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Next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evt="onNext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Next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amigos y yo – jugar al béisbol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0" y="1828800"/>
            <a:ext cx="495288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amos..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0" y="3276720"/>
            <a:ext cx="65530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estamos jugando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vamos a jugar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Next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Next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Next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6094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amigos y yo – jugar al béisbol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1828800"/>
            <a:ext cx="45720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amos..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4800600"/>
            <a:ext cx="647676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nosotros estábamos jugando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86000" y="3276720"/>
            <a:ext cx="54100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ábamos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Next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Next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evt="onNext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6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– hablar por teléfon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286000" y="1828800"/>
            <a:ext cx="48769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a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está habl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va a habl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Next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7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Next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Next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– hablar por teléfon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ó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estaba habl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286000" y="3276720"/>
            <a:ext cx="46483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2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Next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8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Next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8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Next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32:13Z</dcterms:created>
  <dc:creator>Paul Widergren</dc:creator>
  <dc:description/>
  <dc:language>en-US</dc:language>
  <cp:lastModifiedBy>Jackson</cp:lastModifiedBy>
  <dcterms:modified xsi:type="dcterms:W3CDTF">2011-03-17T05:01:40Z</dcterms:modified>
  <cp:revision>5</cp:revision>
  <dc:subject/>
  <dc:title>Different tense of verbs</dc:title>
</cp:coreProperties>
</file>