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64C-F82B-41E1-9831-15F1E8FD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453-273A-4996-887D-12F5BE1C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9D2-063F-4CC7-9B98-0FBD3F17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06B-BC20-41BF-994E-3B51C8DF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4824-7A37-4C2D-B6FE-A3A781BB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35CD-ECD8-4E36-946E-DFB31D89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526-F411-4823-91A6-584F87A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304C-0E3A-4CFC-A0E7-33C8C4D8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F7F9-1BCD-4046-B423-8380FEA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B034-79B8-4277-AF36-E91B518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3EB-D572-42D5-8E1C-CBDE047B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C9C-D5BC-421C-B2AE-6C20500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7789-59A4-4873-9830-ACD9A7A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4687-F8D5-4741-8317-7E8ED45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865C-FAB4-4E6F-B6E2-B216E352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7D5-A376-46E8-8589-9C9D84E9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495-E1DD-4FEE-AB99-6AB73E28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0FA-568E-4DEC-9CA8-EC22293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A33-C24F-418F-87D8-17E0CD0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019-3145-42AB-A295-C9714288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014-BF26-4FD3-83DB-B127D439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85D-0C76-4A3D-A1D9-46A5197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505-6ED9-422A-BA6F-C3609DF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978-80FD-463D-A954-78D09B9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15920"/>
              <a:ext cx="9134640" cy="661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EB7-617F-4810-85DD-D39636BA0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115920"/>
              <a:ext cx="9134640" cy="661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D056-2C62-4CB1-B3F5-EFE61C3927F0}" type="slidenum"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Verb tense review 1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1143000" y="3657600"/>
            <a:ext cx="7086600" cy="2133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 / Future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/ Past Progressiv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 / 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los estudiantes - sentars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ient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están sentandose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van a sentarse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Next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evt="onNext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Next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9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los estudiantes - sentars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286000" y="1828800"/>
            <a:ext cx="45720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entaron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e estaban sent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286000" y="3276720"/>
            <a:ext cx="45720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e sentaban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0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1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evt="onNext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0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Next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0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Next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0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57200" y="304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padres – celebrar su aniversari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286000" y="1828800"/>
            <a:ext cx="609588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estan celebr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van a celebr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9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Next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1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Next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1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Next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1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57200" y="304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padres – celebrar su aniversari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286000" y="1828800"/>
            <a:ext cx="62485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ro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staban celebr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86000" y="3276720"/>
            <a:ext cx="64771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is padres celebraban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Next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2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Next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2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Next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2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– andar en el parqu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o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estoy and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voy a and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7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Next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3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Next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3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evt="onNext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– andar en el parqu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uve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estaba and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0" y="3276720"/>
            <a:ext cx="38098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and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6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Next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4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Next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evt="onNext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4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>
            <a:hlinkClick r:id="" action="ppaction://hlinkshowjump?jump=nextslide"/>
          </p:cNvPr>
          <p:cNvSpPr/>
          <p:nvPr/>
        </p:nvSpPr>
        <p:spPr>
          <a:xfrm>
            <a:off x="1447920" y="1905120"/>
            <a:ext cx="647676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- trabajar en el restaurant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o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estoy trabaj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voy a trabaj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9" name="AutoShape 11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Next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Next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Next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- trabajar en el restaurante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é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yo estaba trabaj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yo trabaj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8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Next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Next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Next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– ver una película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es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estás vie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as a ve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Next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Next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Next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– ver una película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iste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ú estabas vie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0" y="3276720"/>
            <a:ext cx="37339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tú veías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Next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evt="onNext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Next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amigos y yo – jugar al béisbol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0" y="1828800"/>
            <a:ext cx="495288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amos..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0" y="3276720"/>
            <a:ext cx="65530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estamos jugando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vamos a jugar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Next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Next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Next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6094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mis amigos y yo – jugar al béisbol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1828800"/>
            <a:ext cx="45720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amos..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4800600"/>
            <a:ext cx="647676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nosotros estábamos jugando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86000" y="3276720"/>
            <a:ext cx="541008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nosotros jugábamos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Next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Next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evt="onNext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6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– hablar por teléfon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286000" y="1828800"/>
            <a:ext cx="48769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a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0" y="3276720"/>
            <a:ext cx="617220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está hablando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286000" y="472428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va a hablar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28600" y="47242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Next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7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Next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Next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– hablar por teléfon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286000" y="1828800"/>
            <a:ext cx="350532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ó...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286000" y="4800600"/>
            <a:ext cx="617220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Sara estaba hablando…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286000" y="3276720"/>
            <a:ext cx="464832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Sara hablaba…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28600" y="18288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teri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28600" y="4800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28600" y="3276720"/>
            <a:ext cx="1828800" cy="1218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2" name="AutoShape 9">
            <a:hlinkClick r:id="" action="ppaction://hlinkshowjump?jump=nextslide"/>
          </p:cNvPr>
          <p:cNvSpPr/>
          <p:nvPr/>
        </p:nvSpPr>
        <p:spPr>
          <a:xfrm>
            <a:off x="7772400" y="62485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Next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8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Next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8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Next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32:13Z</dcterms:created>
  <dc:creator>Paul Widergren</dc:creator>
  <dc:description/>
  <dc:language>en-US</dc:language>
  <cp:lastModifiedBy>Jackson</cp:lastModifiedBy>
  <dcterms:modified xsi:type="dcterms:W3CDTF">2011-03-17T05:01:40Z</dcterms:modified>
  <cp:revision>5</cp:revision>
  <dc:subject/>
  <dc:title>Different tense of verbs</dc:title>
</cp:coreProperties>
</file>