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FBE-A201-4486-966F-2BBF5B5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C36-2677-463E-BF2C-39881157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26E-4072-45E6-A136-E0A1B93B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E1A-56F5-48C3-822D-C53B4890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A1B-70E7-45E3-98DD-0B9527EC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DC4-119E-4033-86D2-FEFB4BF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433F-31E3-4423-9D38-B851688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15B8-2DE6-4480-A887-83E8AEB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18CE-5EAD-46B0-8E94-307B9C03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933C-48D6-4006-8F04-DD28091E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E0C-189E-4710-A4B9-0F08374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B69-D20A-419F-B946-6748D4D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3FB-AEA4-4770-8CC2-1E8B9E4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C20-913B-4F77-BDD1-4015F21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0D8F-5759-4059-BA3D-835141BD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437F-9648-4888-9EBD-DEA54E95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870-EDAF-4B37-B4FC-2CA10530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ECF-3BFC-4552-B218-E8AC6606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73A-6897-43CE-B56B-DECC1905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CE1-E119-46F3-99F0-37457CDD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881-53E3-40BE-B3F8-F21C321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6EF-A9A0-4D2A-8294-D035C9B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D01-6B02-4B56-A062-FE2E34B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3E0-2DB0-4D2C-8965-2FD1751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9597-90F0-48B8-A442-355B73DE18DC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161-2984-4E2E-885D-8BACD36389CF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l / a la / del / de la / en el / en la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590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2666880" y="380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286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5053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4191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32004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0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657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429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905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2057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7"/>
          <p:cNvSpPr/>
          <p:nvPr/>
        </p:nvSpPr>
        <p:spPr>
          <a:xfrm>
            <a:off x="21337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4800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1981080" y="2133720"/>
            <a:ext cx="4876920" cy="3124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2514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5146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2280" y="6324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TA-VISTA,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1:19:35Z</dcterms:created>
  <dc:creator>Paul Widergren</dc:creator>
  <dc:description/>
  <dc:language>en-US</dc:language>
  <cp:lastModifiedBy>Jackson</cp:lastModifiedBy>
  <dcterms:modified xsi:type="dcterms:W3CDTF">2011-03-17T04:38:13Z</dcterms:modified>
  <cp:revision>6</cp:revision>
  <dc:subject/>
  <dc:title>al / a la / del / de la / en el / en la</dc:title>
</cp:coreProperties>
</file>