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813-04D0-415A-B5E2-2312AF36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95C-5EF7-4865-B581-6B9F59EF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3C6-0119-4546-909F-879183DD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E0E-297C-4EB8-B9B4-51CCA17F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610F-C440-4803-96C9-34324A43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D7D5-8084-4FE1-BE5A-7CF72EA7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0DF0-5F96-488F-9261-0131BF1A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5351-99DB-45AA-AE8A-B47DCEF0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84DD-416C-40E1-B8A6-068DCFA7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C0A5-C2DD-4341-87DD-909DC3AF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6C70-CD8A-4EA9-85C8-0EBD9A72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DF3-0338-4A5A-9257-2ED12F8F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B6F4-9CBB-4F49-959E-04A086C7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F50F-642B-4D27-A6EB-271958B0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DFFF-D2B6-487F-B9B5-584E4D45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F6AD-9DA0-4613-910E-ECC0CFD0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BDBF-F9EF-4A03-9C2D-4ED47911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834-8E38-47F9-B425-9C29B16D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62F-6462-40F3-A926-C0F85DA9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87F-077D-4243-8D79-8736E353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B15-E20D-4238-829D-EB408CA6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473-7CA5-4E88-8988-92B87B2E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1C61-BD40-4BAE-9A51-E3828F25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301-3FBF-45D0-A9D0-13A27D22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B76D-F40B-4FB4-AF93-73E9D5BDFEB3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44000" cy="380988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98F6-3A7F-41F6-8D62-28E6EA0A8CE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eterite verbs ending 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-car, -gar, and -za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rregular yo f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4572000" y="304920"/>
            <a:ext cx="373392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leg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3"/>
          <p:cNvSpPr/>
          <p:nvPr/>
        </p:nvSpPr>
        <p:spPr>
          <a:xfrm>
            <a:off x="1676520" y="23623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 lleg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g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g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1676520" y="380988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ú llega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1676520" y="53341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a lleg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5257800" y="243828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legam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5181480" y="3809880"/>
            <a:ext cx="289584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te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lega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5257800" y="53341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los llega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/>
          <p:cNvSpPr/>
          <p:nvPr/>
        </p:nvSpPr>
        <p:spPr>
          <a:xfrm>
            <a:off x="1981080" y="2362320"/>
            <a:ext cx="4800600" cy="1218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legar tard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3657600" y="4191120"/>
            <a:ext cx="4724280" cy="19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leg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g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g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1981080" y="2362320"/>
            <a:ext cx="4800600" cy="1218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gar la cuent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Oval 3"/>
          <p:cNvSpPr/>
          <p:nvPr/>
        </p:nvSpPr>
        <p:spPr>
          <a:xfrm>
            <a:off x="3657600" y="4191120"/>
            <a:ext cx="4724280" cy="19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g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g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g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1981080" y="2362320"/>
            <a:ext cx="4800600" cy="1218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ar al fútbo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Oval 3"/>
          <p:cNvSpPr/>
          <p:nvPr/>
        </p:nvSpPr>
        <p:spPr>
          <a:xfrm>
            <a:off x="3657600" y="4191120"/>
            <a:ext cx="4724280" cy="19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g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g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/>
          <p:cNvSpPr/>
          <p:nvPr/>
        </p:nvSpPr>
        <p:spPr>
          <a:xfrm>
            <a:off x="1981080" y="2362320"/>
            <a:ext cx="4800600" cy="1218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lgar la rop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3657600" y="4191120"/>
            <a:ext cx="4724280" cy="19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lg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g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g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"/>
          <p:cNvSpPr/>
          <p:nvPr/>
        </p:nvSpPr>
        <p:spPr>
          <a:xfrm>
            <a:off x="4572000" y="304920"/>
            <a:ext cx="373392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z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Oval 3"/>
          <p:cNvSpPr/>
          <p:nvPr/>
        </p:nvSpPr>
        <p:spPr>
          <a:xfrm>
            <a:off x="1676520" y="23623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 goc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1676520" y="380988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ú goza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1676520" y="53341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a goz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5257800" y="243828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zam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5181480" y="3809880"/>
            <a:ext cx="289584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te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za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5257800" y="53341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los goza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1981080" y="2362320"/>
            <a:ext cx="4800600" cy="1218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zar la fiest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3657600" y="4191120"/>
            <a:ext cx="4724280" cy="19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oc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z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c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1981080" y="2362320"/>
            <a:ext cx="4800600" cy="1218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z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Oval 3"/>
          <p:cNvSpPr/>
          <p:nvPr/>
        </p:nvSpPr>
        <p:spPr>
          <a:xfrm>
            <a:off x="3657600" y="4191120"/>
            <a:ext cx="4724280" cy="19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z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c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1981080" y="2362320"/>
            <a:ext cx="4800600" cy="1218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mpez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3"/>
          <p:cNvSpPr/>
          <p:nvPr/>
        </p:nvSpPr>
        <p:spPr>
          <a:xfrm>
            <a:off x="3657600" y="4191120"/>
            <a:ext cx="4724280" cy="19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mpec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z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c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1981080" y="2362320"/>
            <a:ext cx="4800600" cy="1218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ruzar la cal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3657600" y="4191120"/>
            <a:ext cx="4724280" cy="19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uc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z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c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4572000" y="304920"/>
            <a:ext cx="373392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c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Oval 3"/>
          <p:cNvSpPr/>
          <p:nvPr/>
        </p:nvSpPr>
        <p:spPr>
          <a:xfrm>
            <a:off x="1676520" y="23623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 sa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1676520" y="380988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ú saca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Oval 6"/>
          <p:cNvSpPr/>
          <p:nvPr/>
        </p:nvSpPr>
        <p:spPr>
          <a:xfrm>
            <a:off x="1676520" y="53341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a sac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5257800" y="243828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cam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Oval 8"/>
          <p:cNvSpPr/>
          <p:nvPr/>
        </p:nvSpPr>
        <p:spPr>
          <a:xfrm>
            <a:off x="5181480" y="3809880"/>
            <a:ext cx="289584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te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ca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5257800" y="53341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los saca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1981080" y="2362320"/>
            <a:ext cx="4800600" cy="1218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brazar a abuelit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3"/>
          <p:cNvSpPr/>
          <p:nvPr/>
        </p:nvSpPr>
        <p:spPr>
          <a:xfrm>
            <a:off x="3657600" y="4191120"/>
            <a:ext cx="4724280" cy="19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brac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z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c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1981080" y="2362320"/>
            <a:ext cx="4800600" cy="1218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zar en el bosqu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3657600" y="4191120"/>
            <a:ext cx="4724280" cy="19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c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z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c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os fot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os fot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2438280" y="259092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con unos amig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act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con unos amig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act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362320" y="259092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l fútbol por la tard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act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l fútbol por la tard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act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2438280" y="251460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981080" y="274320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el piano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act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981080" y="274320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el piano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2362320" y="259092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act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/>
          <p:cNvSpPr/>
          <p:nvPr/>
        </p:nvSpPr>
        <p:spPr>
          <a:xfrm>
            <a:off x="1981080" y="2362320"/>
            <a:ext cx="4800600" cy="1218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car fot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3657600" y="4191120"/>
            <a:ext cx="4724280" cy="19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 sa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tarde a clas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le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tarde a clas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2362320" y="259092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le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981080" y="259092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cuenta en el restaurant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981080" y="259092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cuenta en el restaurant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2438280" y="243828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905120" y="213372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a tarde agradable con mis amig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mpe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905120" y="213372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a tarde agradable con mis amig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2438280" y="198108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mpe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905120" y="213372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 escribir una composición para la clase de inglé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mpe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905120" y="213372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 escribir una composición para la clase de inglé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438280" y="198108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mpe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905120" y="2209680"/>
            <a:ext cx="647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basura y limpié la cas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905120" y="2209680"/>
            <a:ext cx="647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basura y limpié la cas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2209680" y="205740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1981080" y="2362320"/>
            <a:ext cx="4800600" cy="1218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acticar el pian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Oval 3"/>
          <p:cNvSpPr/>
          <p:nvPr/>
        </p:nvSpPr>
        <p:spPr>
          <a:xfrm>
            <a:off x="3657600" y="4191120"/>
            <a:ext cx="4724280" cy="19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 practi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981080" y="274320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rop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l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981080" y="274320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rop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2362320" y="251460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l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 casa con mi famili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 casa con mi famili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2438280" y="251460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981080" y="19810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guitarra y canté unas cancione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981080" y="19810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guitarra y canté unas cancione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AutoShape 4"/>
          <p:cNvSpPr/>
          <p:nvPr/>
        </p:nvSpPr>
        <p:spPr>
          <a:xfrm>
            <a:off x="2438280" y="182880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 mi abuel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bra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 mi abuel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2362320" y="251460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bra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1981080" y="213372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e _________ una lección difícil a mi hermanit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pl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981080" y="213372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e _________ una lección difícil a mi hermanit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4"/>
          <p:cNvSpPr/>
          <p:nvPr/>
        </p:nvSpPr>
        <p:spPr>
          <a:xfrm>
            <a:off x="3276720" y="1981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pl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1981080" y="2362320"/>
            <a:ext cx="4800600" cy="1218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plicar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3657600" y="4191120"/>
            <a:ext cx="4724280" cy="19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 expli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l ajedrez con Jorg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l ajedrez con Jorg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2514600" y="259092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981080" y="22096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os libros en la biblioteca.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981080" y="22096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os libros en la biblioteca.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438280" y="205740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en el río con unos amig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en el río con unos amig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2590920" y="259092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1981080" y="22096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en el bosque con mi padr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1981080" y="22096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en el bosque con mi padr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2362320" y="1981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990720" y="3049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os fotos má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os fotos má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2438280" y="251460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WordArt 6"/>
          <p:cNvSpPr txBox="1"/>
          <p:nvPr/>
        </p:nvSpPr>
        <p:spPr>
          <a:xfrm>
            <a:off x="990720" y="1523880"/>
            <a:ext cx="7315200" cy="476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I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1981080" y="2362320"/>
            <a:ext cx="4800600" cy="1218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scar un libr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3657600" y="4191120"/>
            <a:ext cx="4724280" cy="19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 bus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1981080" y="2362320"/>
            <a:ext cx="4800600" cy="1218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car la guitarr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3657600" y="4191120"/>
            <a:ext cx="4724280" cy="19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 to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1981080" y="2362320"/>
            <a:ext cx="4800600" cy="1218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scar en el rí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3657600" y="4191120"/>
            <a:ext cx="4724280" cy="19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 pes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1981080" y="2362320"/>
            <a:ext cx="4800600" cy="12189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quivocars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3"/>
          <p:cNvSpPr/>
          <p:nvPr/>
        </p:nvSpPr>
        <p:spPr>
          <a:xfrm>
            <a:off x="3657600" y="4191120"/>
            <a:ext cx="4724280" cy="19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 equivo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-38160" y="65340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A-VIST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A school of SPANISH Language                                    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17:58:34Z</dcterms:created>
  <dc:creator>Paul Widergren</dc:creator>
  <dc:description/>
  <dc:language>en-US</dc:language>
  <cp:lastModifiedBy>Jackson</cp:lastModifiedBy>
  <dcterms:modified xsi:type="dcterms:W3CDTF">2011-03-17T04:40:21Z</dcterms:modified>
  <cp:revision>4</cp:revision>
  <dc:subject/>
  <dc:title>Preterite verbs ending in -car, -gar, and -zar</dc:title>
</cp:coreProperties>
</file>