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8E0-7CD5-4AEF-ADC5-CD7FDB6A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E41-5DFC-421D-8DA2-27CB979A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2AE-816B-44FC-88A9-9D384F47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69B-F91A-4E6F-B494-747BC39B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C96F-B533-4F1B-A6EC-6250293D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8BDD-35AF-41E3-9905-3617A962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7FE3-8DD1-4885-B10D-2F2C9838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2B16-7999-4477-997B-BA50F321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8A31-839B-4C94-A898-D797EDEA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6945-080F-4A60-8750-870F25B9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3A15-F439-4767-B39A-0293A82B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16C-0F98-4602-A5F2-080FD5FC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4066-5669-42AB-9CFB-B7826982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F8CC-2934-4E66-8753-D6BF0C11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D4C1-9C2A-459B-A45C-4909E7F4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05C0-C6A8-4D1F-A58A-5A65502F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A3D1-499D-4D7B-B764-FDDB6FB5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81B-1C09-48D4-BEDE-DA9D7858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481-F301-4BDD-8D43-9BD60029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AFE-238F-48F4-8B87-BDFCB248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124-7E4A-4806-BC47-30FB1F2E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C7E-35A5-41A2-987A-140B566C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D19-4722-429E-9312-8A5839F7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7B0-567C-4ECE-9A64-6FEA51DF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1F33-8630-467C-BCFB-D3A32FFD78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ALTA-VISTA ©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B31F-3E59-489E-9B78-F5FC4F2C664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280" y="837720"/>
            <a:ext cx="822636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a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438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irect obje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rect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Picture 4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9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El hombre </a:t>
            </a: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l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da         el papel     </a:t>
            </a: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al otro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228600" y="4343400"/>
            <a:ext cx="4572000" cy="1295280"/>
          </a:xfrm>
          <a:prstGeom prst="rightArrow">
            <a:avLst>
              <a:gd name="adj1" fmla="val 50000"/>
              <a:gd name="adj2" fmla="val 8824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Recipient of Gift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4572000" y="2514600"/>
            <a:ext cx="990720" cy="914400"/>
          </a:xfrm>
          <a:prstGeom prst="ellipse">
            <a:avLst/>
          </a:prstGeom>
          <a:noFill/>
          <a:ln w="63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914400" y="1219320"/>
            <a:ext cx="3124080" cy="2133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otice the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extra i.o.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pronoun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Footer Placeholder 9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Arial"/>
              </a:rPr>
              <a:t>El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l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da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65b2ff"/>
                </a:solidFill>
                <a:latin typeface="Arial"/>
              </a:rPr>
              <a:t>el papel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al otro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228600" y="4572000"/>
            <a:ext cx="4572000" cy="1295280"/>
          </a:xfrm>
          <a:prstGeom prst="rightArrow">
            <a:avLst>
              <a:gd name="adj1" fmla="val 50000"/>
              <a:gd name="adj2" fmla="val 8824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I.O. (Recipient)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228600" y="3124080"/>
            <a:ext cx="4572000" cy="1295640"/>
          </a:xfrm>
          <a:prstGeom prst="rightArrow">
            <a:avLst>
              <a:gd name="adj1" fmla="val 50000"/>
              <a:gd name="adj2" fmla="val 88219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.O. (gift)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228600" y="2286000"/>
            <a:ext cx="4572000" cy="1295280"/>
          </a:xfrm>
          <a:prstGeom prst="rightArrow">
            <a:avLst>
              <a:gd name="adj1" fmla="val 50000"/>
              <a:gd name="adj2" fmla="val 8824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Verb (gives)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AutoShape 10"/>
          <p:cNvSpPr/>
          <p:nvPr/>
        </p:nvSpPr>
        <p:spPr>
          <a:xfrm>
            <a:off x="228600" y="1523880"/>
            <a:ext cx="4572000" cy="1295640"/>
          </a:xfrm>
          <a:prstGeom prst="rightArrow">
            <a:avLst>
              <a:gd name="adj1" fmla="val 50000"/>
              <a:gd name="adj2" fmla="val 88219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UBJECT (giver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Cloud"/>
          <p:cNvSpPr/>
          <p:nvPr/>
        </p:nvSpPr>
        <p:spPr>
          <a:xfrm>
            <a:off x="1447920" y="4114800"/>
            <a:ext cx="1143000" cy="920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a"/>
                </a:solidFill>
                <a:latin typeface="Arial"/>
              </a:rPr>
              <a:t>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Footer Placeholder 1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El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le da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57200" y="3809880"/>
            <a:ext cx="3657600" cy="259092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s always,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he verb ending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grees with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he subjec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Arial"/>
              </a:rPr>
              <a:t>El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le 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da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609480" y="1523880"/>
            <a:ext cx="3886200" cy="1295640"/>
          </a:xfrm>
          <a:prstGeom prst="rightArrow">
            <a:avLst>
              <a:gd name="adj1" fmla="val 50000"/>
              <a:gd name="adj2" fmla="val 7498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UBJEC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Arial"/>
              </a:rPr>
              <a:t>El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le 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da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609480" y="1523880"/>
            <a:ext cx="3886200" cy="1295640"/>
          </a:xfrm>
          <a:prstGeom prst="rightArrow">
            <a:avLst>
              <a:gd name="adj1" fmla="val 50000"/>
              <a:gd name="adj2" fmla="val 7498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person sg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Arial"/>
              </a:rPr>
              <a:t>El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le 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da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33520" y="2286000"/>
            <a:ext cx="3886200" cy="1295280"/>
          </a:xfrm>
          <a:prstGeom prst="rightArrow">
            <a:avLst>
              <a:gd name="adj1" fmla="val 50000"/>
              <a:gd name="adj2" fmla="val 7500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VERB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2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Arial"/>
              </a:rPr>
              <a:t>El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le 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da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533520" y="2286000"/>
            <a:ext cx="3886200" cy="1295280"/>
          </a:xfrm>
          <a:prstGeom prst="rightArrow">
            <a:avLst>
              <a:gd name="adj1" fmla="val 50000"/>
              <a:gd name="adj2" fmla="val 7500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person sg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AutoShape 8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AutoShape 9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WordArt 10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4" name="WordArt 11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5" name="WordArt 12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6" name="WordArt 13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7" name="WordArt 15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08" name="Picture 16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7"/>
          <p:cNvSpPr/>
          <p:nvPr/>
        </p:nvSpPr>
        <p:spPr>
          <a:xfrm rot="20254200">
            <a:off x="3200400" y="1371240"/>
            <a:ext cx="3809880" cy="1295280"/>
          </a:xfrm>
          <a:prstGeom prst="leftArrow">
            <a:avLst>
              <a:gd name="adj1" fmla="val 50000"/>
              <a:gd name="adj2" fmla="val 73534"/>
            </a:avLst>
          </a:prstGeom>
          <a:solidFill>
            <a:srgbClr val="9933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rregular yo fo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Footer Placeholder 1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 le _______ el libr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19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0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1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2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23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324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 le _______ el libr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3505320" y="1522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3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4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5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6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37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338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6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El hombre le da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Footer Placeholder 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tedes le ______ los libro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48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49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1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2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tedes le ______ los libro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3962520" y="22860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2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3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4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5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6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a le _______ el plat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75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76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77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78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79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380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a le _______ el plat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3657600" y="22860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89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90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91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92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93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394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os chicos le ______ el periódic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04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05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06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07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08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os chicos le ______ el periódic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AutoShape 6"/>
          <p:cNvSpPr/>
          <p:nvPr/>
        </p:nvSpPr>
        <p:spPr>
          <a:xfrm>
            <a:off x="3962520" y="1522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18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19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0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1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2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ú le _______ la piñata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1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2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3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4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35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ú le _______ la piñata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AutoShape 5"/>
          <p:cNvSpPr/>
          <p:nvPr/>
        </p:nvSpPr>
        <p:spPr>
          <a:xfrm>
            <a:off x="3352680" y="22860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5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6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7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8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49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450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rlos y yo le _____ una bolsa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6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7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9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0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1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2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3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4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rlos y yo le _____ una bolsa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AutoShape 4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AutoShape 5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AutoShape 6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AutoShape 7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AutoShape 8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AutoShape 9"/>
          <p:cNvSpPr/>
          <p:nvPr/>
        </p:nvSpPr>
        <p:spPr>
          <a:xfrm>
            <a:off x="4267080" y="30492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WordArt 10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4" name="WordArt 11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5" name="WordArt 12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6" name="WordArt 13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7" name="WordArt 14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8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Arial"/>
              </a:rPr>
              <a:t>El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le da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609480" y="1523880"/>
            <a:ext cx="3886200" cy="1295640"/>
          </a:xfrm>
          <a:prstGeom prst="rightArrow">
            <a:avLst>
              <a:gd name="adj1" fmla="val 50000"/>
              <a:gd name="adj2" fmla="val 7498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UBJEC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os estudiantes le ______ la tarea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88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89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0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1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2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os estudiantes le ______ la tarea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5029200" y="22860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9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2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3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4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5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6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madre me ______ la sopa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6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7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8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9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0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madre me ______ la sopa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4495680" y="1522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6" name="AutoShape 7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7" name="AutoShape 8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8" name="AutoShape 9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WordArt 10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0" name="WordArt 11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1" name="WordArt 12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2" name="WordArt 13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3" name="WordArt 14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4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 te _______ la limonada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0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1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2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3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4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5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6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47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548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 te _______ la limonada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3048120" y="1522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7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8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9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60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61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562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osotros les _______ la comida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7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8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9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2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3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4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5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6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osotros les _______ la comida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0" name="AutoShape 5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3" name="AutoShape 8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4" name="AutoShape 9"/>
          <p:cNvSpPr/>
          <p:nvPr/>
        </p:nvSpPr>
        <p:spPr>
          <a:xfrm>
            <a:off x="4038480" y="22860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5" name="WordArt 10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6" name="WordArt 11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7" name="WordArt 12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8" name="WordArt 13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9" name="WordArt 14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0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ú les _______ las foto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2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9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0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1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2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03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604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ú les _______ las foto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3505320" y="22860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3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4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5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6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17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618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c80"/>
                </a:solidFill>
                <a:latin typeface="Arial"/>
              </a:rPr>
              <a:t>El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le da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09480" y="1523880"/>
            <a:ext cx="3886200" cy="1295640"/>
          </a:xfrm>
          <a:prstGeom prst="rightArrow">
            <a:avLst>
              <a:gd name="adj1" fmla="val 50000"/>
              <a:gd name="adj2" fmla="val 7498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Giver”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14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perro nos _______ un hues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129528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AutoShape 5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4" name="AutoShape 6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AutoShape 7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6" name="AutoShape 8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7" name="WordArt 9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8" name="WordArt 10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9" name="WordArt 11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30" name="WordArt 12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31" name="WordArt 13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32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CARTA177"/>
          <p:cNvPicPr/>
          <p:nvPr/>
        </p:nvPicPr>
        <p:blipFill>
          <a:blip r:embed="rId1"/>
          <a:stretch/>
        </p:blipFill>
        <p:spPr>
          <a:xfrm>
            <a:off x="228600" y="228600"/>
            <a:ext cx="1266840" cy="17334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4000" y="455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perro nos _______ un hues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AutoShape 4"/>
          <p:cNvSpPr/>
          <p:nvPr/>
        </p:nvSpPr>
        <p:spPr>
          <a:xfrm>
            <a:off x="1295280" y="26668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o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6" name="AutoShape 5"/>
          <p:cNvSpPr/>
          <p:nvPr/>
        </p:nvSpPr>
        <p:spPr>
          <a:xfrm>
            <a:off x="4038480" y="22860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AutoShape 6"/>
          <p:cNvSpPr/>
          <p:nvPr/>
        </p:nvSpPr>
        <p:spPr>
          <a:xfrm>
            <a:off x="1295280" y="40384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AutoShape 7"/>
          <p:cNvSpPr/>
          <p:nvPr/>
        </p:nvSpPr>
        <p:spPr>
          <a:xfrm>
            <a:off x="5118120" y="5410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9" name="AutoShape 8"/>
          <p:cNvSpPr/>
          <p:nvPr/>
        </p:nvSpPr>
        <p:spPr>
          <a:xfrm>
            <a:off x="5118120" y="40402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AutoShape 9"/>
          <p:cNvSpPr/>
          <p:nvPr/>
        </p:nvSpPr>
        <p:spPr>
          <a:xfrm>
            <a:off x="5118120" y="266868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am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WordArt 10"/>
          <p:cNvSpPr txBox="1"/>
          <p:nvPr/>
        </p:nvSpPr>
        <p:spPr>
          <a:xfrm>
            <a:off x="228600" y="27432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2" name="WordArt 11"/>
          <p:cNvSpPr txBox="1"/>
          <p:nvPr/>
        </p:nvSpPr>
        <p:spPr>
          <a:xfrm>
            <a:off x="228600" y="41148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3" name="WordArt 12"/>
          <p:cNvSpPr txBox="1"/>
          <p:nvPr/>
        </p:nvSpPr>
        <p:spPr>
          <a:xfrm>
            <a:off x="228600" y="5486400"/>
            <a:ext cx="762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3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4" name="WordArt 13"/>
          <p:cNvSpPr txBox="1"/>
          <p:nvPr/>
        </p:nvSpPr>
        <p:spPr>
          <a:xfrm>
            <a:off x="1828800" y="198108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s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5" name="WordArt 14"/>
          <p:cNvSpPr txBox="1"/>
          <p:nvPr/>
        </p:nvSpPr>
        <p:spPr>
          <a:xfrm>
            <a:off x="5410080" y="1905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p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6" name="Footer Placeholder 16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7280" y="1980720"/>
            <a:ext cx="822636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8" name="Picture 4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649" name="Footer Placeholder 5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El hombre le 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da 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685800" y="2286000"/>
            <a:ext cx="3886200" cy="1295280"/>
          </a:xfrm>
          <a:prstGeom prst="rightArrow">
            <a:avLst>
              <a:gd name="adj1" fmla="val 50000"/>
              <a:gd name="adj2" fmla="val 7500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VERB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El hombre le 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da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    el papel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685800" y="2286000"/>
            <a:ext cx="3886200" cy="1295280"/>
          </a:xfrm>
          <a:prstGeom prst="rightArrow">
            <a:avLst>
              <a:gd name="adj1" fmla="val 50000"/>
              <a:gd name="adj2" fmla="val 7500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gives”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El hombre le da         </a:t>
            </a:r>
            <a:r>
              <a:rPr b="0" lang="en-US" sz="5400" spc="-1" strike="noStrike">
                <a:solidFill>
                  <a:srgbClr val="65b2ff"/>
                </a:solidFill>
                <a:latin typeface="Arial"/>
              </a:rPr>
              <a:t>el papel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762120" y="3200400"/>
            <a:ext cx="3886200" cy="1295280"/>
          </a:xfrm>
          <a:prstGeom prst="rightArrow">
            <a:avLst>
              <a:gd name="adj1" fmla="val 50000"/>
              <a:gd name="adj2" fmla="val 7500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IRECT OBJ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El hombre le da         </a:t>
            </a:r>
            <a:r>
              <a:rPr b="0" lang="en-US" sz="5400" spc="-1" strike="noStrike">
                <a:solidFill>
                  <a:srgbClr val="65b2ff"/>
                </a:solidFill>
                <a:latin typeface="Arial"/>
              </a:rPr>
              <a:t>el papel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    al otro hombre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762120" y="3200400"/>
            <a:ext cx="3886200" cy="1295280"/>
          </a:xfrm>
          <a:prstGeom prst="rightArrow">
            <a:avLst>
              <a:gd name="adj1" fmla="val 50000"/>
              <a:gd name="adj2" fmla="val 7500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Gift”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r = to g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3" descr="CARTA177"/>
          <p:cNvPicPr/>
          <p:nvPr/>
        </p:nvPicPr>
        <p:blipFill>
          <a:blip r:embed="rId1"/>
          <a:stretch/>
        </p:blipFill>
        <p:spPr>
          <a:xfrm>
            <a:off x="914400" y="1905120"/>
            <a:ext cx="2938320" cy="40194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4724280" y="16765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El hombre </a:t>
            </a: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l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da         el papel     </a:t>
            </a: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al otro hombre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228600" y="4343400"/>
            <a:ext cx="4572000" cy="1295280"/>
          </a:xfrm>
          <a:prstGeom prst="rightArrow">
            <a:avLst>
              <a:gd name="adj1" fmla="val 50000"/>
              <a:gd name="adj2" fmla="val 8824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INDIRECT OBJ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Footer Placeholder 7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ALTA-VISTA © 200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0:36:59Z</dcterms:created>
  <dc:creator>Paul Widergren</dc:creator>
  <dc:description/>
  <dc:language>en-US</dc:language>
  <cp:lastModifiedBy>Jackson</cp:lastModifiedBy>
  <dcterms:modified xsi:type="dcterms:W3CDTF">2011-03-17T04:42:00Z</dcterms:modified>
  <cp:revision>5</cp:revision>
  <dc:subject/>
  <dc:title>d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