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05E-09C7-45AD-B5D4-DDD62A7F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0B9-9BDB-42C1-9B6C-A0E2D294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0F37E-4DE4-4004-9B47-4AB9BE3F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EA51E-6434-4B96-A181-9B278E4E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A0940-6372-453F-A9D5-F5F9BA44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2900D-8658-46B2-8258-45A1727D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2C783-7F4D-4768-A503-947F7F4E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2A071-7E1F-4BEC-87C0-0E405205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2DA65-C8B8-4687-A671-9DAB11D2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1DEEC-4DAE-450D-998C-231D47C0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3BB8B-12E0-4C63-84FC-1A8D38A0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BD8-4B06-43C8-8C3E-630164C6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36B-D3B5-4A66-A8CB-5779E8CC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D776-D9A5-4CA0-8A4A-FF49B2A6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B311-6FC2-462B-8813-D4C7E4A8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7D2E-C647-47AB-B996-AD0657FA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E8A6-9EFF-47B0-9FF5-A9FD0558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D1BE-F4F2-4128-B771-89BF950D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7E85-5756-461A-8A4A-F1563742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1A8E-CD61-4DC7-B3CF-2EE97B14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A13-4259-448F-9BF2-C97FB3E0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D23C-2698-4DFD-9750-E14AF282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B2AF-72DE-4A41-8E27-335F9D51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88F7-5AE3-46A8-97DC-8BD253FB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51C1-76FC-4862-8B8C-E4E4FF75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661B-E828-4FBE-84C9-7C719758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AEBB9-882D-4D4C-B42B-28895EE9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BDBB-29F8-424D-A4EF-502B9AB4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DF95-2462-4815-8AA9-D0383563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595DA-282B-41FF-B714-0A3BFCF8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98AF3-18E5-4366-B923-0478BAFB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E31-DD5E-45BD-9510-AFEDE96E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67C1-46F8-4B9B-AAA0-573936EE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128C-0C82-4E2E-9A23-9F9FF22E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3EED-DCF9-4F46-BC3F-23495CFF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60A85-F36C-4140-A1D1-E6A7F18D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5C84B-A988-4173-9ED9-AD2D24BB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92A4D-4DFD-446C-9986-1AA90F3E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6F8BE-26B3-447C-AAF3-A72826FD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D869F-B288-43A6-A5EB-ECD2AA96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F210F-8DFD-43EB-ADBD-78F51558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9DD37-34A3-477E-86C3-CB85A868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5619-E6AA-4145-9A16-7F5DDE87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818CF-CBF0-469A-AFD4-8993D29A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2BFCE-5829-4C91-991E-1472AC94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E755C-2CA8-406D-BCE1-11C50807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39F24-B364-4F6D-BEEB-D97905C4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236C3-A7C8-4545-8A88-4D3349CF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973C2-AEED-4BC8-B4E9-51FE3043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50FFC-7B5C-4171-9BF6-85060640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FB28-2E00-4EE3-9734-05100085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DB95F-8BFD-4D31-B6A3-67DE2516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3AD86-6247-4B16-98D3-9CC508A7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586-0901-4953-A049-4F64B3A4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C6C22-9F24-4BC9-AF6F-EFB2F621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39646-D19E-4FDB-878B-EE0FB2DB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BA039-A066-4656-ABFB-E3F2B684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48C3D-4641-4378-974E-E75D35A9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5211B-B92B-4D56-BD06-F9D7B73E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C6E03-8F03-422B-A433-A9431BC1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6B41B-4B19-469B-B8CE-841B3C29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79342-C065-4F84-B2CE-22D41808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535F3-B9A7-41EB-9A1A-149465F5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F4CCC-441D-4954-8AB2-FB521E01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339-6370-4D9F-8217-B5A7C62B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0AB7D-D214-42CD-BA4D-A2B2508F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AA673-EAC0-4924-809C-1983B40E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A96DC-4980-44B2-8CA5-76EDC04D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6FC88-03C3-4C03-B919-E3DE29DD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2AE94-1E35-42C3-8602-73FA628C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C0599-471C-4BA6-90BA-00E01460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69BCD-E413-44D4-B25A-92EAF0C1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7FA7A-7591-42C0-AB25-B8C56B20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801FB-A299-4FF6-9319-85C7D9E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4A563-6834-445C-9C85-ECEF86F7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C26-41D0-438B-9F22-58A73FA1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59170-BEB1-44C6-8D2D-0107175C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E344B-14C1-4C36-A715-753CD1D0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189D7-B856-4D83-A8C1-F5765F78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F0726-C91C-4CCF-84C2-A3E9FA5B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762BF-56C4-47A2-A744-D48EE95B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DBBA4-2BB4-4BAA-8E99-0FFD077B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7314A-B5C0-485A-8717-BDCF3BA7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7C3B3-52C7-4079-8706-8003EACC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0C93E-F8A7-48F7-9424-345CF03F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8AF36-6572-443F-B938-285E647E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516-925A-49CF-AC13-6657A725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7FD83-0B50-4AD8-8A6C-DE8CB363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7DBF1-3823-46E7-98FD-862242E3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20504-DB71-4581-93A8-681115B4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44CD0-89B9-49AE-A489-0BF88D3B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85817-6EC0-4236-A95F-68519872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50BB3-95B1-4DBC-8F8C-E359F797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36E1D-360E-44EC-A5FE-F5872E93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76EDB-889A-4AC2-9C6D-CC4FC46A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A7468-0662-48F0-9424-35C2A6E4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F8C3B-C3C5-458B-8230-93431FA0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D9B-DD82-45A1-8982-29724A28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F71AD-AEEB-42A4-A1FF-5E89A407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26574-4235-44AD-90C4-54BFE7AA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1B9FD-E10B-4EF6-97EC-6101540B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25884-395F-4109-AB75-78C588E3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8421C-B6CD-431A-AA92-A59195CD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7449B-D0C0-495E-9F8B-9441D088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95D40-4E04-460C-95BF-6DE14077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43ED4-36C4-442A-BC5C-0A8E9CB6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57187-00B4-474C-A9C0-034AF262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B7680-29E5-4046-A0A4-0478B611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00B7-C206-4D7D-84AA-781C6BBC253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DBE8-B287-446F-9F11-F20ACC4E917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6278-B415-4D38-A2F9-CAEB1E3671C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6D09-9C70-4AE9-B840-EC32657F1EB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46CF-A0A9-4386-AB49-CE65A176D3A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054F-A8AA-47A3-BF56-94B0D7E4E52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9B03-4527-440A-A0DC-F927D5B343D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7182-4C93-4494-A47E-9DD20688128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EF52-F669-4393-A2B0-724C7A05AB4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I.O. , I.O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It’s off to work we go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buy you 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you 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3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4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457200" y="281952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compro un cinturó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buy them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334120" y="3962520"/>
            <a:ext cx="327636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buy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5334120" y="3962520"/>
            <a:ext cx="327636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buy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5"/>
          <p:cNvSpPr/>
          <p:nvPr/>
        </p:nvSpPr>
        <p:spPr>
          <a:xfrm>
            <a:off x="5334120" y="3962520"/>
            <a:ext cx="327636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4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gives me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4800600" y="53341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/>
          <p:cNvSpPr/>
          <p:nvPr/>
        </p:nvSpPr>
        <p:spPr>
          <a:xfrm>
            <a:off x="5334120" y="3962520"/>
            <a:ext cx="327636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533520" y="2438280"/>
            <a:ext cx="7391160" cy="18288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 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e gives me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me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me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gives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3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4"/>
          <p:cNvSpPr/>
          <p:nvPr/>
        </p:nvSpPr>
        <p:spPr>
          <a:xfrm>
            <a:off x="4800600" y="53341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7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8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5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3"/>
          <p:cNvSpPr/>
          <p:nvPr/>
        </p:nvSpPr>
        <p:spPr>
          <a:xfrm>
            <a:off x="1295280" y="2743200"/>
            <a:ext cx="609624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 da el diner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y give us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y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y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5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4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5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gives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>
            <a:off x="4800600" y="53341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7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8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4"/>
          <p:cNvSpPr/>
          <p:nvPr/>
        </p:nvSpPr>
        <p:spPr>
          <a:xfrm>
            <a:off x="914400" y="2666880"/>
            <a:ext cx="70866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 dan el regal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give you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7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you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7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you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7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9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6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9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4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5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5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4"/>
          <p:cNvSpPr/>
          <p:nvPr/>
        </p:nvSpPr>
        <p:spPr>
          <a:xfrm>
            <a:off x="685800" y="2209680"/>
            <a:ext cx="70866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doy un anill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brings them 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4"/>
          <p:cNvSpPr/>
          <p:nvPr/>
        </p:nvSpPr>
        <p:spPr>
          <a:xfrm>
            <a:off x="4800600" y="53341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5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6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7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m 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4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5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4"/>
          <p:cNvSpPr/>
          <p:nvPr/>
        </p:nvSpPr>
        <p:spPr>
          <a:xfrm>
            <a:off x="457200" y="2362320"/>
            <a:ext cx="75438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 trae la cen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bring you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4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bring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4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bring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4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4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4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5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6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7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4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4"/>
          <p:cNvSpPr/>
          <p:nvPr/>
        </p:nvSpPr>
        <p:spPr>
          <a:xfrm>
            <a:off x="914400" y="2133720"/>
            <a:ext cx="66294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traigo un colla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We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bracele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3"/>
          <p:cNvSpPr/>
          <p:nvPr/>
        </p:nvSpPr>
        <p:spPr>
          <a:xfrm>
            <a:off x="838080" y="29718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damos una pulser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hi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watc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3"/>
          <p:cNvSpPr/>
          <p:nvPr/>
        </p:nvSpPr>
        <p:spPr>
          <a:xfrm>
            <a:off x="838080" y="29718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 doy un reloj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They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jewelr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3"/>
          <p:cNvSpPr/>
          <p:nvPr/>
        </p:nvSpPr>
        <p:spPr>
          <a:xfrm>
            <a:off x="838080" y="29718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 dan las joya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3"/>
          <p:cNvSpPr/>
          <p:nvPr/>
        </p:nvSpPr>
        <p:spPr>
          <a:xfrm>
            <a:off x="838080" y="29718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doy el cinturó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She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compact disc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3"/>
          <p:cNvSpPr/>
          <p:nvPr/>
        </p:nvSpPr>
        <p:spPr>
          <a:xfrm>
            <a:off x="914400" y="2971800"/>
            <a:ext cx="7696080" cy="20574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 d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sco compact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AutoShape 3"/>
          <p:cNvSpPr/>
          <p:nvPr/>
        </p:nvSpPr>
        <p:spPr>
          <a:xfrm>
            <a:off x="914400" y="2971800"/>
            <a:ext cx="7696080" cy="20574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ooter Placeholder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3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6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6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685800" y="2362320"/>
            <a:ext cx="7238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 da la bols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0:34:05Z</dcterms:created>
  <dc:creator>Paul Widergren</dc:creator>
  <dc:description/>
  <dc:language>en-US</dc:language>
  <cp:lastModifiedBy>Jackson</cp:lastModifiedBy>
  <dcterms:modified xsi:type="dcterms:W3CDTF">2011-03-17T04:42:21Z</dcterms:modified>
  <cp:revision>4</cp:revision>
  <dc:subject/>
  <dc:title>dar / comprar / traer</dc:title>
</cp:coreProperties>
</file>