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765-12C9-4159-81B3-24B3E132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188-C824-4807-9736-E71F10E1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4DBA1-53D2-4587-85C6-5425BF18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15093-B2C7-4B98-A5E8-AA6B9B68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3249F-3BEF-4CDE-87C8-A0E80330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298A9-6765-4609-AC61-F30FE2F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E647D-EF0B-4F79-9109-D38C9C27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A07BC-945A-41B9-88A5-BB6D527A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4E367-A97D-4301-BD14-14D21716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40C48-CC40-4E8B-85B3-4E0CDCAF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7193C-D6C3-4A1F-AE73-BDEB2356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D3B-2AD2-4292-BC0D-3BFA52D3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DB6-E92F-4723-8B66-6D473BAA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20D-4358-49A6-94EA-80817D79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4312-C785-437B-9705-9AE8ED81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1454-CD86-4854-8CBA-E3354BF5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CC8A-74C7-4D5B-9D3D-37A9A211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4235-4685-47BC-AA6B-CD1893ED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3B1E-862A-46D7-90CC-317683BC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A903-5946-42DC-85D6-92492B57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3AC-ADCF-4742-BFC2-83B4AC51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7E65-DA2D-490A-8408-5EEC0F96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8177-65E8-44D1-8E6A-E20CBC1A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941B-B0BC-46F3-9A2D-74126B76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188F-BAEC-43FC-AC9B-2C9385C0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FF51-904A-43BB-9706-7D363C0C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BB77-3B1B-40F7-9CF1-7CA3B976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6E4D-D578-47BC-B973-A96822B0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2160-1776-46E6-B2AE-42510745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A1D9-DCFF-4369-9677-1517D6CD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7222-37D1-48E4-9976-83E6E05F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0DB-0A8C-45B2-A320-340AA686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B2BF-C8DC-40BF-8D77-AA1A53FB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ED525-9D18-45E9-8EA0-92C8D2F7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3318-02AA-410C-82A9-FFF08002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0A68-C58D-40B7-9DD3-5755318A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1FC9-CFCE-40BB-9B17-C3786BD9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D7A17-2953-4EB0-B440-A2236197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78EF-1509-4B36-9263-00DC87B3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A40B3-F917-4955-B1AD-7A68E928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527D3-D4C0-4689-A1C0-5986EC8C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ED673-BCA6-42D3-8981-56B365DC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E14-6C23-49F7-8B42-F0FE6377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E47BD-71C8-4208-83EA-07973180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AD646-9D69-4E22-981D-DA3FB2D2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7FCFD-B493-48AF-BFAD-D7BCB7C4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13D4C-4EE4-4B4F-A10B-F1C370D7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9387-D6A0-4BB3-B8F0-15F40B77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D0452-DCA4-4B4F-B849-8B0576E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0112-5E60-408A-9721-5A8C9F3D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2496-EFF5-47C0-94A2-6F8F63C3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6C357-D265-4C63-8792-A2C0E9AA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493A5-395C-4C62-8774-3A99E043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912-4190-4FD7-808C-ACBCF5A5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6F99-6E7F-4791-BC59-337EFA0D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21721-A874-4D24-AB6B-667D6A35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DA1D0-906D-427C-BE9A-66ACEDFA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CB94A-193E-4C69-A6FA-A5D69C8A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EB35E-DF62-4D3F-9269-3D7513B5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2338E-840A-438E-9698-11809381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8DAFF-5FEE-4334-8BD9-ED0D7EF2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65DAB-9DEC-4E48-8B07-A881D3ED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832F1-338C-48CF-B735-D9B0BA7B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83055-8CF5-4B11-87E2-EB93151B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972-DBDA-46DB-AEEA-145BFEB7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EE356-D695-4728-94AC-613E74F1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1958F-A30C-4C43-8EB8-53E704F9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7CC64-2E4D-41EA-BBBB-8155F0F7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740F7-CEAB-4DC3-866A-10704369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1B9AD-21C1-49F5-B6AD-0832C54D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AE939-7BCF-452B-8DD5-2FB9B03F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F847F-661B-4ABD-B08E-C9CB01F8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C1C84-4D65-4DA2-BA4E-4FE3658A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B746A-DBA7-45D3-AB80-57EC1104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97DAA-1B1E-4E2A-85EA-D37C75D2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523-2177-410B-8114-82D14DEA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86AE3-E7FF-4444-904E-496CE097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16DED-578F-44B5-9077-59E2B9B5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CE48D-4B54-4629-A3CC-2825741B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81D7F-14C2-4776-BA45-71920393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BFD0D-13DC-455A-978D-056B4035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48234-BE85-408F-9946-C3308FE1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1DB78-6316-4097-BC88-D6B09F2D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F07D3-011D-4F45-B99C-801CAD9E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06321-92EF-4F1E-99DE-031C3A35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CAF84-21B0-4122-904D-AE4D389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922-5ECD-4E22-B42D-8B026DC8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BA0E9-F34E-480B-A089-43D27AAD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B76BB-CB85-4F96-981D-CD9CE9B3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31E34-1AF1-444F-B869-3968524E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D3922-FF78-4B20-B915-46D8F69C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A0424-2EA7-4D02-81EE-3061F11E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D4DFC-B39B-4D89-932A-FC89D881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DB892-F2F9-4D2A-9963-C26DCBD2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D3F03-9B61-43ED-9C73-9E9542BD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F2F83-05D3-47AF-9A63-40F53700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3E891-82C8-4E36-99BE-B70C0C4F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C0D-984E-432D-8325-7C697AF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FF643-B9C4-443E-BB55-E423FD8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CA774-D80F-45B1-88FF-78CA741E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1F247-1DC8-48C2-B3A8-1356B15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D35D9-B1E1-40DA-99A4-1C7C272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D656A-1F0A-42CD-BDB6-65D06E00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C2CE8-FFE0-4B05-9C7A-745774B9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5F02C-662C-4711-B51D-23A19747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9B6A5-EB88-4D54-BB67-8A3D8B35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8B4BB-3D60-498D-B6ED-3F340FAF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C5B06-AC1A-41F8-8064-F223E5B6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3CBD-2F1B-4807-A681-42A789818F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E0E0-80A2-459C-8956-448C9FC1DF5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A644-B727-4525-983B-B985AF16A3F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A71C-84FD-482F-A22E-CF3296BB59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58A9-971D-486C-BF15-677C2F9211A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F795-CB80-4A4D-9446-87B21D01C2C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6DEA-CEB7-424D-9821-4E3002FD615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BEF0-0249-49B8-B1EF-CBC6AD3B420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CB0A-D435-4D8A-8599-9CEC44E6B54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I.O. , I.O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It’s off to work we go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uy you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3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457200" y="281952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compro un cinturó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them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5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me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533520" y="2438280"/>
            <a:ext cx="7391160" cy="18288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 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e gives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7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3"/>
          <p:cNvSpPr/>
          <p:nvPr/>
        </p:nvSpPr>
        <p:spPr>
          <a:xfrm>
            <a:off x="1295280" y="2743200"/>
            <a:ext cx="609624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el dine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us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5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4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4"/>
          <p:cNvSpPr/>
          <p:nvPr/>
        </p:nvSpPr>
        <p:spPr>
          <a:xfrm>
            <a:off x="914400" y="2666880"/>
            <a:ext cx="70866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 dan el regal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give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7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7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6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9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5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6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4"/>
          <p:cNvSpPr/>
          <p:nvPr/>
        </p:nvSpPr>
        <p:spPr>
          <a:xfrm>
            <a:off x="685800" y="2209680"/>
            <a:ext cx="70866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oy un anill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brings them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4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7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m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4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4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5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4"/>
          <p:cNvSpPr/>
          <p:nvPr/>
        </p:nvSpPr>
        <p:spPr>
          <a:xfrm>
            <a:off x="457200" y="2362320"/>
            <a:ext cx="7543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 trae la ce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you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6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ooter Placeholder 10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7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8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7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6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4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3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"/>
          <p:cNvSpPr/>
          <p:nvPr/>
        </p:nvSpPr>
        <p:spPr>
          <a:xfrm>
            <a:off x="914400" y="2133720"/>
            <a:ext cx="662940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traigo un colla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e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racele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3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amos una pulser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hi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watc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 doy un reloj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jewelr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3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 dan las joya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I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3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oy el cinturó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2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She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compact disc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3"/>
          <p:cNvSpPr/>
          <p:nvPr/>
        </p:nvSpPr>
        <p:spPr>
          <a:xfrm>
            <a:off x="914400" y="2971800"/>
            <a:ext cx="7696080" cy="20574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sco compac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AutoShape 3"/>
          <p:cNvSpPr/>
          <p:nvPr/>
        </p:nvSpPr>
        <p:spPr>
          <a:xfrm>
            <a:off x="914400" y="2971800"/>
            <a:ext cx="7696080" cy="20574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6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685800" y="2362320"/>
            <a:ext cx="7238880" cy="1143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la bols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ALTA-VISTA ©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0:34:05Z</dcterms:created>
  <dc:creator>Paul Widergren</dc:creator>
  <dc:description/>
  <dc:language>en-US</dc:language>
  <cp:lastModifiedBy>Jackson</cp:lastModifiedBy>
  <dcterms:modified xsi:type="dcterms:W3CDTF">2011-03-17T04:42:21Z</dcterms:modified>
  <cp:revision>4</cp:revision>
  <dc:subject/>
  <dc:title>dar / comprar / traer</dc:title>
</cp:coreProperties>
</file>