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CB7-8584-4EDD-89F0-8C4DC447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323-7806-4181-BB50-E3EBE0F8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4BB-95B8-4B72-84E6-781007B5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2F7-3862-4DC2-9454-97A8496E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8B2-4A68-48D7-8915-E294820A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AC0-1F2B-4D37-A29D-EC2FA932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7FF-2095-4C4E-BCFE-7FB2AF22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189-4F2F-4B27-A8F2-5BC9680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CD0-0CD7-436E-B24E-E8521A88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69E-26CC-4B1C-8AE8-691D350E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162-0EE9-49CE-AB76-8BA33ADF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55B-3DE5-4732-A50D-A6963F0A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F614-2A1A-47D4-9970-7F004E68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71600" y="68580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minuatives u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-i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Comment 3"/>
          <p:cNvSpPr/>
          <p:nvPr/>
        </p:nvSpPr>
        <p:spPr>
          <a:xfrm>
            <a:off x="914400" y="533520"/>
            <a:ext cx="7451640" cy="52120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minuatives are used to indicate smallness of size (‘little’), youngness in age,  or intimacy (member of family). Some uses may surprise an English speak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143000" y="121932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rmano = bro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herman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omment 3"/>
          <p:cNvSpPr/>
          <p:nvPr/>
        </p:nvSpPr>
        <p:spPr>
          <a:xfrm>
            <a:off x="5715000" y="2505240"/>
            <a:ext cx="2819520" cy="1739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bro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143000" y="121932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urro = donk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burr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3"/>
          <p:cNvSpPr/>
          <p:nvPr/>
        </p:nvSpPr>
        <p:spPr>
          <a:xfrm>
            <a:off x="5257800" y="2505240"/>
            <a:ext cx="3048120" cy="1739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donk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143000" y="121932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má = m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mamac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3"/>
          <p:cNvSpPr/>
          <p:nvPr/>
        </p:nvSpPr>
        <p:spPr>
          <a:xfrm>
            <a:off x="5638680" y="2505240"/>
            <a:ext cx="289584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mm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sca = f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mosqu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ment 3"/>
          <p:cNvSpPr/>
          <p:nvPr/>
        </p:nvSpPr>
        <p:spPr>
          <a:xfrm>
            <a:off x="5029200" y="2505240"/>
            <a:ext cx="3429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f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omment 3"/>
          <p:cNvSpPr/>
          <p:nvPr/>
        </p:nvSpPr>
        <p:spPr>
          <a:xfrm>
            <a:off x="1295280" y="685800"/>
            <a:ext cx="6858000" cy="4480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minuatives can also be used with names of people and places.  Sometimes these are nicknames, sometimes they are not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eblo = tow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puebloc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mment 3"/>
          <p:cNvSpPr/>
          <p:nvPr/>
        </p:nvSpPr>
        <p:spPr>
          <a:xfrm>
            <a:off x="5029200" y="2505240"/>
            <a:ext cx="35812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tow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erro = hi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Cerritos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3"/>
          <p:cNvSpPr/>
          <p:nvPr/>
        </p:nvSpPr>
        <p:spPr>
          <a:xfrm>
            <a:off x="4800600" y="2505240"/>
            <a:ext cx="35812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hil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905120" y="38098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in Southern California near Long B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u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Juan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p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Pepi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gu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Migueli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ro = do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perr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3"/>
          <p:cNvSpPr/>
          <p:nvPr/>
        </p:nvSpPr>
        <p:spPr>
          <a:xfrm>
            <a:off x="5181480" y="3657600"/>
            <a:ext cx="24228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upp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128124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Lup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omment 2"/>
          <p:cNvSpPr/>
          <p:nvPr/>
        </p:nvSpPr>
        <p:spPr>
          <a:xfrm>
            <a:off x="3581280" y="2743200"/>
            <a:ext cx="1828800" cy="23990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ato = c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gat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3"/>
          <p:cNvSpPr/>
          <p:nvPr/>
        </p:nvSpPr>
        <p:spPr>
          <a:xfrm>
            <a:off x="5181480" y="36576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it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so =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os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ment 3"/>
          <p:cNvSpPr/>
          <p:nvPr/>
        </p:nvSpPr>
        <p:spPr>
          <a:xfrm>
            <a:off x="4952880" y="3657600"/>
            <a:ext cx="3429000" cy="2562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ear cub or teddy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sa = ta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mes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3"/>
          <p:cNvSpPr/>
          <p:nvPr/>
        </p:nvSpPr>
        <p:spPr>
          <a:xfrm>
            <a:off x="5181480" y="3657600"/>
            <a:ext cx="2422800" cy="1739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ta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143000" y="121932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ñora = M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señor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omment 3"/>
          <p:cNvSpPr/>
          <p:nvPr/>
        </p:nvSpPr>
        <p:spPr>
          <a:xfrm>
            <a:off x="5410080" y="2505240"/>
            <a:ext cx="24228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43000" y="12193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ica = gir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chiqu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3"/>
          <p:cNvSpPr/>
          <p:nvPr/>
        </p:nvSpPr>
        <p:spPr>
          <a:xfrm>
            <a:off x="5486400" y="3657600"/>
            <a:ext cx="2666880" cy="1739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ttle gir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1281240"/>
            <a:ext cx="72392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uela = grandmo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abuelita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omment 3"/>
          <p:cNvSpPr/>
          <p:nvPr/>
        </p:nvSpPr>
        <p:spPr>
          <a:xfrm>
            <a:off x="5486400" y="2505240"/>
            <a:ext cx="31240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4300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uelo = grandfa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abuelito =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3"/>
          <p:cNvSpPr/>
          <p:nvPr/>
        </p:nvSpPr>
        <p:spPr>
          <a:xfrm>
            <a:off x="5410080" y="2505240"/>
            <a:ext cx="312444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andp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1:19:32Z</dcterms:created>
  <dc:creator>Paul Widergren</dc:creator>
  <dc:description/>
  <dc:language>en-US</dc:language>
  <cp:lastModifiedBy>Jackson</cp:lastModifiedBy>
  <dcterms:modified xsi:type="dcterms:W3CDTF">2011-03-17T04:42:59Z</dcterms:modified>
  <cp:revision>3</cp:revision>
  <dc:subject/>
  <dc:title>No Slide Title</dc:title>
</cp:coreProperties>
</file>