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392-70A8-4FDB-9B1C-2DEC2C45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4A1-319F-4730-9B94-FB84896D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74A-7CE9-4E50-812F-CE9C1848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439-8D61-42C2-9304-FC608773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94A-53EC-45B0-9CFD-4570471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79D-2CA4-41F9-BD62-25786032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B4D-E0F9-4B72-BFD2-00D7E51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580-C3F5-4AAF-89BD-A930D6F7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B2E-64F2-43F4-BFE3-39AAE511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EA3-DE47-42F4-B79B-7EC1AE7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09C-72F0-4455-889B-C2FF024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B40-2138-45F9-B9C0-21DCE00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6EDD-FC64-4BA6-B88A-E89702549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71600" y="68580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minuatives u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-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Comment 3"/>
          <p:cNvSpPr/>
          <p:nvPr/>
        </p:nvSpPr>
        <p:spPr>
          <a:xfrm>
            <a:off x="914400" y="533520"/>
            <a:ext cx="7451640" cy="5212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minuatives are used to indicate smallness of size (‘little’), youngness in age,  or intimacy (member of family). Some uses may surprise an English speak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rmano = br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herman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3"/>
          <p:cNvSpPr/>
          <p:nvPr/>
        </p:nvSpPr>
        <p:spPr>
          <a:xfrm>
            <a:off x="5715000" y="2505240"/>
            <a:ext cx="281952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br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rro = donk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burr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3"/>
          <p:cNvSpPr/>
          <p:nvPr/>
        </p:nvSpPr>
        <p:spPr>
          <a:xfrm>
            <a:off x="5257800" y="2505240"/>
            <a:ext cx="304812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donk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má = m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amac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3"/>
          <p:cNvSpPr/>
          <p:nvPr/>
        </p:nvSpPr>
        <p:spPr>
          <a:xfrm>
            <a:off x="5638680" y="2505240"/>
            <a:ext cx="289584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mm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ca = f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osqu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3"/>
          <p:cNvSpPr/>
          <p:nvPr/>
        </p:nvSpPr>
        <p:spPr>
          <a:xfrm>
            <a:off x="5029200" y="2505240"/>
            <a:ext cx="3429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f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omment 3"/>
          <p:cNvSpPr/>
          <p:nvPr/>
        </p:nvSpPr>
        <p:spPr>
          <a:xfrm>
            <a:off x="1295280" y="685800"/>
            <a:ext cx="6858000" cy="4480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minuatives can also be used with names of people and places.  Sometimes these are nicknames, sometimes they are not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eblo = t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puebloc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3"/>
          <p:cNvSpPr/>
          <p:nvPr/>
        </p:nvSpPr>
        <p:spPr>
          <a:xfrm>
            <a:off x="5029200" y="2505240"/>
            <a:ext cx="35812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t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erro = h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Cerritos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3"/>
          <p:cNvSpPr/>
          <p:nvPr/>
        </p:nvSpPr>
        <p:spPr>
          <a:xfrm>
            <a:off x="4800600" y="2505240"/>
            <a:ext cx="35812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hi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905120" y="3809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in Southern California near Long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Juan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p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Pep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iguel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ro = do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perr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3"/>
          <p:cNvSpPr/>
          <p:nvPr/>
        </p:nvSpPr>
        <p:spPr>
          <a:xfrm>
            <a:off x="5181480" y="3657600"/>
            <a:ext cx="2422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upp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Lup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mment 2"/>
          <p:cNvSpPr/>
          <p:nvPr/>
        </p:nvSpPr>
        <p:spPr>
          <a:xfrm>
            <a:off x="3581280" y="2743200"/>
            <a:ext cx="1828800" cy="23990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ato = c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gat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3"/>
          <p:cNvSpPr/>
          <p:nvPr/>
        </p:nvSpPr>
        <p:spPr>
          <a:xfrm>
            <a:off x="5181480" y="36576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it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so =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os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3"/>
          <p:cNvSpPr/>
          <p:nvPr/>
        </p:nvSpPr>
        <p:spPr>
          <a:xfrm>
            <a:off x="4952880" y="3657600"/>
            <a:ext cx="3429000" cy="2562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ar cub or teddy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sa = ta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es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3"/>
          <p:cNvSpPr/>
          <p:nvPr/>
        </p:nvSpPr>
        <p:spPr>
          <a:xfrm>
            <a:off x="5181480" y="3657600"/>
            <a:ext cx="242280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ta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ñora = M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señor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omment 3"/>
          <p:cNvSpPr/>
          <p:nvPr/>
        </p:nvSpPr>
        <p:spPr>
          <a:xfrm>
            <a:off x="5410080" y="2505240"/>
            <a:ext cx="2422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ica = 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chiqu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3"/>
          <p:cNvSpPr/>
          <p:nvPr/>
        </p:nvSpPr>
        <p:spPr>
          <a:xfrm>
            <a:off x="5486400" y="3657600"/>
            <a:ext cx="266688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281240"/>
            <a:ext cx="72392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uela = grandm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abuel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mment 3"/>
          <p:cNvSpPr/>
          <p:nvPr/>
        </p:nvSpPr>
        <p:spPr>
          <a:xfrm>
            <a:off x="5486400" y="2505240"/>
            <a:ext cx="31240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uelo = grandf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abuel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3"/>
          <p:cNvSpPr/>
          <p:nvPr/>
        </p:nvSpPr>
        <p:spPr>
          <a:xfrm>
            <a:off x="5410080" y="2505240"/>
            <a:ext cx="312444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1:19:32Z</dcterms:created>
  <dc:creator>Paul Widergren</dc:creator>
  <dc:description/>
  <dc:language>en-US</dc:language>
  <cp:lastModifiedBy>Jackson</cp:lastModifiedBy>
  <dcterms:modified xsi:type="dcterms:W3CDTF">2011-03-17T04:42:59Z</dcterms:modified>
  <cp:revision>3</cp:revision>
  <dc:subject/>
  <dc:title>No Slide Title</dc:title>
</cp:coreProperties>
</file>