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FF4-C8DF-424A-8A3F-C1643EB1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F16-7881-48A3-A1A7-BBEE560E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B0CF4-5C10-4802-B987-A59E67E8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5A4B2-9F98-4013-931E-2A981408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481EF-8ED3-46C9-B50A-E859E5B1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E0785-8940-4881-8ABF-5B4C15CB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C4BFD-AF60-4EF0-B33D-3F90C286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9283C-95F8-41DE-B88F-348F2532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7CE15-9DDF-4667-90B3-4EB72C3A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7861F-4FDA-434D-ABE7-4A9A508E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2D056-299C-4ADE-BEF8-777570F9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7A3-2685-4EB5-B9C0-C42E433E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16A-7BA4-4898-9104-1A49D5B7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55DD-D41C-4008-B8FA-CA3CB05F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3707-FE4A-494A-AB5B-A9981BEF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C203-824B-44C4-AE7F-EB3F3269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A16C-4925-490B-BE2D-CC6D0540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C9F1-0E29-4766-BF54-B20A3483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6E70-37CC-4E48-9D1C-B9DF504B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A3C0-2466-42B7-B507-AAA18AF7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991-E8B5-463F-B804-01274B02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86C4-F243-430F-A069-694CFD50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FC72-E982-43BF-AD8E-306E32A3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BC24-57C5-41AF-A9FD-871F6907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7CA4-9738-41EF-8594-234CB7DA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6239-9B58-4D67-AF8D-AA4DC1D6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7860-3E41-40AF-8B23-E7978205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A0DEC-F19C-4F58-A26D-1C827EC0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B2CC4-1C39-4CEA-8B03-D4DDC2BF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C8EE-284E-4F39-8906-C9AF6DDD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06698-66C4-4219-8B71-BC5E7EB0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82D-4CF7-48CD-95E2-171D4D3D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C7B0-8956-4F4E-898B-781977D6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CECB2-EBB3-4EE0-BEC8-91158932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546EB-F398-4535-AFAF-AC0A8404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40E24-8916-4865-89C3-8600C366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10DE1-BD27-452D-AB22-3547FA8E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DDF40-5E50-4854-A5F0-E5258EDC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D507E-16E2-4CD0-9489-B8EA4FA2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D4F8F-4883-4167-97D2-1645D3F5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CD3F9-926E-4D1B-8688-0C336767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3BD74-B2BF-4974-A8C4-A4FBFE40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F5E-DF38-4C44-A7A3-C88F1FC6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0C2BF-114C-44C5-96CE-2C69CC0C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A6AB4-AF47-4FE5-AE85-B59844B6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87E2C-08BA-434A-BE03-C8D95ABA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23FC6-8C83-4FB7-B47A-17D1F10F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EEB72-040F-4CD0-B3BD-62EA670D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2E781-D6DB-4538-8067-724B72B6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10135-1C47-4F65-B711-93175BF2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916E1-E3D7-4150-8D27-A564B7CE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F8A77-AF74-48D6-BF8B-1CA55016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88168-A531-49C5-B584-21650E32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CFD-7433-4B57-B1C7-DBEDE704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D722C-B31F-42C3-A0D7-24732C45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F726D-0279-4C66-A546-FAAE5578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DB889-F070-43DD-A06F-91934E5A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F676F-3E9C-42BB-B27A-FC13C01D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7E285-0192-4703-B583-809017AB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13C4A-8510-42DB-A2FC-B8840403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63996-A80A-4D15-A4E0-238DA53D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7DB54-BC00-410A-BAD7-DADD0CA7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D03A5-448F-42AD-8205-88BE0DFF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16D54-ED2B-4E40-9699-393C787F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66C-4B2F-4B10-9160-98456DCC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C684D-6A2E-4C6D-B7D7-98F0F3F4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C962B-6050-42E0-BB44-380609FE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E2CD4-9F8A-4667-9C2D-0DAB2AAE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AE83A-D29F-4691-A641-AD1F342F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31FA1-3EEB-4C9C-AC55-A45451DC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39A2B-33D3-4DB0-9FFA-22D79C50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B3E23-8828-42B9-93C6-3C72FE78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55017-5BC1-4590-BA65-4D7CDBAD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AAC2E-356F-4D44-9869-EF0B33FE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D890C-1A17-43C0-ADD8-1A501EC5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898-476B-4D37-81C1-92A63D77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4EFF3-F365-4C43-A169-9C2EED9A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09EFC-B872-4880-9777-5D361B83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15A9C-482E-4ADC-BD37-3FD44EF1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FA07F-EE83-44AC-8914-079BCE57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2B633-DE56-40C3-8FE1-593A2E6E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13B1F-84D0-4505-B020-39C601D5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67F43-F2A3-4B7A-9EE5-2E57C771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C074C-BB2B-4F69-8074-29BE7975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BF213-E636-40B0-8B51-3D2E7082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692EE-D684-4DDE-A269-13B5D823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405-5B9B-413D-A100-F08F7B02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12BDC-1B77-440E-8FBC-7EE8A920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AFAC1-1013-4703-A763-42BC1627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04736-DB15-4804-970A-762EB60E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BBEED-C05B-4FEC-95DD-36CEE0ED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A5F67-77E1-426B-BE00-D1AE3BF3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CE71D-303C-4BCD-9F4A-EDFC3CBB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7663D-FB3B-4DF0-A189-880B4F5B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1ABFF-5308-4647-AFD7-5E28EFE8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EAAA2-FAF2-4134-8A87-CE20CEEC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90842-02F4-4D40-A6CF-A247CF8A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B1F-1698-4154-BC6F-A8AE4AC1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B084E-BBCF-4B65-98FE-9D963DF5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BCEF2-6E75-423B-8BA0-611A48BC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85E5F-8067-4604-A97A-6595390A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1C6FB-5FCD-4CC9-9EE7-1259C234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C37F7-7ABD-40A8-B030-4D3B2C49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051DB-6A8A-4292-9839-DE5A64BA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D06FE-8AA6-42F6-BEBB-B24F6A7F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03555-C2F5-4879-AEC6-2CAE1EA2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889AB-CDAA-4E2B-BFBE-EF8CAF20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09DFC-A069-4ABB-B3AF-33D46606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1E2D-EA59-4638-A67C-28CAF6EC62E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4376-962D-4463-9D46-53CE8FD96C6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7D1E-6F84-4BF8-ABDA-ADB114FE416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A61B-7770-46A7-A76C-E956088419A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2228-0C0C-44C8-95D7-0CBA63D2918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B782-7D6E-4A7E-96C0-327D1545D1C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0EEB-9E3C-4AA7-8CDD-0D2CD170DF9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1C4D-F362-47B3-9001-CEF62D81808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DCE1-EE31-4C9D-BCDA-C2997FD1384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1" descr=""/>
          <p:cNvPicPr/>
          <p:nvPr/>
        </p:nvPicPr>
        <p:blipFill>
          <a:blip r:embed="rId1"/>
          <a:stretch/>
        </p:blipFill>
        <p:spPr>
          <a:xfrm>
            <a:off x="1743120" y="2341440"/>
            <a:ext cx="6662520" cy="1816200"/>
          </a:xfrm>
          <a:prstGeom prst="rect">
            <a:avLst/>
          </a:prstGeom>
          <a:ln w="0">
            <a:noFill/>
          </a:ln>
        </p:spPr>
      </p:pic>
      <p:sp>
        <p:nvSpPr>
          <p:cNvPr id="400" name="Footer Placeholder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Bet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histori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Bet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histori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Comment 6"/>
          <p:cNvSpPr/>
          <p:nvPr/>
        </p:nvSpPr>
        <p:spPr>
          <a:xfrm>
            <a:off x="175248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1143000" y="30492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Carme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matemátic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1143000" y="3049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Carme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matemátic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Comment 6"/>
          <p:cNvSpPr/>
          <p:nvPr/>
        </p:nvSpPr>
        <p:spPr>
          <a:xfrm>
            <a:off x="160020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Jaim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Jaim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Comment 6"/>
          <p:cNvSpPr/>
          <p:nvPr/>
        </p:nvSpPr>
        <p:spPr>
          <a:xfrm>
            <a:off x="175248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14300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la profesor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computació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114300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la profesor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computació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Comment 6"/>
          <p:cNvSpPr/>
          <p:nvPr/>
        </p:nvSpPr>
        <p:spPr>
          <a:xfrm>
            <a:off x="160020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o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o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Comment 5"/>
          <p:cNvSpPr/>
          <p:nvPr/>
        </p:nvSpPr>
        <p:spPr>
          <a:xfrm>
            <a:off x="167652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o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cafeterí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o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cafeteri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Comment 5"/>
          <p:cNvSpPr/>
          <p:nvPr/>
        </p:nvSpPr>
        <p:spPr>
          <a:xfrm>
            <a:off x="167652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bañ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bañ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Comment 4"/>
          <p:cNvSpPr/>
          <p:nvPr/>
        </p:nvSpPr>
        <p:spPr>
          <a:xfrm>
            <a:off x="1600200" y="1143000"/>
            <a:ext cx="2286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Marí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 con Jaim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Marí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 con Jaim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Comment 6"/>
          <p:cNvSpPr/>
          <p:nvPr/>
        </p:nvSpPr>
        <p:spPr>
          <a:xfrm>
            <a:off x="160020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1143000" y="304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1143000" y="12193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laboratorio de quími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143000" y="304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143000" y="12193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laboratorio de quími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Comment 9"/>
          <p:cNvSpPr/>
          <p:nvPr/>
        </p:nvSpPr>
        <p:spPr>
          <a:xfrm>
            <a:off x="1066680" y="1143000"/>
            <a:ext cx="3200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143000" y="304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1143000" y="12193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teatr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2"/>
          <p:cNvSpPr/>
          <p:nvPr/>
        </p:nvSpPr>
        <p:spPr>
          <a:xfrm>
            <a:off x="1143000" y="304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"/>
          <p:cNvSpPr/>
          <p:nvPr/>
        </p:nvSpPr>
        <p:spPr>
          <a:xfrm>
            <a:off x="1143000" y="12193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teatr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Comment 9"/>
          <p:cNvSpPr/>
          <p:nvPr/>
        </p:nvSpPr>
        <p:spPr>
          <a:xfrm>
            <a:off x="990720" y="1143000"/>
            <a:ext cx="33526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Comment 4"/>
          <p:cNvSpPr/>
          <p:nvPr/>
        </p:nvSpPr>
        <p:spPr>
          <a:xfrm>
            <a:off x="1600200" y="1143000"/>
            <a:ext cx="23623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1143000" y="3049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bibliote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1143000" y="3049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1143000" y="121932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bibliote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Comment 9"/>
          <p:cNvSpPr/>
          <p:nvPr/>
        </p:nvSpPr>
        <p:spPr>
          <a:xfrm>
            <a:off x="1066680" y="1143000"/>
            <a:ext cx="3200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2"/>
          <p:cNvSpPr/>
          <p:nvPr/>
        </p:nvSpPr>
        <p:spPr>
          <a:xfrm>
            <a:off x="1143000" y="3049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1143000" y="3049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usted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Comment 9"/>
          <p:cNvSpPr/>
          <p:nvPr/>
        </p:nvSpPr>
        <p:spPr>
          <a:xfrm>
            <a:off x="1066680" y="1143000"/>
            <a:ext cx="3200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ell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"/>
          <p:cNvSpPr/>
          <p:nvPr/>
        </p:nvSpPr>
        <p:spPr>
          <a:xfrm>
            <a:off x="1143000" y="12193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músi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ell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1143000" y="121932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músi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Comment 6"/>
          <p:cNvSpPr/>
          <p:nvPr/>
        </p:nvSpPr>
        <p:spPr>
          <a:xfrm>
            <a:off x="167652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ell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3"/>
          <p:cNvSpPr/>
          <p:nvPr/>
        </p:nvSpPr>
        <p:spPr>
          <a:xfrm>
            <a:off x="1143000" y="12193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art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ell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1143000" y="12193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art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Comment 7"/>
          <p:cNvSpPr/>
          <p:nvPr/>
        </p:nvSpPr>
        <p:spPr>
          <a:xfrm>
            <a:off x="1752480" y="1143000"/>
            <a:ext cx="2286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2"/>
          <p:cNvSpPr/>
          <p:nvPr/>
        </p:nvSpPr>
        <p:spPr>
          <a:xfrm>
            <a:off x="1143000" y="3049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Ana y Lup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bibliote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2"/>
          <p:cNvSpPr/>
          <p:nvPr/>
        </p:nvSpPr>
        <p:spPr>
          <a:xfrm>
            <a:off x="1143000" y="3049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Ana y Lup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bibliote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Comment 7"/>
          <p:cNvSpPr/>
          <p:nvPr/>
        </p:nvSpPr>
        <p:spPr>
          <a:xfrm>
            <a:off x="1600200" y="1143000"/>
            <a:ext cx="2286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gimnasi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2"/>
          <p:cNvSpPr/>
          <p:nvPr/>
        </p:nvSpPr>
        <p:spPr>
          <a:xfrm>
            <a:off x="228600" y="30492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Carlos y Migue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oficina del directo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Comment 7"/>
          <p:cNvSpPr/>
          <p:nvPr/>
        </p:nvSpPr>
        <p:spPr>
          <a:xfrm>
            <a:off x="5575320" y="54831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2"/>
          <p:cNvSpPr/>
          <p:nvPr/>
        </p:nvSpPr>
        <p:spPr>
          <a:xfrm>
            <a:off x="228600" y="30492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Carlos y Migue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oficina del directo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Comment 7"/>
          <p:cNvSpPr/>
          <p:nvPr/>
        </p:nvSpPr>
        <p:spPr>
          <a:xfrm>
            <a:off x="1600200" y="1143000"/>
            <a:ext cx="24382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Comment 4"/>
          <p:cNvSpPr/>
          <p:nvPr/>
        </p:nvSpPr>
        <p:spPr>
          <a:xfrm>
            <a:off x="1600200" y="1143000"/>
            <a:ext cx="22096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"/>
          <p:cNvSpPr/>
          <p:nvPr/>
        </p:nvSpPr>
        <p:spPr>
          <a:xfrm>
            <a:off x="1143000" y="12193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cafeterí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Comment 4"/>
          <p:cNvSpPr/>
          <p:nvPr/>
        </p:nvSpPr>
        <p:spPr>
          <a:xfrm>
            <a:off x="1371600" y="3200400"/>
            <a:ext cx="22096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1143000" y="12193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cafeterí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Comment 4"/>
          <p:cNvSpPr/>
          <p:nvPr/>
        </p:nvSpPr>
        <p:spPr>
          <a:xfrm>
            <a:off x="1600200" y="1143000"/>
            <a:ext cx="22096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 con mis amig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 con mis amig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Comment 4"/>
          <p:cNvSpPr/>
          <p:nvPr/>
        </p:nvSpPr>
        <p:spPr>
          <a:xfrm>
            <a:off x="1600200" y="1143000"/>
            <a:ext cx="23623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 Box 2"/>
          <p:cNvSpPr/>
          <p:nvPr/>
        </p:nvSpPr>
        <p:spPr>
          <a:xfrm>
            <a:off x="1143000" y="3049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tú y An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bibliote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Text Box 2"/>
          <p:cNvSpPr/>
          <p:nvPr/>
        </p:nvSpPr>
        <p:spPr>
          <a:xfrm>
            <a:off x="1143000" y="3049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tú y An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bibliote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Comment 9"/>
          <p:cNvSpPr/>
          <p:nvPr/>
        </p:nvSpPr>
        <p:spPr>
          <a:xfrm>
            <a:off x="990720" y="1143000"/>
            <a:ext cx="327636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gimnasi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Comment 4"/>
          <p:cNvSpPr/>
          <p:nvPr/>
        </p:nvSpPr>
        <p:spPr>
          <a:xfrm>
            <a:off x="1600200" y="1143000"/>
            <a:ext cx="2286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2"/>
          <p:cNvSpPr/>
          <p:nvPr/>
        </p:nvSpPr>
        <p:spPr>
          <a:xfrm>
            <a:off x="1143000" y="30492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los chic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"/>
          <p:cNvSpPr/>
          <p:nvPr/>
        </p:nvSpPr>
        <p:spPr>
          <a:xfrm>
            <a:off x="1143000" y="12193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gimnasi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 Box 2"/>
          <p:cNvSpPr/>
          <p:nvPr/>
        </p:nvSpPr>
        <p:spPr>
          <a:xfrm>
            <a:off x="1143000" y="3049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los chic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3"/>
          <p:cNvSpPr/>
          <p:nvPr/>
        </p:nvSpPr>
        <p:spPr>
          <a:xfrm>
            <a:off x="1143000" y="12193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gimnasi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Comment 7"/>
          <p:cNvSpPr/>
          <p:nvPr/>
        </p:nvSpPr>
        <p:spPr>
          <a:xfrm>
            <a:off x="1676520" y="1143000"/>
            <a:ext cx="236196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am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am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Comment 9"/>
          <p:cNvSpPr/>
          <p:nvPr/>
        </p:nvSpPr>
        <p:spPr>
          <a:xfrm>
            <a:off x="990720" y="1143000"/>
            <a:ext cx="33526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am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Comment 8"/>
          <p:cNvSpPr/>
          <p:nvPr/>
        </p:nvSpPr>
        <p:spPr>
          <a:xfrm>
            <a:off x="1447920" y="1143000"/>
            <a:ext cx="236196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2"/>
          <p:cNvSpPr/>
          <p:nvPr/>
        </p:nvSpPr>
        <p:spPr>
          <a:xfrm>
            <a:off x="1143000" y="3049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el directo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su ofici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Text Box 2"/>
          <p:cNvSpPr/>
          <p:nvPr/>
        </p:nvSpPr>
        <p:spPr>
          <a:xfrm>
            <a:off x="1143000" y="3049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el directo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su ofici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Comment 6"/>
          <p:cNvSpPr/>
          <p:nvPr/>
        </p:nvSpPr>
        <p:spPr>
          <a:xfrm>
            <a:off x="152388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 Box 2"/>
          <p:cNvSpPr/>
          <p:nvPr/>
        </p:nvSpPr>
        <p:spPr>
          <a:xfrm>
            <a:off x="609480" y="3049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el señor Díaz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"/>
          <p:cNvSpPr/>
          <p:nvPr/>
        </p:nvSpPr>
        <p:spPr>
          <a:xfrm>
            <a:off x="1143000" y="12193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teatr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2"/>
          <p:cNvSpPr/>
          <p:nvPr/>
        </p:nvSpPr>
        <p:spPr>
          <a:xfrm>
            <a:off x="609480" y="3049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el señor Díaz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"/>
          <p:cNvSpPr/>
          <p:nvPr/>
        </p:nvSpPr>
        <p:spPr>
          <a:xfrm>
            <a:off x="1143000" y="12193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teatr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Comment 6"/>
          <p:cNvSpPr/>
          <p:nvPr/>
        </p:nvSpPr>
        <p:spPr>
          <a:xfrm>
            <a:off x="152388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Text Box 2"/>
          <p:cNvSpPr/>
          <p:nvPr/>
        </p:nvSpPr>
        <p:spPr>
          <a:xfrm>
            <a:off x="1143000" y="3049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las chica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bibliote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sill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Text Box 2"/>
          <p:cNvSpPr/>
          <p:nvPr/>
        </p:nvSpPr>
        <p:spPr>
          <a:xfrm>
            <a:off x="1143000" y="3049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n las chica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bibliote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Comment 7"/>
          <p:cNvSpPr/>
          <p:nvPr/>
        </p:nvSpPr>
        <p:spPr>
          <a:xfrm>
            <a:off x="1676520" y="1143000"/>
            <a:ext cx="2286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Text Box 2"/>
          <p:cNvSpPr/>
          <p:nvPr/>
        </p:nvSpPr>
        <p:spPr>
          <a:xfrm>
            <a:off x="1143000" y="304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la chic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sill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 Box 2"/>
          <p:cNvSpPr/>
          <p:nvPr/>
        </p:nvSpPr>
        <p:spPr>
          <a:xfrm>
            <a:off x="1143000" y="304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la chic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sill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Comment 6"/>
          <p:cNvSpPr/>
          <p:nvPr/>
        </p:nvSpPr>
        <p:spPr>
          <a:xfrm>
            <a:off x="160020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o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computació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o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computació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Comment 5"/>
          <p:cNvSpPr/>
          <p:nvPr/>
        </p:nvSpPr>
        <p:spPr>
          <a:xfrm>
            <a:off x="182880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o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oficina de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o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oficina de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Comment 5"/>
          <p:cNvSpPr/>
          <p:nvPr/>
        </p:nvSpPr>
        <p:spPr>
          <a:xfrm>
            <a:off x="167652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am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 de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am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 de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Comment 9"/>
          <p:cNvSpPr/>
          <p:nvPr/>
        </p:nvSpPr>
        <p:spPr>
          <a:xfrm>
            <a:off x="1219320" y="1143000"/>
            <a:ext cx="312408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am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tio de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Comment 8"/>
          <p:cNvSpPr/>
          <p:nvPr/>
        </p:nvSpPr>
        <p:spPr>
          <a:xfrm>
            <a:off x="1523880" y="1143000"/>
            <a:ext cx="23623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pasill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Comment 4"/>
          <p:cNvSpPr/>
          <p:nvPr/>
        </p:nvSpPr>
        <p:spPr>
          <a:xfrm>
            <a:off x="1600200" y="1143000"/>
            <a:ext cx="2286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3"/>
          <p:cNvSpPr/>
          <p:nvPr/>
        </p:nvSpPr>
        <p:spPr>
          <a:xfrm>
            <a:off x="1143000" y="12193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bañ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1143000" y="12193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el bañ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omment 4"/>
          <p:cNvSpPr/>
          <p:nvPr/>
        </p:nvSpPr>
        <p:spPr>
          <a:xfrm>
            <a:off x="1523880" y="1143000"/>
            <a:ext cx="221004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2"/>
          <p:cNvSpPr/>
          <p:nvPr/>
        </p:nvSpPr>
        <p:spPr>
          <a:xfrm>
            <a:off x="1143000" y="30492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el profeso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 Box 2"/>
          <p:cNvSpPr/>
          <p:nvPr/>
        </p:nvSpPr>
        <p:spPr>
          <a:xfrm>
            <a:off x="1143000" y="30492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 el profeso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Comment 6"/>
          <p:cNvSpPr/>
          <p:nvPr/>
        </p:nvSpPr>
        <p:spPr>
          <a:xfrm>
            <a:off x="1676520" y="11430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españ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Comment 4"/>
          <p:cNvSpPr/>
          <p:nvPr/>
        </p:nvSpPr>
        <p:spPr>
          <a:xfrm>
            <a:off x="1676520" y="1143000"/>
            <a:ext cx="22860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12"/>
          <p:cNvSpPr/>
          <p:nvPr/>
        </p:nvSpPr>
        <p:spPr>
          <a:xfrm>
            <a:off x="1371600" y="1981080"/>
            <a:ext cx="6705720" cy="365760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2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Footer Placeholder 1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art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Comment 4"/>
          <p:cNvSpPr/>
          <p:nvPr/>
        </p:nvSpPr>
        <p:spPr>
          <a:xfrm>
            <a:off x="1371600" y="319896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1143000" y="304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¿Dónde está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1143000" y="1219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__ en la sala de art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Comment 4"/>
          <p:cNvSpPr/>
          <p:nvPr/>
        </p:nvSpPr>
        <p:spPr>
          <a:xfrm>
            <a:off x="1523880" y="1143000"/>
            <a:ext cx="23623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Comment 5"/>
          <p:cNvSpPr/>
          <p:nvPr/>
        </p:nvSpPr>
        <p:spPr>
          <a:xfrm>
            <a:off x="1371600" y="441468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Comment 6"/>
          <p:cNvSpPr/>
          <p:nvPr/>
        </p:nvSpPr>
        <p:spPr>
          <a:xfrm>
            <a:off x="1370160" y="557532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Comment 7"/>
          <p:cNvSpPr/>
          <p:nvPr/>
        </p:nvSpPr>
        <p:spPr>
          <a:xfrm>
            <a:off x="5562720" y="5486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Comment 8"/>
          <p:cNvSpPr/>
          <p:nvPr/>
        </p:nvSpPr>
        <p:spPr>
          <a:xfrm>
            <a:off x="5562720" y="4343400"/>
            <a:ext cx="205740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Comment 9"/>
          <p:cNvSpPr/>
          <p:nvPr/>
        </p:nvSpPr>
        <p:spPr>
          <a:xfrm>
            <a:off x="5486400" y="3200400"/>
            <a:ext cx="3048120" cy="916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228600" y="3429000"/>
            <a:ext cx="762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3809880" y="3429000"/>
            <a:ext cx="137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0:45:58Z</dcterms:created>
  <dc:creator>Paul Widergren</dc:creator>
  <dc:description/>
  <dc:language>en-US</dc:language>
  <cp:lastModifiedBy>Jackson</cp:lastModifiedBy>
  <dcterms:modified xsi:type="dcterms:W3CDTF">2011-03-17T04:44:00Z</dcterms:modified>
  <cp:revision>4</cp:revision>
  <dc:subject/>
  <dc:title>No Slide Title</dc:title>
</cp:coreProperties>
</file>