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E5-3C76-4E9E-A5A3-66CFDF18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A69-06BE-4EC6-AACC-BF611D58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1BE72-E8F3-487A-A541-573048F1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32F76-99FB-45BF-A26E-BC9F4DC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CC693-2260-49EC-ADE4-5DB5F81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967BF-1A52-4C57-A620-C65FE1A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939B-6A7D-452C-AEB8-A931AE9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7423A-37C6-4A9E-A44D-CABEC2B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9B06D-E410-4F08-B22F-6AEAB14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3C09E-15F8-4B20-A414-D83F36A7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8F648-5B5D-4C1B-A9A3-2D49D914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B0C-4976-4835-B41F-89AB3F6C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9BA-3565-4F42-B6F9-EE4168A6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733-48CE-4C5E-8389-DC7D7170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15C1-1FA2-452D-B98C-6C2A1EE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302-BE2A-4D5D-86CD-4B6B8E8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1C70-74E8-4784-A4DA-0A0F206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73A-542E-403A-BE66-22992D4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C6B-AE66-4465-970D-8E32348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D1E-7918-480B-9AF9-8CAC718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D45-BF0E-4938-A1D2-6C28F09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965A-B84B-4169-A081-851D8F4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8E4D-6828-457F-8C0C-5027A6D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665-88D1-40D4-9F9A-7F8E0B2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F66-03F1-4F59-A1E8-F98A5F6C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1112-CE71-458A-9BB5-AA4FD41A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998E-8153-4159-B12F-9B94BBD3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ED59-C44A-4A0E-8FE2-66192A7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C985-9521-4F0B-89EC-BB81D96F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9265-2E21-4651-BC11-46B1030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8433-664E-4EF9-BB68-C3EC987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CED-0EC4-485D-B0F1-07C7E6F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08EF-CEFD-4FC6-A82D-226B72C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44D3-5C21-473F-B5E3-25ECFA3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EBF8-BCBA-422E-A0D5-972F99CA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532A-E97B-4CE6-9072-EA5E014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5BED-ABAF-4314-A4C4-B860F2C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C24B-0DA4-472E-B03A-1E866EE6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F9DD-61EA-45AC-924F-849993FF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AA79-799D-4D84-A7F5-BEB7B384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21B3-228E-4313-B7A9-8D190D0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A4F7-A189-41C8-AC14-BD923BD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8BC-898A-4528-94BF-A0F6652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96D1-DB57-4BEC-9F17-8B362B6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8FFF-A03F-470B-ADD8-4AA0057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5F8B-1FA5-49E7-8B81-F5FA296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23FD-D7FA-48C0-9ECF-086BEB2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5479-3FC7-4C30-B103-A0F0393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4BD0-5124-4B05-9C70-FCED217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E875-6784-423C-A967-0462EB6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A8CF-006F-4355-BD5E-F416A945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A605-FD5D-4817-B181-A120AAE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692F-B546-4524-88F4-3D546CD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2CA-9AA5-4F43-9AD1-81DE5EAA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0383-0930-4899-B8AE-5D3DDB9D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CDF1-6CE5-4D74-8A1C-A5D4B73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99FC-444F-4521-B014-3A72C01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A675-11C5-4AD7-9CB6-B4B19F4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4DFF-56C1-43CE-A9B8-D1AA1BE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0C65-07DD-4815-BDB2-713B4A5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3995-B1C7-48C0-912E-A805176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88ED-92CE-4504-BFD0-B60D732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3126-0854-49CF-95B5-8765C89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F4D2-ACFA-44A5-8CFB-A264E2EA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B57-EE93-44F0-AD79-4F268C2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BA07-8778-4B5A-B776-88F24F9A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D024-FB36-4436-AB8B-8A04E354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705D-1D9D-41F3-8021-042716E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59CE-50C2-49F3-89FD-4599D74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8269-0ECA-4489-8DC9-89D621A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03B8-739D-40D0-A14F-BB395ACD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D0C5-66DA-48B5-92B4-360257E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B27B-3C48-45DF-AD0B-F8A6ACF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E5DE-8829-478B-AA3C-7F43578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2276-4DD6-4EED-A72B-899C209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59-6B0D-4FE0-8AED-D0A1AB8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78C4-A7CF-40E7-A5BE-5374B8D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CE322-45D6-4EF7-8D54-0EFDC5E8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48546-D7FF-4B8E-91FC-30D14368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82BB5-F81B-4D79-9160-1A1E2888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5FA1B-C8AC-49CA-A1C5-09804A85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24ED-2771-4725-B449-13A148E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A3CD-9809-4047-9C24-DC8A787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3389-69D8-42F5-8708-1CA5CD6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B634-6820-4956-A630-BBF7F7C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8B9AE-1F9F-423F-8A54-070264A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E86-6841-4BAC-A7A5-130FCBA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CF59-A334-47B1-8D59-652DD23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7326-11F1-4766-8277-58920A6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B11AD-977A-44E9-9621-482C419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AB10-82FD-4F16-A1AC-377A47DA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FE69-F96D-499F-BA68-F11CCDC9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7C766-9D84-4938-BCB7-6AC9EB1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3CD8-7A17-4DEB-8A43-4E9EF35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AA63D-2D0C-492B-92C6-632CFCE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E096-B7C8-4A82-BFF0-2E110DF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704DA-E23B-4675-BF15-938ECC36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832-90A5-4E1A-B2DC-907E9FA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85A58-69EB-479D-BE2B-9E471F4F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02631-14D4-42FA-A36A-6279F80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C89F-E0CE-4EA0-B246-AF9166FF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954B-047E-4503-8647-4B12BB4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921A-43D4-47D5-8E11-CDB36EC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9B53D-85DB-490C-8AF0-B6A613FE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F1397-F4DA-4C13-9404-FA40A6C4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CA929-B355-4196-AA05-7F9F6D9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E54FD-C68E-4C4D-9944-486B648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53D1B-B22D-45DB-A329-383FF50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8DF-96E1-44B9-84E9-2DED222E92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342C-E8F9-47D9-99A0-0E9D4DDAC9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C7C-82D8-4C9E-81B8-C1A2DE13DE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AF9D-D14C-4C3F-AFBB-717DCF1AC1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045-9A51-4D2E-8DC2-513377C1BB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B4F-6FC1-4325-8567-57ADD70804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18A7-0057-45E7-B902-660D34DE38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F0A2-B5EE-43D7-9F64-434061566C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3AE0-79DA-45DB-8924-A35AD823495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1" descr=""/>
          <p:cNvPicPr/>
          <p:nvPr/>
        </p:nvPicPr>
        <p:blipFill>
          <a:blip r:embed="rId1"/>
          <a:stretch/>
        </p:blipFill>
        <p:spPr>
          <a:xfrm>
            <a:off x="1743120" y="2341440"/>
            <a:ext cx="6662520" cy="18162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Bet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histo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Bet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histo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Comment 6"/>
          <p:cNvSpPr/>
          <p:nvPr/>
        </p:nvSpPr>
        <p:spPr>
          <a:xfrm>
            <a:off x="17524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143000" y="304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Carme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Carme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Ja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Ja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Comment 6"/>
          <p:cNvSpPr/>
          <p:nvPr/>
        </p:nvSpPr>
        <p:spPr>
          <a:xfrm>
            <a:off x="17524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14300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profesor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14300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profesor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Marí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Jai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Marí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Jai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laboratorio de quím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laboratorio de quím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Comment 9"/>
          <p:cNvSpPr/>
          <p:nvPr/>
        </p:nvSpPr>
        <p:spPr>
          <a:xfrm>
            <a:off x="990720" y="1143000"/>
            <a:ext cx="3352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Comment 4"/>
          <p:cNvSpPr/>
          <p:nvPr/>
        </p:nvSpPr>
        <p:spPr>
          <a:xfrm>
            <a:off x="160020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1430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1430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143000" y="12193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11430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11430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l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ús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l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1143000" y="121932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ús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Comment 6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ell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1143000" y="12193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ell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1143000" y="12193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Comment 7"/>
          <p:cNvSpPr/>
          <p:nvPr/>
        </p:nvSpPr>
        <p:spPr>
          <a:xfrm>
            <a:off x="175248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1143000" y="304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Ana y Lup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1143000" y="304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Ana y Lup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Comment 7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228600" y="3049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Carlos y Migue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l directo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Comment 7"/>
          <p:cNvSpPr/>
          <p:nvPr/>
        </p:nvSpPr>
        <p:spPr>
          <a:xfrm>
            <a:off x="5575320" y="54831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228600" y="3049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Carlos y Migue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l directo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Comment 7"/>
          <p:cNvSpPr/>
          <p:nvPr/>
        </p:nvSpPr>
        <p:spPr>
          <a:xfrm>
            <a:off x="1600200" y="1143000"/>
            <a:ext cx="2438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Comment 4"/>
          <p:cNvSpPr/>
          <p:nvPr/>
        </p:nvSpPr>
        <p:spPr>
          <a:xfrm>
            <a:off x="1600200" y="11430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11430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Comment 4"/>
          <p:cNvSpPr/>
          <p:nvPr/>
        </p:nvSpPr>
        <p:spPr>
          <a:xfrm>
            <a:off x="1371600" y="32004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1143000" y="1219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Comment 4"/>
          <p:cNvSpPr/>
          <p:nvPr/>
        </p:nvSpPr>
        <p:spPr>
          <a:xfrm>
            <a:off x="1600200" y="11430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Comment 4"/>
          <p:cNvSpPr/>
          <p:nvPr/>
        </p:nvSpPr>
        <p:spPr>
          <a:xfrm>
            <a:off x="160020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1143000" y="304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tú y A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2"/>
          <p:cNvSpPr/>
          <p:nvPr/>
        </p:nvSpPr>
        <p:spPr>
          <a:xfrm>
            <a:off x="1143000" y="304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tú y A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Comment 9"/>
          <p:cNvSpPr/>
          <p:nvPr/>
        </p:nvSpPr>
        <p:spPr>
          <a:xfrm>
            <a:off x="990720" y="1143000"/>
            <a:ext cx="32763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1143000" y="3049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os chic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143000" y="1219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143000" y="3049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os chic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1143000" y="1219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Comment 7"/>
          <p:cNvSpPr/>
          <p:nvPr/>
        </p:nvSpPr>
        <p:spPr>
          <a:xfrm>
            <a:off x="1676520" y="1143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Comment 9"/>
          <p:cNvSpPr/>
          <p:nvPr/>
        </p:nvSpPr>
        <p:spPr>
          <a:xfrm>
            <a:off x="990720" y="1143000"/>
            <a:ext cx="3352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Comment 8"/>
          <p:cNvSpPr/>
          <p:nvPr/>
        </p:nvSpPr>
        <p:spPr>
          <a:xfrm>
            <a:off x="1447920" y="1143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direct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su ofici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direct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su ofici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Comment 6"/>
          <p:cNvSpPr/>
          <p:nvPr/>
        </p:nvSpPr>
        <p:spPr>
          <a:xfrm>
            <a:off x="15238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2"/>
          <p:cNvSpPr/>
          <p:nvPr/>
        </p:nvSpPr>
        <p:spPr>
          <a:xfrm>
            <a:off x="609480" y="304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señor Día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2"/>
          <p:cNvSpPr/>
          <p:nvPr/>
        </p:nvSpPr>
        <p:spPr>
          <a:xfrm>
            <a:off x="609480" y="304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señor Día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1143000" y="12193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Comment 6"/>
          <p:cNvSpPr/>
          <p:nvPr/>
        </p:nvSpPr>
        <p:spPr>
          <a:xfrm>
            <a:off x="15238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2"/>
          <p:cNvSpPr/>
          <p:nvPr/>
        </p:nvSpPr>
        <p:spPr>
          <a:xfrm>
            <a:off x="114300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as chic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114300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as chic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Comment 7"/>
          <p:cNvSpPr/>
          <p:nvPr/>
        </p:nvSpPr>
        <p:spPr>
          <a:xfrm>
            <a:off x="167652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114300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ch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114300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ch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Comment 5"/>
          <p:cNvSpPr/>
          <p:nvPr/>
        </p:nvSpPr>
        <p:spPr>
          <a:xfrm>
            <a:off x="18288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Comment 9"/>
          <p:cNvSpPr/>
          <p:nvPr/>
        </p:nvSpPr>
        <p:spPr>
          <a:xfrm>
            <a:off x="1219320" y="1143000"/>
            <a:ext cx="31240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Comment 8"/>
          <p:cNvSpPr/>
          <p:nvPr/>
        </p:nvSpPr>
        <p:spPr>
          <a:xfrm>
            <a:off x="152388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1143000" y="1219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1143000" y="1219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omment 4"/>
          <p:cNvSpPr/>
          <p:nvPr/>
        </p:nvSpPr>
        <p:spPr>
          <a:xfrm>
            <a:off x="1523880" y="1143000"/>
            <a:ext cx="22100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1143000" y="3049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profes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1143000" y="3049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profes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Comment 6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Comment 4"/>
          <p:cNvSpPr/>
          <p:nvPr/>
        </p:nvSpPr>
        <p:spPr>
          <a:xfrm>
            <a:off x="167652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371600" y="1981080"/>
            <a:ext cx="6705720" cy="3657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ooter Placeholder 1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mment 4"/>
          <p:cNvSpPr/>
          <p:nvPr/>
        </p:nvSpPr>
        <p:spPr>
          <a:xfrm>
            <a:off x="152388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5:58Z</dcterms:created>
  <dc:creator>Paul Widergren</dc:creator>
  <dc:description/>
  <dc:language>en-US</dc:language>
  <cp:lastModifiedBy>Jackson</cp:lastModifiedBy>
  <dcterms:modified xsi:type="dcterms:W3CDTF">2011-03-17T04:44:00Z</dcterms:modified>
  <cp:revision>4</cp:revision>
  <dc:subject/>
  <dc:title>No Slide Title</dc:title>
</cp:coreProperties>
</file>