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497-8959-4F6A-9EE1-34FE4D72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12D-9C01-4838-97CA-00111158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E2F-354B-44CA-9F5D-537C617C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A24-EB91-4C9D-9B2E-342B43B2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1FBF-8FEE-4C2D-BA2C-27084872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1E24-8F33-4915-95EE-EDF6186C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D8A6-21A5-4741-88A8-609CFF6B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B2F8-798F-49FE-84ED-2DA11914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8857-72BF-4034-93E7-001D2BEA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BC5D-B499-47B6-8ADC-7B2DD9DF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AE65-F9AD-4ADF-9503-110ABC67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73A-FAF7-4862-A64D-D7AEF214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321D-BA24-405D-9907-BC359CF4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EF32-D674-4C48-B011-64C491D5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31DE-1CC1-4B91-AF6A-9B663ED9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3053-6C82-4BA8-96D9-D510737E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A51C-3522-48D5-B95A-060803FC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EDD-10EC-41CB-A9E5-84102B4F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BA0-129B-4102-AF00-54BAA643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935-325D-4490-872D-48989A34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D76-D6D7-4FDD-8EAE-1EF9B4CC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DDF-0C7B-4F6E-8A72-AF9DC341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0E3-7EFF-4756-83D1-53E68AF9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182-166B-462C-B27C-1ADA95E4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prstGeom prst="pie">
                  <a:avLst/>
                </a:pr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43000" y="137160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resent tense 1: estudi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2193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Qué materias estudian estas estudian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 chica __________ inglés con nosotr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3962520" y="11430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 chica __________ inglés con nosotr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__________ inglés con la chi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4343400" y="1143000"/>
            <a:ext cx="259092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__________ inglés con la chi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rlos y yo _________ español junt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4724280" y="1066680"/>
            <a:ext cx="259092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rlos y yo _________ español junt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__________ español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3962520" y="11430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__________ español tambié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__________ matemáticas junt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3200400" y="11430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__________ matemáticas junt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__________ español con A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no __________ much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3429000" y="11430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no __________ much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s amigos __________ todos los dí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5029200" y="11430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s amigos __________ todos los dí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609480" y="114300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s amigos no __________ conmi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257800" y="10666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609480" y="114300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s amigos no __________ conmi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66680" y="11430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blo __________ en la escuela de arte con Sa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3429000" y="10666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1066680" y="11430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blo __________ en la escuela de arte con Sa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blo no __________ inglé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4114800" y="11430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blo no __________ inglé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2514600" y="11430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__________ español con A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9"/>
          <p:cNvSpPr/>
          <p:nvPr/>
        </p:nvSpPr>
        <p:spPr>
          <a:xfrm>
            <a:off x="457200" y="11430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ulia y Roberto no ________ junt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457200" y="11430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ulia y Roberto no ________ junt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7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8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5867280" y="1219320"/>
            <a:ext cx="2587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siempre __________ por la tar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5029200" y="11430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siempre __________ por la tar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nunca __________ por la maña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3"/>
          <p:cNvSpPr/>
          <p:nvPr/>
        </p:nvSpPr>
        <p:spPr>
          <a:xfrm>
            <a:off x="4267080" y="11430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nunca __________ por la maña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533520" y="11430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__________ en la clase de matemátic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3505320" y="1143000"/>
            <a:ext cx="259056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533520" y="11430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__________ en la clase de matemátic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__________ mucho en la clase de inglé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2666880" y="106668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__________ mucho en la clase de inglé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__________ historia con tu mejor ami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533520" y="11430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__________ en la clase de español a vec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3429000" y="11430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533520" y="11430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__________ en la clase de español a vec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11"/>
          <p:cNvSpPr/>
          <p:nvPr/>
        </p:nvSpPr>
        <p:spPr>
          <a:xfrm>
            <a:off x="1676520" y="1981080"/>
            <a:ext cx="5790960" cy="3124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12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438280" y="114300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066680" y="11430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__________ historia con tu mejor amig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upe __________ matemáticas con Bet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3200400" y="11430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066680" y="1143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upe __________ matemáticas con Bet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uan __________ música con Sa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14300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685800" y="3276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685800" y="434340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685800" y="54100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657600" y="32767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3657600" y="434340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3657600" y="5410080"/>
            <a:ext cx="2587680" cy="7621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ud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1066680" y="11430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uan __________ música con Sar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11"/>
          <p:cNvSpPr/>
          <p:nvPr/>
        </p:nvSpPr>
        <p:spPr>
          <a:xfrm>
            <a:off x="3048120" y="6067440"/>
            <a:ext cx="3225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A-VISTA © 2006  A school of SPANISH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0T11:02:33Z</dcterms:created>
  <dc:creator>Paul Widergren</dc:creator>
  <dc:description/>
  <dc:language>en-US</dc:language>
  <cp:lastModifiedBy>Jackson</cp:lastModifiedBy>
  <dcterms:modified xsi:type="dcterms:W3CDTF">2011-03-17T04:46:01Z</dcterms:modified>
  <cp:revision>7</cp:revision>
  <dc:subject/>
  <dc:title>preterite tense 1</dc:title>
</cp:coreProperties>
</file>