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698-6923-4CBA-82B8-8BB015C4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FDE-044D-461C-A62A-69060792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698-36E0-4EF7-939B-0B795F98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BD4-884E-44FF-8804-E5A5C84E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5F5-7864-416A-ACDD-76358E13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7539-CEEE-4038-917D-E2813DF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960D-ECBD-4DF1-9AD4-D87A8F7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E228-5026-47FC-A539-89133248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7D9E-2EC6-4B53-BA54-74DEC45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C2AD-372B-48C8-9F9A-8185E22D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8EF-A805-446F-AC6C-AC7549A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D78-C799-4DD6-A39B-C3BAEB81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D21E-3480-4530-8BA7-815F5AC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9E45-1A42-4CD9-A2DE-6115116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C7A-EB28-49D6-9496-00D82E2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FE56-349B-4C6E-9D11-9C46D155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5A87-7828-489A-8CDB-C797F98B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88F-9F23-46FD-84AE-2012283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417-CAC9-4E3C-838F-0746497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295-2E41-4046-8F13-1A23C5E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232-6156-491E-9437-C391F3B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C0-064B-4DB3-BA2B-43EE4F8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19F-5555-4A7B-859A-E27F7B09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5A8-D60A-42CE-BC7D-AFEFA149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1371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Present tense 1: hab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oy hablan estas personas por teléfono.  ¿Con quién hab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6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 los chic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1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5146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 los chic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m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4382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__________ por teléfono conm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4191120" y="1143000"/>
            <a:ext cx="259056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Las chicas __________ por teléfono cont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457200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Las chicas __________ por teléfono cont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8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t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9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382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ti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0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1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33526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__________ por teléfono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3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487692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__________ por teléfono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4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n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5486400" y="10666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s amigos n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6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2767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8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no __________ por teléfono con Jul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39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41911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ablo no __________ por teléfono con Jul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0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6668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__________ por teléfono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4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9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lia y Roberto no ________ por teléfono con E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1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586728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lia y Roberto no ________ por teléfono con Ev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2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Eva tampo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3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35053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Yo no __________ por teléfono con Eva tampo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4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Eva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28954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Eva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6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Die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7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3657600" y="114300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Nosotros __________ por teléfono con Diego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8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no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49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3526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Tú no __________ por teléfono con Die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0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 hermana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5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Ustedes __________ por teléfono con muchas person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1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335268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Ustedes __________ por teléfono con muchas person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524" name="Oval 11"/>
          <p:cNvSpPr/>
          <p:nvPr/>
        </p:nvSpPr>
        <p:spPr>
          <a:xfrm>
            <a:off x="1676520" y="1981080"/>
            <a:ext cx="579096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13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50292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Mi hermana __________ por teléfono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6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ilar __________ por teléfono con Ca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7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1240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Pilar __________ por teléfono con Carl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an y yo  __________ por teléfono con uste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4343400" y="114300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Juan y yo  __________ por teléfono con usted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0" descr="BUGC086D"/>
          <p:cNvPicPr/>
          <p:nvPr/>
        </p:nvPicPr>
        <p:blipFill>
          <a:blip r:embed="rId1"/>
          <a:stretch/>
        </p:blipFill>
        <p:spPr>
          <a:xfrm>
            <a:off x="6324480" y="3657600"/>
            <a:ext cx="2538360" cy="2533680"/>
          </a:xfrm>
          <a:prstGeom prst="rect">
            <a:avLst/>
          </a:prstGeom>
          <a:ln w="0">
            <a:noFill/>
          </a:ln>
        </p:spPr>
      </p:pic>
      <p:sp>
        <p:nvSpPr>
          <p:cNvPr id="20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,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1:02:33Z</dcterms:created>
  <dc:creator>Paul Widergren</dc:creator>
  <dc:description/>
  <dc:language>en-US</dc:language>
  <cp:lastModifiedBy>Jackson</cp:lastModifiedBy>
  <dcterms:modified xsi:type="dcterms:W3CDTF">2011-03-17T04:46:19Z</dcterms:modified>
  <cp:revision>9</cp:revision>
  <dc:subject/>
  <dc:title>Present tense 1: habl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Spanish</vt:lpwstr>
  </property>
</Properties>
</file>