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F350-2A48-474D-8127-B4FAD615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F57-A215-4DCD-B4E0-317F405D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0BF4-8CA5-42B9-8C53-BB43911A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7BF4-9565-484B-B0DA-752E2FA6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7C39-CCDA-4575-8554-098A8A61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49BB-2075-4379-A1A9-09EEE60E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478F-295D-45D7-8078-B1810546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575B-106F-4127-B8F3-CABEC038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782B-D080-411D-A153-DB95EE45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627C-A933-42AB-AC0D-345E8A51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F40D-2912-448A-8C68-0FDBAB05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42EB-93E9-48A0-80CA-85F79691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BEB8-933B-4E22-926E-663BA83B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8C4D-897D-49BC-AF61-ECBA13C1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A407-2A1C-4EBE-9860-7312B90C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F439-BB9C-4B0D-9709-4F494469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E5AA-461A-492D-8D93-95A904F5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342-7B48-4647-9661-86743FD6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8AD-10C2-4B15-B27E-D19297E0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861E-32A2-4D2D-B7B9-FD8D221C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59D9-25BF-400B-8670-63CA83FC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992F-DB63-4CA7-95A1-D0A202AD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4FDB-0E4B-4713-8526-333A1AEE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06C6-5D8D-4717-9F59-E046D0D0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Group 3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46160" y="649440"/>
                <a:ext cx="8772480" cy="607680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01600" y="728640"/>
                  <a:ext cx="920880" cy="846000"/>
                </a:xfrm>
                <a:prstGeom prst="pie">
                  <a:avLst/>
                </a:pr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189000" y="677880"/>
                  <a:ext cx="984240" cy="750960"/>
                </a:xfrm>
                <a:prstGeom prst="pi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299120" y="15840"/>
                <a:ext cx="44280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46392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1324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48768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1144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65300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prstGeom prst="pie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43000" y="137160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0000"/>
                </a:solidFill>
                <a:latin typeface="Times New Roman"/>
              </a:rPr>
              <a:t>Preterite 1: habl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808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yer hablaron estas personas por teléfono.  ¿Con quién hablar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124" name="WordArt 6"/>
          <p:cNvSpPr txBox="1"/>
          <p:nvPr/>
        </p:nvSpPr>
        <p:spPr>
          <a:xfrm>
            <a:off x="457200" y="5105520"/>
            <a:ext cx="59436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 pretérito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Footer Placeholder 7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Tú __________ por teléfono con los chic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2514600" y="11430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Tú __________ por teléfono con los chic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1066680" y="11430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Tú __________ por teléfono conmigo tambié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2438280" y="1143000"/>
            <a:ext cx="221004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1066680" y="11430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Tú __________ por teléfono conmigo tambié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Nosotros __________ por teléfono con An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4191120" y="1143000"/>
            <a:ext cx="259056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Nosotros __________ por teléfono con An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Las chicas __________ por teléfono contig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8"/>
          <p:cNvSpPr/>
          <p:nvPr/>
        </p:nvSpPr>
        <p:spPr>
          <a:xfrm>
            <a:off x="4572000" y="11430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Las chicas __________ por teléfono contig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13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1066680" y="11430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__________ por teléfono contigo tambié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2438280" y="1143000"/>
            <a:ext cx="221004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1066680" y="11430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__________ por teléfono contigo tambié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__________ por teléfono con Sar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1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13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no __________ por teléfono con Bet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3"/>
          <p:cNvSpPr/>
          <p:nvPr/>
        </p:nvSpPr>
        <p:spPr>
          <a:xfrm>
            <a:off x="3352680" y="1143000"/>
            <a:ext cx="221004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no __________ por teléfono con Bet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1066680" y="11430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Mis amigos __________ por teléfono conmig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8"/>
          <p:cNvSpPr/>
          <p:nvPr/>
        </p:nvSpPr>
        <p:spPr>
          <a:xfrm>
            <a:off x="4876920" y="11430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1066680" y="11430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Mis amigos __________ por teléfono conmig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609480" y="114300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Mis amigos no __________ por teléfono con Sar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35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5486400" y="10666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609480" y="114300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Mis amigos no __________ por teléfono con Sar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36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Pablo __________ por teléfono con Sar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Pablo __________ por teléfono con Sar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3276720" y="11430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38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Pablo no __________ por teléfono con Juli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Pablo no __________ por teléfono con Juli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4191120" y="11430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40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2666880" y="1143000"/>
            <a:ext cx="221004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__________ por teléfono con Sar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9"/>
          <p:cNvSpPr/>
          <p:nvPr/>
        </p:nvSpPr>
        <p:spPr>
          <a:xfrm>
            <a:off x="457200" y="11430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Julia y Roberto no ________ por teléfono con Ev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5867280" y="11430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457200" y="11430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Julia y Roberto no ________ por teléfono con Ev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42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9"/>
          <p:cNvSpPr/>
          <p:nvPr/>
        </p:nvSpPr>
        <p:spPr>
          <a:xfrm>
            <a:off x="1066680" y="11430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no __________ por teléfono con Eva tampoc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3"/>
          <p:cNvSpPr/>
          <p:nvPr/>
        </p:nvSpPr>
        <p:spPr>
          <a:xfrm>
            <a:off x="3505320" y="11430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1066680" y="11430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no __________ por teléfono con Eva tampoc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44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Eva __________ por teléfono con Dieg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45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Eva __________ por teléfono con Dieg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5"/>
          <p:cNvSpPr/>
          <p:nvPr/>
        </p:nvSpPr>
        <p:spPr>
          <a:xfrm>
            <a:off x="2895480" y="1143000"/>
            <a:ext cx="221004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46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533520" y="114300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Nosotros __________ por teléfono con Diego tambié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47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3657600" y="1143000"/>
            <a:ext cx="259092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9"/>
          <p:cNvSpPr/>
          <p:nvPr/>
        </p:nvSpPr>
        <p:spPr>
          <a:xfrm>
            <a:off x="533520" y="114300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Nosotros __________ por teléfono con Diego tambié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48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Tú no __________ por teléfono con Dieg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4"/>
          <p:cNvSpPr/>
          <p:nvPr/>
        </p:nvSpPr>
        <p:spPr>
          <a:xfrm>
            <a:off x="3352680" y="1143000"/>
            <a:ext cx="221004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Tú no __________ por teléfono con Dieg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50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1066680" y="11430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Mi hermana __________ por teléfono con Bet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533520" y="11430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Ustedes __________ por teléfono con muchas persona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7"/>
          <p:cNvSpPr/>
          <p:nvPr/>
        </p:nvSpPr>
        <p:spPr>
          <a:xfrm>
            <a:off x="3352680" y="11430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533520" y="11430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Ustedes __________ por teléfono con muchas persona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524" name="Oval 11"/>
          <p:cNvSpPr/>
          <p:nvPr/>
        </p:nvSpPr>
        <p:spPr>
          <a:xfrm>
            <a:off x="1676520" y="1981080"/>
            <a:ext cx="5790960" cy="3124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6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2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ooter Placeholder 13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9"/>
          <p:cNvSpPr/>
          <p:nvPr/>
        </p:nvSpPr>
        <p:spPr>
          <a:xfrm>
            <a:off x="1066680" y="11430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Mi hermana __________ por teléfono con Bet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5029200" y="11430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16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Pilar __________ por teléfono con Carl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Pilar __________ por teléfono con Carl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124080" y="1143000"/>
            <a:ext cx="221004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18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1066680" y="11430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Juan y yo  __________ por teléfono con usted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4343400" y="1143000"/>
            <a:ext cx="259092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066680" y="11430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Juan y yo  __________ por teléfono con usted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11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0T11:02:33Z</dcterms:created>
  <dc:creator>Paul Widergren</dc:creator>
  <dc:description/>
  <dc:language>en-US</dc:language>
  <cp:lastModifiedBy>Jackson</cp:lastModifiedBy>
  <dcterms:modified xsi:type="dcterms:W3CDTF">2011-03-17T04:46:35Z</dcterms:modified>
  <cp:revision>9</cp:revision>
  <dc:subject/>
  <dc:title>preterite tense 1</dc:title>
</cp:coreProperties>
</file>