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DE2-6E41-48A1-97EE-B7D9F16E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FBA-7340-4611-B4A1-2D4F1164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F36-BFC2-4AFB-BE6A-7427A021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E71-71F2-45AB-B248-3363064B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023D-BD60-4558-88E0-4ECA87C6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DE5C-5B6C-4E59-A07F-9781AE2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84BB-1A8D-4D7E-9A59-9EDF1DC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9BA9-5434-4F3F-A650-282F098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7674-C56D-4B7E-B99F-536A884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DB5B-3B76-45FF-91D8-AFDC1DA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BA91-A878-4E2A-B634-CDCD3C4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F31-AA1C-4DA6-9A39-15F3FAC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B6F9-FC51-442C-B4BB-076FC54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F67-B91A-40F2-9DCD-70F4D3B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E1F-937A-44BD-921C-705CE60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C787-2037-46A0-BE57-71EEAA74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3E4-836E-4AA8-BFFA-1D68F223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F894-7155-4B23-AFEA-3BA50B42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D734-0874-4D96-BA80-D311568F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9AFF-5A08-4E5E-9D0F-735088B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4CDF-7CA1-4473-9FA2-4F8B95C4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6882-CC71-4DA2-8C40-E545F71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423-1401-48BA-B00B-9E018613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F6DF-F848-4CEF-9741-B9485E8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770D-CA1A-4435-9F48-786DAEF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EBCA-E6C4-4577-BBFF-0CFF19B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6D48-4E02-4280-8604-CC05C7C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D36D-3D7C-44B0-977F-1A3407B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4FB5-AF91-4348-96DD-6B1613FE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5DB4-B2B2-4658-AFBE-E38D3DF8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F806-9506-46BF-B9CA-7A7F6E89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CDAF-83BD-43FE-8031-2A1B941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E874-355A-4751-993C-D28A607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82E-06C0-4CBB-9405-94323B5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5082-1755-4A67-9FC2-BE26BBB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EA8E-398A-4002-A243-40568E2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6AF9-C269-4F60-8528-4E08F24F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4E98-9633-4BE0-A0C9-73370F9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2281-757F-4B8F-AC3E-14EA2C8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F395-68BB-4AC1-849B-D472AE9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D272-4EE5-4385-8F31-5CF3C2A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E023B-E9F4-4EAE-99A1-A01A876C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CFDD-39F7-402E-ACC1-21414771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FDB-5ABF-4281-BFB2-93754D5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DFF-9E82-4BF0-A2DE-6ADD82D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40A-09A7-41F2-BFA6-BB32177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31-9137-406A-98E5-43301D6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167-D1DB-4AC2-9496-2C0599A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DFF1-A765-4FC6-BE2D-94C4E5B2E8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262-E1EA-4F8B-8564-3814BC5A2A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EBB-662B-4E53-A999-DAE1FF8196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261-0A5A-4945-8ABE-5A83084370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504280" cy="248112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0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0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1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1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50080" cy="2298600"/>
          </a:xfrm>
          <a:prstGeom prst="rect">
            <a:avLst/>
          </a:prstGeom>
          <a:ln w="0">
            <a:noFill/>
          </a:ln>
        </p:spPr>
      </p:pic>
      <p:sp>
        <p:nvSpPr>
          <p:cNvPr id="41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50080" cy="2298600"/>
          </a:xfrm>
          <a:prstGeom prst="rect">
            <a:avLst/>
          </a:prstGeom>
          <a:ln w="0">
            <a:noFill/>
          </a:ln>
        </p:spPr>
      </p:pic>
      <p:sp>
        <p:nvSpPr>
          <p:cNvPr id="42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4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4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5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6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6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82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162640" cy="2298600"/>
          </a:xfrm>
          <a:prstGeom prst="rect">
            <a:avLst/>
          </a:prstGeom>
          <a:ln w="0">
            <a:noFill/>
          </a:ln>
        </p:spPr>
      </p:pic>
      <p:sp>
        <p:nvSpPr>
          <p:cNvPr id="48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Jackson</cp:lastModifiedBy>
  <dcterms:modified xsi:type="dcterms:W3CDTF">2011-03-17T04:47:14Z</dcterms:modified>
  <cp:revision>3</cp:revision>
  <dc:subject/>
  <dc:title>ir a la ....</dc:title>
</cp:coreProperties>
</file>