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E73-38D9-4FE5-B749-AAE2CBCD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0DF-61B7-4ED0-B91C-F31BB561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8EB-867F-4CE3-8609-2A7392A1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566-1D46-4B1E-8DEE-9F3672CC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DADA-44D8-4220-8F44-18869782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F849-D1A3-4332-8838-7CE52D20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DB2E-D7C3-4C48-8AF7-0B150ABF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DC07-47F2-42DE-9A4E-CFBB1D4B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71D5-FDBA-4E7A-A192-3B6D90C7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DD39-3D5C-4ECF-BFE4-4678C30A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92F2-E193-4220-A48F-8FC40A40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8CB-426D-4857-8FA3-31BD7DBD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1955-B53E-482F-BF1D-9084B68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94D6-0847-43B2-ABFA-43CEB67C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BB16-683E-462A-A2DE-C20C673F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90BA-DAA9-458B-B434-00736BEC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5805-B644-45CC-A957-676BD616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70E4-7CD4-42D9-9A06-B06E47CF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29D4-C981-4D29-8C71-8CDFC451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427A-5D06-450C-92CB-5ABC6798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66EC-3386-4551-BB26-F19D521C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5F845-EFE6-4E12-84ED-471FE321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0EB-79F7-471D-9D7C-9D64222A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F13C-37B7-45F6-A267-C8BEBE74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EEB5-996B-4AB9-B1A9-7A81F2E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2B58E-75C4-461D-8277-BDF054C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43B5-83B0-4C3A-96AC-673D41C8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9ECE4-2815-4662-959C-CD99F3BA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F13F0-68A3-4CA3-8B8E-60FBABD2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C7B6-E88C-4E57-9557-F11F3D5C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16190-2E1C-4291-ADEE-CE57A310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5F31-D338-4363-98AE-E9751610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ED23-BA51-48D8-8A3D-C5551D00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AD7-9AE9-44E2-91B3-030935A4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95CD-E507-42E2-8A0B-D90EA706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16FA-EB08-45A9-92F0-8482EBB1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BABA-7C62-456E-92B6-01E86758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8E990-955C-4506-AF4B-0879603C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3E5B-43FE-46A9-B12C-486959E7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BF5A6-600F-453B-93D0-739FBF72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9502-3D1C-47A4-BBF8-C8B62967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55C92-B4E2-4674-8880-5E6125B3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33CBB-71E5-4AF9-8154-BF5DA8EE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0ED-3634-4D34-8C5F-307AAB7B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541-A2D6-4BA2-A08C-3D01C13A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A8F-72AE-4911-9F95-3C586A8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D5E-0AAC-4F7C-AA74-56F5BDAF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90C-9B45-4BB1-A73F-B45C579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8B43-93D0-43CE-9D7C-4A82B49EC5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2E72-0A4C-4CA6-9D02-BA8DF2BAE00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4F8-43F4-4043-93B6-3889D0F3600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F39D-940C-419C-A8BD-55DD298B698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9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Comment 2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Comment 6"/>
          <p:cNvSpPr/>
          <p:nvPr/>
        </p:nvSpPr>
        <p:spPr>
          <a:xfrm>
            <a:off x="34290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Comment 5"/>
          <p:cNvSpPr/>
          <p:nvPr/>
        </p:nvSpPr>
        <p:spPr>
          <a:xfrm>
            <a:off x="3505320" y="6858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Comment 5"/>
          <p:cNvSpPr/>
          <p:nvPr/>
        </p:nvSpPr>
        <p:spPr>
          <a:xfrm>
            <a:off x="41148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Comment 3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Comment 2"/>
          <p:cNvSpPr/>
          <p:nvPr/>
        </p:nvSpPr>
        <p:spPr>
          <a:xfrm>
            <a:off x="236232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Comment 7"/>
          <p:cNvSpPr/>
          <p:nvPr/>
        </p:nvSpPr>
        <p:spPr>
          <a:xfrm>
            <a:off x="43434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304920" y="420840"/>
            <a:ext cx="8504280" cy="2481120"/>
          </a:xfrm>
          <a:prstGeom prst="rect">
            <a:avLst/>
          </a:prstGeom>
          <a:ln w="0">
            <a:noFill/>
          </a:ln>
        </p:spPr>
      </p:pic>
      <p:sp>
        <p:nvSpPr>
          <p:cNvPr id="37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7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8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Comment 3"/>
          <p:cNvSpPr/>
          <p:nvPr/>
        </p:nvSpPr>
        <p:spPr>
          <a:xfrm>
            <a:off x="32767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8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9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Comment 3"/>
          <p:cNvSpPr/>
          <p:nvPr/>
        </p:nvSpPr>
        <p:spPr>
          <a:xfrm>
            <a:off x="30481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9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Comment 4"/>
          <p:cNvSpPr/>
          <p:nvPr/>
        </p:nvSpPr>
        <p:spPr>
          <a:xfrm>
            <a:off x="251460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9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Comment 4"/>
          <p:cNvSpPr/>
          <p:nvPr/>
        </p:nvSpPr>
        <p:spPr>
          <a:xfrm>
            <a:off x="320040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0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0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Comment 3"/>
          <p:cNvSpPr/>
          <p:nvPr/>
        </p:nvSpPr>
        <p:spPr>
          <a:xfrm>
            <a:off x="2286000" y="12193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1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1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Comment 3"/>
          <p:cNvSpPr/>
          <p:nvPr/>
        </p:nvSpPr>
        <p:spPr>
          <a:xfrm>
            <a:off x="3352680" y="838080"/>
            <a:ext cx="1524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650080" cy="2298600"/>
          </a:xfrm>
          <a:prstGeom prst="rect">
            <a:avLst/>
          </a:prstGeom>
          <a:ln w="0">
            <a:noFill/>
          </a:ln>
        </p:spPr>
      </p:pic>
      <p:sp>
        <p:nvSpPr>
          <p:cNvPr id="41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650080" cy="2298600"/>
          </a:xfrm>
          <a:prstGeom prst="rect">
            <a:avLst/>
          </a:prstGeom>
          <a:ln w="0">
            <a:noFill/>
          </a:ln>
        </p:spPr>
      </p:pic>
      <p:sp>
        <p:nvSpPr>
          <p:cNvPr id="42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Comment 4"/>
          <p:cNvSpPr/>
          <p:nvPr/>
        </p:nvSpPr>
        <p:spPr>
          <a:xfrm>
            <a:off x="2666880" y="7621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2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3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Comment 3"/>
          <p:cNvSpPr/>
          <p:nvPr/>
        </p:nvSpPr>
        <p:spPr>
          <a:xfrm>
            <a:off x="3048120" y="7621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3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3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Comment 4"/>
          <p:cNvSpPr/>
          <p:nvPr/>
        </p:nvSpPr>
        <p:spPr>
          <a:xfrm>
            <a:off x="3886200" y="10666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4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4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Comment 3"/>
          <p:cNvSpPr/>
          <p:nvPr/>
        </p:nvSpPr>
        <p:spPr>
          <a:xfrm>
            <a:off x="22860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5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Comment 3"/>
          <p:cNvSpPr/>
          <p:nvPr/>
        </p:nvSpPr>
        <p:spPr>
          <a:xfrm>
            <a:off x="32004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5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6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Comment 4"/>
          <p:cNvSpPr/>
          <p:nvPr/>
        </p:nvSpPr>
        <p:spPr>
          <a:xfrm>
            <a:off x="304812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6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Comment 3"/>
          <p:cNvSpPr/>
          <p:nvPr/>
        </p:nvSpPr>
        <p:spPr>
          <a:xfrm>
            <a:off x="5257800" y="4414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7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Comment 3"/>
          <p:cNvSpPr/>
          <p:nvPr/>
        </p:nvSpPr>
        <p:spPr>
          <a:xfrm>
            <a:off x="23623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7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5"/>
          <p:cNvSpPr/>
          <p:nvPr/>
        </p:nvSpPr>
        <p:spPr>
          <a:xfrm>
            <a:off x="34290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7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Comment 4"/>
          <p:cNvSpPr/>
          <p:nvPr/>
        </p:nvSpPr>
        <p:spPr>
          <a:xfrm>
            <a:off x="3657600" y="8380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8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8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Comment 3"/>
          <p:cNvSpPr/>
          <p:nvPr/>
        </p:nvSpPr>
        <p:spPr>
          <a:xfrm>
            <a:off x="3276720" y="1066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Comment 2"/>
          <p:cNvSpPr/>
          <p:nvPr/>
        </p:nvSpPr>
        <p:spPr>
          <a:xfrm>
            <a:off x="2666880" y="2590920"/>
            <a:ext cx="3733920" cy="15570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Comment 3"/>
          <p:cNvSpPr/>
          <p:nvPr/>
        </p:nvSpPr>
        <p:spPr>
          <a:xfrm>
            <a:off x="236232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omment 4"/>
          <p:cNvSpPr/>
          <p:nvPr/>
        </p:nvSpPr>
        <p:spPr>
          <a:xfrm>
            <a:off x="38862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2:03:31Z</dcterms:created>
  <dc:creator>Paul Widergren</dc:creator>
  <dc:description/>
  <dc:language>en-US</dc:language>
  <cp:lastModifiedBy>Jackson</cp:lastModifiedBy>
  <dcterms:modified xsi:type="dcterms:W3CDTF">2011-03-17T04:47:14Z</dcterms:modified>
  <cp:revision>3</cp:revision>
  <dc:subject/>
  <dc:title>ir a la ....</dc:title>
</cp:coreProperties>
</file>