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C7B-0137-4381-B303-04050615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94C-C23F-46BB-BBAF-74815FA6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A40-6041-4043-A1A5-4A4DF14D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38E-76A2-4960-B647-B2439257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7862-30BB-4CFE-9412-74389EDB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BDB9-4602-42FE-85AF-24B23FD7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BE1F-C5D4-4523-98B5-050896A8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FA7B-8AF5-47CA-8B18-FA4F0EE0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C55A-90B2-409C-BC63-EFADDD9F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A3DC-BF8E-4223-B461-9E64572D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BF0-1B37-4AA4-AF1E-7B03D2F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87A-2631-4BD1-BFC5-9669E868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889-4DBF-41CA-B481-D591F9D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BC2-5EF5-462F-8FA4-D3719B5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F27C-A7FE-48AE-8057-FF51614E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FA24-C72F-47A7-845D-EEE95FC5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1330-55E5-4008-B304-950195E3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EF7-54CC-4F7D-8E16-F062BE7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76F-5C53-4D59-A86E-887B2DB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96E-DC9C-419F-AA9B-44F2F6C2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E21-3631-4930-B90F-4FDFA01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AB6-E30C-4250-92BC-1A6D00D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570-6D5A-4EEA-A211-0DE68F2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4D0-B639-4F84-B7CB-CBAE119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1905120" y="2209680"/>
            <a:ext cx="5410080" cy="3124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le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o read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s amigos _________ libros y revistas en la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9625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ú _________ una revista sobre los computado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ú _________ una revista sobre los computado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905120" y="12193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Yo ___________ una novela de Stephan K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Yo ___________ una novela de Stephan K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438280" y="12193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sotros ___________ una carta que escribe nuestro herma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sotros ___________ una carta que escribe nuestro herma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276720" y="121932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os estudiantes __________ el capítulo en el libro de texto antes de hacer la tar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os estudiantes __________ el capítulo en el libro de texto antes de hacer la tar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800600" y="11430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stedes __________ el periódico por la tarde en ca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libro – a book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periódico – a newspaper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revista – a magazine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a novela  -  a novel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poema – a poem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n cuento – a st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Ustedes __________ el periódico por la tarde en ca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895480" y="13716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sabel __________ el correo electrónico de Ricar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sabel __________ el correo electrónico de Ricar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200400" y="13716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Yo ___________ una revista sobre los deportes con mis amig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Yo ___________ una revista sobre los deportes con mis amig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905120" y="137160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ú ____________ una revista para las mujeres con tus amig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ú ____________ una revista para las mujeres con tus amig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981080" y="137160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sotros _________ muchos libros durante un 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sotros _________ muchos libros durante un 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505320" y="1371600"/>
            <a:ext cx="21333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1905120" y="2209680"/>
            <a:ext cx="5333760" cy="28958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Yo siempre ___________ el periódico por la maña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Yo siempre ___________ el periódico por la maña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267080" y="12193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sotros __________ una novela en la clase de ingl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Nosotros __________ una novela en la clase de ingl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00400" y="121932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chica ________ un poema que escribe su nov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chica ________ un poema que escribe su nov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895480" y="12193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is amigos _________ libros y revistas en la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19320" y="35812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219320" y="449568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219320" y="5334120"/>
            <a:ext cx="19047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572000" y="3581280"/>
            <a:ext cx="21337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572000" y="449568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72000" y="5334120"/>
            <a:ext cx="190512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l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10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0:24:54Z</dcterms:created>
  <dc:creator>Paul Widergren</dc:creator>
  <dc:description/>
  <dc:language>en-US</dc:language>
  <cp:lastModifiedBy>Jackson</cp:lastModifiedBy>
  <dcterms:modified xsi:type="dcterms:W3CDTF">2011-03-17T04:48:54Z</dcterms:modified>
  <cp:revision>6</cp:revision>
  <dc:subject/>
  <dc:title>Slide 1</dc:title>
</cp:coreProperties>
</file>