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507-74A4-4C22-8738-A8B8A430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560-4220-4BF2-A337-39E2D812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4C7-E61E-4E07-8D13-4EB67D8D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81B-4FE2-4417-ADD7-09779A92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797D-1306-4C57-ABDC-C36E4D65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9544-4BA4-48CD-8861-2A393A48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4E34-4194-4731-A143-5135F1D6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C122-D589-47EA-B01E-F1C3C730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4FDD-6172-41BF-9FE4-FF90653D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230E-5BF7-4319-A093-4D095D26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36AA-3740-4B01-A431-6672E6E0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442-9E07-46C9-848C-9D332E58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999E-E4E2-4A0C-AB81-0076C4B7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9D16-4C87-4B04-A43C-C609830D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B3C0-69F3-4AFC-93F8-A32CE33F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F78B-6794-4F15-9A07-BDB95BB5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0E04-D6DD-43D2-BC6D-248140E4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3082-899B-43E5-96DB-7BF25282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E1B4-BAB7-43D9-8C32-36630AA0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9009-8846-4533-862E-7726E9A7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827-C2AC-480E-A9EA-9BD871FB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B1BA-1807-4984-BE42-D42D5AD8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44FC-1ACD-4401-AD25-EAD106C0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463A-5311-45F8-BE34-B3E24413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880E-372B-49C8-86DC-42809169F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yelloworange_title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C454-51FD-46DF-8504-AA0F01198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990720" y="1752480"/>
            <a:ext cx="7238880" cy="33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mí me gusta… A tí te gusta…   A Ana le gusta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tí _____ gusta escuchar música con tus amigo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tí _____ gusta escuchar música con tus amigo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1905120" y="2286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228600"/>
            <a:ext cx="868680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Roberto y Isabel _____ gusta caminar con el perro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0" y="228600"/>
            <a:ext cx="868680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Roberto y Isabel _____ gusta caminar con el perro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6400800" y="1522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í _____ gusta comer chicharrone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í _____ gusta comer chicharrone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2514600" y="2286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ónica no _____ gusta comer chicharrone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ónica no _____ gusta comer chicharrone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4724280" y="1522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ustedes _____ gusta comer una meriend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ustedes _____ gusta comer una meriend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4267080" y="2286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í _____ gusta pasear en biciclet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3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i padre _____ gusta tomar una siest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i padre _____ gusta tomar una siest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4495680" y="2286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nosotros _____ gusta cantar y baila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nosotros _____ gusta cantar y baila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419720" y="2286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nosotros no _____ gusta hacer la tare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nosotros no _____ gusta hacer la tare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6019920" y="1522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ustedes _____ gusta hablar por teléfono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ustedes _____ gusta hablar por teléfono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4343400" y="2286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í _____ gusta alquilar unos video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í _____ gusta alquilar unos video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3"/>
          <p:cNvSpPr/>
          <p:nvPr/>
        </p:nvSpPr>
        <p:spPr>
          <a:xfrm>
            <a:off x="2362320" y="2286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í _____ gusta pasear en biciclet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2438280" y="2286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Beto _____ gusta ir a la bibliotec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Beto _____ gusta ir a la bibliotec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5"/>
          <p:cNvSpPr/>
          <p:nvPr/>
        </p:nvSpPr>
        <p:spPr>
          <a:xfrm>
            <a:off x="2971800" y="2286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380880" y="228600"/>
            <a:ext cx="8305920" cy="1739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í no _____ gusta ir a la bibliotec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80880" y="228600"/>
            <a:ext cx="8305920" cy="1739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í no _____ gusta ir a la bibliotec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3"/>
          <p:cNvSpPr/>
          <p:nvPr/>
        </p:nvSpPr>
        <p:spPr>
          <a:xfrm>
            <a:off x="3505320" y="1522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tu hermano _____ gusta jugar al béisbol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tu hermano _____ gusta jugar al béisbol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4876920" y="2286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tus primas _____ gusta jugar al volíbol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tus primas _____ gusta jugar al volíbol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8"/>
          <p:cNvSpPr/>
          <p:nvPr/>
        </p:nvSpPr>
        <p:spPr>
          <a:xfrm>
            <a:off x="4800600" y="2286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152280" y="228600"/>
            <a:ext cx="89917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í _____ gusta comer algo cuando tengo hambr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9"/>
          <p:cNvSpPr/>
          <p:nvPr/>
        </p:nvSpPr>
        <p:spPr>
          <a:xfrm>
            <a:off x="152280" y="228600"/>
            <a:ext cx="89917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í _____ gusta comer algo cuando tengo hambr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3"/>
          <p:cNvSpPr/>
          <p:nvPr/>
        </p:nvSpPr>
        <p:spPr>
          <a:xfrm>
            <a:off x="2743200" y="2286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nosotros _____ gusta patina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tí _____ gusta beber algo cuando tienes se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tí _____ gusta beber algo cuando tienes se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2362320" y="2286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380880" y="228600"/>
            <a:ext cx="8305920" cy="2562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nosotros _____ gusta ir al cine para ver una películ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380880" y="228600"/>
            <a:ext cx="8305920" cy="2562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nosotros _____ gusta ir al cine para ver una películ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6"/>
          <p:cNvSpPr/>
          <p:nvPr/>
        </p:nvSpPr>
        <p:spPr>
          <a:xfrm>
            <a:off x="4191120" y="2286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380880" y="228600"/>
            <a:ext cx="8305920" cy="2562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Carmen _____ gusta ir de compras para comprar rop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380880" y="228600"/>
            <a:ext cx="8305920" cy="2562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Carmen _____ gusta ir de compras para comprar rop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5"/>
          <p:cNvSpPr/>
          <p:nvPr/>
        </p:nvSpPr>
        <p:spPr>
          <a:xfrm>
            <a:off x="4114800" y="2286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9"/>
          <p:cNvSpPr/>
          <p:nvPr/>
        </p:nvSpPr>
        <p:spPr>
          <a:xfrm>
            <a:off x="1295280" y="1447920"/>
            <a:ext cx="6629400" cy="40384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ffff00"/>
                </a:solidFill>
                <a:latin typeface="Arial"/>
              </a:rPr>
              <a:t>fin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nosotros _____ gusta patina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4495680" y="2286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Lupe _____ gusta tocar la guitarr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Lupe _____ gusta tocar la guitarr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3048120" y="2286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Juan _____ gusta jugar al basquetbol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82880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80880" y="228600"/>
            <a:ext cx="8305920" cy="201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Juan _____ gusta jugar al basquetbol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182880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182880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3048120" y="2286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791320" y="30481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5791320" y="411480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5791320" y="518148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00:34:17Z</dcterms:created>
  <dc:creator>Paul Widergren</dc:creator>
  <dc:description/>
  <dc:language>en-US</dc:language>
  <cp:lastModifiedBy>Jackson</cp:lastModifiedBy>
  <dcterms:modified xsi:type="dcterms:W3CDTF">2011-03-17T04:49:11Z</dcterms:modified>
  <cp:revision>6</cp:revision>
  <dc:subject/>
  <dc:title>Slide 1</dc:title>
</cp:coreProperties>
</file>