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5E9-7159-40B4-A589-F9EAF0C2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14A-032C-44FA-B414-2820D0D9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706-822C-48A0-A6B0-A823E7CE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EBF-C15A-406C-9974-76A7DFC0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77C-DDAC-42A3-9D27-2F18E038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F1D-0FF4-4AD4-8E29-D7C7E26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710-0AD4-4518-A4EE-13BAB5E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B68-FE64-47BE-B4B7-81C2DF35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481-53E9-4BAA-946E-1F44308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491-3896-4C26-904A-8979029D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CAD-C437-4BE4-9358-B5AEDDC5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6AC-EEFB-4B46-AF28-F2ACD3B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684F-546F-464F-B134-550EC53D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oí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¡oye como v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 _____________ los pájaros cantando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 _____________ los pájaros cantando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5268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es _____________ al profesor de historia hablando de histo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es _____________ al profesor de historia hablando de histo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8862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 papá reparando el 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 papá reparando el 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2860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ú _____________ a los niños jugando en el jardí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ú _____________ a los niños jugando en el jardí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220968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 a los chicos jugando al fútbol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 a los chicos jugando al fútbol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373392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s amigos en el pasi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_____________ tú la chica tocando la guitar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_____________ tú la chica tocando la guitar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213372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, yo _____________ a la chica tocando la guitar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, yo _____________ a la chica tocando la guitar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34290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, Juan, ¿me  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, Juan, ¿me  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5334120" y="4572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í, María, te  ____________ b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í, María, te  ____________ b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4267080" y="3808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ñor Sanchez, ¿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2666880" y="5410080"/>
            <a:ext cx="2667240" cy="990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ñor Sanchez, ¿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3124080" y="12952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s amigos en el pasi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9718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, Señorita García, no 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. 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, Señorita García, no 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. 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1905120" y="12952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1371600" y="1143000"/>
            <a:ext cx="6477120" cy="47242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hicas _____________ a Ricardo tocando el pi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hicas _____________ a Ricardo tocando el pi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4114800" y="1522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__ la música tambié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__ la música tambié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03848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 _____________ muchas cosas que yo no oi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666880" y="5410080"/>
            <a:ext cx="2667240" cy="990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 _____________ muchas cosas que yo no oi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4812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0:20:28Z</dcterms:created>
  <dc:creator>Paul Widergren</dc:creator>
  <dc:description/>
  <dc:language>en-US</dc:language>
  <cp:lastModifiedBy>Jackson</cp:lastModifiedBy>
  <dcterms:modified xsi:type="dcterms:W3CDTF">2011-03-17T04:49:26Z</dcterms:modified>
  <cp:revision>5</cp:revision>
  <dc:subject/>
  <dc:title>oír</dc:title>
</cp:coreProperties>
</file>