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6DE-8FA5-4594-B4EC-39828037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656-7EF0-4949-83E2-1515746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2D8-77B1-46D1-A30D-0AC401FA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A94-28D3-40CA-AFCF-9983A959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8C8-442C-4072-A2DD-AB53431A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E4E-7FB3-4EC3-9AA5-542E270A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722-4A54-4C3C-A0E3-CE631007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1FC-2CCC-4937-AF48-5FF97B04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F84-7798-4C7A-962B-69598125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0A2-80B0-4858-AF85-A1C0409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FE-FD48-4381-90A0-CA3CFE6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546-0ABB-4090-94FD-09DC6239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4C2F-C403-480F-8621-637260AA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oí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¡oye como v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_____________ los pájaros cantando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_____________ los pájaros cantando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526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es _____________ al profesor de historia hablando de histo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es _____________ al profesor de historia hablando de histo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8862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 papá reparando el 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 papá reparando el 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2860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ú _____________ a los niños jugando en el jardí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ú _____________ a los niños jugando en el jardí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2096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 a los chicos jugando al fútbol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 a los chicos jugando al fútbol en el par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37339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s amigos en el pas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_____________ tú la chica tocando la guitar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_____________ tú la chica tocando la guitar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21337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, yo _____________ a la chica tocando la guitar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, yo _____________ a la chica tocando la guitar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4290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, Juan, ¿me  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, Juan, ¿me  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334120" y="4572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, María, te  ____________ b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, María, te  ____________ b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267080" y="3808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ñor Sanchez, ¿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666880" y="5410080"/>
            <a:ext cx="2667240" cy="990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ñor Sanchez, ¿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124080" y="1295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 _____________ a mis amigos en el pas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97180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, Señorita García, no 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.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, Señorita García, no 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______.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1905120" y="1295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1371600" y="1143000"/>
            <a:ext cx="6477120" cy="47242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hicas _____________ a Ricardo tocando el pi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hicas _____________ a Ricardo tocando el pi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4114800" y="1522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__ la música tambi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otros ____________ la música tambi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03848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 _____________ muchas cosas que yo no oi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762120" y="51055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666880" y="5410080"/>
            <a:ext cx="2667240" cy="990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ACE59"/>
          <p:cNvPicPr/>
          <p:nvPr/>
        </p:nvPicPr>
        <p:blipFill>
          <a:blip r:embed="rId1"/>
          <a:stretch/>
        </p:blipFill>
        <p:spPr>
          <a:xfrm>
            <a:off x="2819520" y="762120"/>
            <a:ext cx="3713040" cy="572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ted _____________ muchas cosas que yo no oi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62120" y="2971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62120" y="4038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48120" y="2286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562720" y="30481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411480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562720" y="51814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y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0:20:28Z</dcterms:created>
  <dc:creator>Paul Widergren</dc:creator>
  <dc:description/>
  <dc:language>en-US</dc:language>
  <cp:lastModifiedBy>Jackson</cp:lastModifiedBy>
  <dcterms:modified xsi:type="dcterms:W3CDTF">2011-03-17T04:49:26Z</dcterms:modified>
  <cp:revision>5</cp:revision>
  <dc:subject/>
  <dc:title>oír</dc:title>
</cp:coreProperties>
</file>