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E93-ABCB-499B-BB28-66201A5B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70A3-713E-40E3-8229-4A9EB015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0F4-9478-4E4F-80F8-AB269928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CE0-AE83-4B3B-AE03-7DCA99FB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7BBE-CCB5-4EB4-B70F-91BAA75E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DF3B-21A4-49CD-8513-0A578280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115D-88A4-438F-A711-16454157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1EB5-39AD-48F4-9F2B-CCF8A17A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2B53-9E9B-4D2A-9C11-FCAAF1EB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DFDF-BCB2-462F-88B8-55FFDF81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7D44-B3D0-4A53-AB74-66075CDD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14F-FEE4-46E6-81FF-20E76597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D3A8-033D-419E-A7B0-A78A537B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D328-CF67-45F5-B69B-C12DE1F2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CEE4-4534-470B-81AD-D8D1EFAF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09DB-77C9-4074-8E2D-9C0770E8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689C-B7C8-4991-BD75-AC5A3F15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77C-DD68-4A3F-87CD-B8773AF4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093-E156-4EA3-AE7A-5FB454EC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C1D-A178-488F-83CE-BD911398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3A9-366C-4AC1-8616-FB1946A6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22A-A1B3-4A62-BEF7-5865F2F1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22E-5B32-4227-B29E-DFAE1591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79A-57A1-4DFF-8652-21C0BAFA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B1CC-8C9D-40F5-9F83-4C8F15B3E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yelloworange_title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45ED-C2C6-42E6-91B9-8102E9E96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der y quer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m-changing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8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Tú y tus amigos ________ venir a la fiesta conmig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1295280" y="12952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Tú y tus amigos ________ venir a la fiesta conmig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Ana ________ preparar la comid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14600" y="609480"/>
            <a:ext cx="236232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Ana ________ preparar la comid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Después, nosotros ________ jugar al volíbol en la play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066680" y="12952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Después, nosotros ________ jugar al volíbol en la play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Los estudiantes ______ leer muchos libros en la bibliotec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791320" y="533520"/>
            <a:ext cx="236196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Los estudiantes ______ leer muchos libros en la bibliotec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Si tocas un instrumento,  ________ tocarlo en una clase de músic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0666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143000" y="12952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0666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Si tocas un instrumento,  ________ tocarlo en una clase de músic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Yo ________ hablar un poco de español ahor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Las chicas ________ jugar al baloncesto en el equipo de baloncest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4419720" y="533520"/>
            <a:ext cx="236196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Las chicas ________ jugar al baloncesto en el equipo de baloncest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i primo no ________ venir a la fiesta porque tiene que trabaj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4952880" y="45720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i primo no ________ venir a la fiesta porque tiene que trabaj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Nosotros sí ________ venir a la fiest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876920" y="533520"/>
            <a:ext cx="236196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Nosotros sí ________ venir a la fiest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ste hombre ________ jugar al dominó todos los días si lo quie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5181480" y="5335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ste hombre ________ jugar al dominó todos los días si lo quie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Cuando llueve, el equipo de béisbol no ________ practicar afuer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5562720" y="1295280"/>
            <a:ext cx="236196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Cuando llueve, el equipo de béisbol no ________ practicar afuer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057400" y="3808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Yo ________ hablar un poco de español ahor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pero sí ________ practicar en el gimnasi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4038480" y="5335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pero sí ________ practicar en el gimnasi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Carlos y Miguel ________ andar en patineta en el parqu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1066680" y="121932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Carlos y Miguel ________ andar en patineta en el parqu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Varios chicos en Puerto Rico ______ ir a la playa para hacer el surf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286000" y="121932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Varios chicos en Puerto Rico ______ ir a la playa para hacer el surf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r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Yo ______ ir al partido de béisbol contig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Yo ______ ir al partido de béisbol contig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1828800" y="3808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Tú ________ ir conmigo, ¿verda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is hermanos ________ jugar al golf mejor que y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Tú ________ ir conmigo, ¿verda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133720" y="380880"/>
            <a:ext cx="236196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is primos ______ ir con nosotros tambié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4343400" y="53352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is primos ______ ir con nosotros tambié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i primo Juan es loco con el béisbol.  _____ ir a todos los partid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5410080" y="1295280"/>
            <a:ext cx="236232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i primo Juan es loco con el béisbol.  _____ ir a todos los partid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457200" y="533520"/>
            <a:ext cx="8305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i prima María, no. Sólo ________ ir porque nosotros vamos con ell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762120" y="1295280"/>
            <a:ext cx="236196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457200" y="533520"/>
            <a:ext cx="8305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i prima María, no. Sólo ________ ir porque nosotros vamos con ell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Yo ______ mirar el partido, hablar con mis amigos, y descans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8"/>
          <p:cNvSpPr/>
          <p:nvPr/>
        </p:nvSpPr>
        <p:spPr>
          <a:xfrm>
            <a:off x="1752480" y="53352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Yo ______ mirar el partido, hablar con mis amigos, y descans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Abuelo no viene porque  ______ tomar una siesta en cas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562720" y="304920"/>
            <a:ext cx="236196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is hermanos ________ jugar al golf mejor que y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5"/>
          <p:cNvSpPr/>
          <p:nvPr/>
        </p:nvSpPr>
        <p:spPr>
          <a:xfrm>
            <a:off x="838080" y="1295280"/>
            <a:ext cx="236232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Abuelo no viene porque  ______ tomar una siesta en cas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amá no viene porque ______ ir de compras en el centro comerc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5"/>
          <p:cNvSpPr/>
          <p:nvPr/>
        </p:nvSpPr>
        <p:spPr>
          <a:xfrm>
            <a:off x="838080" y="1295280"/>
            <a:ext cx="236232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amá no viene porque ______ ir de compras en el centro comerc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Jorge no viene porque ______ trabajar para ganar diner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5"/>
          <p:cNvSpPr/>
          <p:nvPr/>
        </p:nvSpPr>
        <p:spPr>
          <a:xfrm>
            <a:off x="762120" y="1295280"/>
            <a:ext cx="236196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Jorge no viene porque ______ trabajar para ganar diner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Jorge ________ ganar dinero para comprar un coch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5"/>
          <p:cNvSpPr/>
          <p:nvPr/>
        </p:nvSpPr>
        <p:spPr>
          <a:xfrm>
            <a:off x="2819520" y="533520"/>
            <a:ext cx="236196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Jorge ________ ganar dinero para comprar un coch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Yo ______ comprar un coche también pero no tengo trabaj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8"/>
          <p:cNvSpPr/>
          <p:nvPr/>
        </p:nvSpPr>
        <p:spPr>
          <a:xfrm>
            <a:off x="1752480" y="53352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Yo ______ comprar un coche también pero no tengo trabaj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¿Qué ________ hacer después del partido? ¿Vamos al restauran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990720" y="5562720"/>
            <a:ext cx="236196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i padre y yo ________ lavar el coche mañan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6"/>
          <p:cNvSpPr/>
          <p:nvPr/>
        </p:nvSpPr>
        <p:spPr>
          <a:xfrm>
            <a:off x="2895480" y="53352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¿Qué ________ hacer después del partido? ¿Vamos al restauran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Ustedes ________ ir con nosotros, ¿verdad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09880" y="53352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Ustedes ________ ir con nosotros, ¿verdad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r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990720" y="5562720"/>
            <a:ext cx="236196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410080" y="30492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762120" y="533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i padre y yo ________ lavar el coche mañan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181480" y="3200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Carlos y yo ________ ir al concierto este fin de seman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5181480" y="5486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0666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066680" y="5562720"/>
            <a:ext cx="236232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648320" y="380880"/>
            <a:ext cx="236196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181480" y="434340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066680" y="3124080"/>
            <a:ext cx="2362320" cy="841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u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62120" y="53352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Carlos y yo ________ ir al concierto este fin de seman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1:16:30Z</dcterms:created>
  <dc:creator>Paul Widergren</dc:creator>
  <dc:description/>
  <dc:language>en-US</dc:language>
  <cp:lastModifiedBy>Jackson</cp:lastModifiedBy>
  <dcterms:modified xsi:type="dcterms:W3CDTF">2011-03-17T04:51:52Z</dcterms:modified>
  <cp:revision>7</cp:revision>
  <dc:subject/>
  <dc:title>jugar</dc:title>
</cp:coreProperties>
</file>