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850C-2F5B-45CC-AAFB-91C9E240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B1E-6325-4009-8442-F0768C0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F22-1BB6-4D22-ABFE-E9AABCBA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3B5-9D10-431E-8CF0-D881D804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CEC5-0D14-4A6E-9AFF-3E65AFFC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77F8-9E3D-423C-8803-F104F4D4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67A8-866B-43EF-B9DF-1A5854B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C2FC-54ED-4E52-8FAC-CE3E8A23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47F0-713F-4EC6-8857-4962F9C6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F8AD-DAD3-445C-811B-2DDF66A1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51C-DE00-46EC-9A27-8B224834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2D0-E455-41C9-9B4F-2676902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E29D-D4E7-40FC-9395-C744A71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48B7-3FE2-40CA-8B97-9C5D1E4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F48-0476-45D9-A8D0-5F99811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357-F944-4391-9DC7-882E0699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46D-F1F7-4BE2-8135-CB47AE82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639-2A64-45DF-B3E6-8FE9D94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996-237B-4ADA-8FC0-6132E9DD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9B2-A85D-4DB6-B81A-24EAD14E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E93-5E89-4484-9738-4A230E5B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4B0-A232-40AA-AD65-3F6EE47D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817-5135-4DF2-B30B-060557B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1C9-F4C5-4015-BAE9-17F38E2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103-10AC-4401-816C-56778E487C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5E7-6251-4BBB-BBE1-19E8D05A15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 español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nidad tres Etapa 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952880" y="2438280"/>
            <a:ext cx="3886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comiendo un sandwich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bebiendo un refresc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WOBOD235"/>
          <p:cNvPicPr/>
          <p:nvPr/>
        </p:nvPicPr>
        <p:blipFill>
          <a:blip r:embed="rId1"/>
          <a:stretch/>
        </p:blipFill>
        <p:spPr>
          <a:xfrm>
            <a:off x="1447920" y="2666880"/>
            <a:ext cx="2541600" cy="365616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pint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escribiendo una composición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5" descr="MEN275"/>
          <p:cNvPicPr/>
          <p:nvPr/>
        </p:nvPicPr>
        <p:blipFill>
          <a:blip r:embed="rId1"/>
          <a:stretch/>
        </p:blipFill>
        <p:spPr>
          <a:xfrm>
            <a:off x="1143000" y="2590920"/>
            <a:ext cx="2928960" cy="362736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572000" y="2438280"/>
            <a:ext cx="4267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escuchando músic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hablando por teléfon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MEN403"/>
          <p:cNvPicPr/>
          <p:nvPr/>
        </p:nvPicPr>
        <p:blipFill>
          <a:blip r:embed="rId1"/>
          <a:stretch/>
        </p:blipFill>
        <p:spPr>
          <a:xfrm>
            <a:off x="990720" y="2819520"/>
            <a:ext cx="3052800" cy="3655800"/>
          </a:xfrm>
          <a:prstGeom prst="rect">
            <a:avLst/>
          </a:prstGeom>
          <a:ln w="0">
            <a:noFill/>
          </a:ln>
        </p:spPr>
      </p:pic>
      <p:sp>
        <p:nvSpPr>
          <p:cNvPr id="14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camin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durmie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5" descr="MEN311"/>
          <p:cNvPicPr/>
          <p:nvPr/>
        </p:nvPicPr>
        <p:blipFill>
          <a:blip r:embed="rId1"/>
          <a:stretch/>
        </p:blipFill>
        <p:spPr>
          <a:xfrm>
            <a:off x="1219320" y="2438280"/>
            <a:ext cx="2420640" cy="381312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0" y="243828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bail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nad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6" descr="WOBOD258"/>
          <p:cNvPicPr/>
          <p:nvPr/>
        </p:nvPicPr>
        <p:blipFill>
          <a:blip r:embed="rId1"/>
          <a:stretch/>
        </p:blipFill>
        <p:spPr>
          <a:xfrm>
            <a:off x="1523880" y="2590920"/>
            <a:ext cx="2130480" cy="36590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durmie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una sies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WOBOD037"/>
          <p:cNvPicPr/>
          <p:nvPr/>
        </p:nvPicPr>
        <p:blipFill>
          <a:blip r:embed="rId1"/>
          <a:stretch/>
        </p:blipFill>
        <p:spPr>
          <a:xfrm>
            <a:off x="1143000" y="2895480"/>
            <a:ext cx="308124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n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2000" y="2438280"/>
            <a:ext cx="426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n corrie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n bail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Picture 7" descr="CART012"/>
          <p:cNvPicPr/>
          <p:nvPr/>
        </p:nvPicPr>
        <p:blipFill>
          <a:blip r:embed="rId1"/>
          <a:stretch/>
        </p:blipFill>
        <p:spPr>
          <a:xfrm>
            <a:off x="1066680" y="2666880"/>
            <a:ext cx="3071880" cy="365472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montando en caball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mirando un pájar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5" descr="CART006"/>
          <p:cNvPicPr/>
          <p:nvPr/>
        </p:nvPicPr>
        <p:blipFill>
          <a:blip r:embed="rId1"/>
          <a:stretch/>
        </p:blipFill>
        <p:spPr>
          <a:xfrm>
            <a:off x="1447920" y="2362320"/>
            <a:ext cx="3070080" cy="414000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haciendo el surfing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nadando en la pisci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7008ART"/>
          <p:cNvPicPr/>
          <p:nvPr/>
        </p:nvPicPr>
        <p:blipFill>
          <a:blip r:embed="rId1"/>
          <a:stretch/>
        </p:blipFill>
        <p:spPr>
          <a:xfrm>
            <a:off x="609480" y="2819520"/>
            <a:ext cx="4051440" cy="1731960"/>
          </a:xfrm>
          <a:prstGeom prst="rect">
            <a:avLst/>
          </a:prstGeom>
          <a:ln w="0">
            <a:noFill/>
          </a:ln>
        </p:spPr>
      </p:pic>
      <p:sp>
        <p:nvSpPr>
          <p:cNvPr id="164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0" y="2438280"/>
            <a:ext cx="426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jugando al fútbo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jugando al baloncest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5" descr="7021ART"/>
          <p:cNvPicPr/>
          <p:nvPr/>
        </p:nvPicPr>
        <p:blipFill>
          <a:blip r:embed="rId1"/>
          <a:stretch/>
        </p:blipFill>
        <p:spPr>
          <a:xfrm>
            <a:off x="762120" y="2590920"/>
            <a:ext cx="3609720" cy="3652560"/>
          </a:xfrm>
          <a:prstGeom prst="rect">
            <a:avLst/>
          </a:prstGeom>
          <a:ln w="0">
            <a:noFill/>
          </a:ln>
        </p:spPr>
      </p:pic>
      <p:sp>
        <p:nvSpPr>
          <p:cNvPr id="16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Progress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rogressive in Spanish is a complex verb form that tell what is happening right n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consists of a helping verb “estar” and a particip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articiple is formed by adding either “-ando” (for –ar verbs) or “-iendo” (for –er and –ir verbs) to the stem of the verb.  The participle otherwise never changes its for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7018ART"/>
          <p:cNvPicPr/>
          <p:nvPr/>
        </p:nvPicPr>
        <p:blipFill>
          <a:blip r:embed="rId1"/>
          <a:stretch/>
        </p:blipFill>
        <p:spPr>
          <a:xfrm>
            <a:off x="762120" y="2362320"/>
            <a:ext cx="4952880" cy="31334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867280" y="2193840"/>
            <a:ext cx="32767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el sol en la play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esquiando en la niev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105520" y="2193840"/>
            <a:ext cx="32763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andando en bicicle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andando en patine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5" descr="7058ART"/>
          <p:cNvPicPr/>
          <p:nvPr/>
        </p:nvPicPr>
        <p:blipFill>
          <a:blip r:embed="rId1"/>
          <a:stretch/>
        </p:blipFill>
        <p:spPr>
          <a:xfrm>
            <a:off x="1295280" y="2766960"/>
            <a:ext cx="3429000" cy="3365640"/>
          </a:xfrm>
          <a:prstGeom prst="rect">
            <a:avLst/>
          </a:prstGeom>
          <a:ln w="0">
            <a:noFill/>
          </a:ln>
        </p:spPr>
      </p:pic>
      <p:sp>
        <p:nvSpPr>
          <p:cNvPr id="176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47920" y="4022640"/>
            <a:ext cx="70102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el sol en la play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una siesta en la play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5" descr="TANNING1"/>
          <p:cNvPicPr/>
          <p:nvPr/>
        </p:nvPicPr>
        <p:blipFill>
          <a:blip r:embed="rId1"/>
          <a:stretch/>
        </p:blipFill>
        <p:spPr>
          <a:xfrm>
            <a:off x="1295280" y="2286000"/>
            <a:ext cx="4672080" cy="17334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181480" y="2743200"/>
            <a:ext cx="3276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pesc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patin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5" descr="7126ART"/>
          <p:cNvPicPr/>
          <p:nvPr/>
        </p:nvPicPr>
        <p:blipFill>
          <a:blip r:embed="rId1"/>
          <a:stretch/>
        </p:blipFill>
        <p:spPr>
          <a:xfrm>
            <a:off x="1676520" y="1752480"/>
            <a:ext cx="2698560" cy="4532400"/>
          </a:xfrm>
          <a:prstGeom prst="rect">
            <a:avLst/>
          </a:prstGeom>
          <a:ln w="0">
            <a:noFill/>
          </a:ln>
        </p:spPr>
      </p:pic>
      <p:sp>
        <p:nvSpPr>
          <p:cNvPr id="184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105520" y="2743200"/>
            <a:ext cx="4038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esquiando en el agu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haciendo el surfing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WATERSKI"/>
          <p:cNvPicPr/>
          <p:nvPr/>
        </p:nvPicPr>
        <p:blipFill>
          <a:blip r:embed="rId1"/>
          <a:stretch/>
        </p:blipFill>
        <p:spPr>
          <a:xfrm>
            <a:off x="1143000" y="2514600"/>
            <a:ext cx="4672080" cy="373068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181480" y="2743200"/>
            <a:ext cx="3276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una sies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rabaj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9" descr="CARTA020"/>
          <p:cNvPicPr/>
          <p:nvPr/>
        </p:nvPicPr>
        <p:blipFill>
          <a:blip r:embed="rId1"/>
          <a:stretch/>
        </p:blipFill>
        <p:spPr>
          <a:xfrm>
            <a:off x="1143000" y="2362320"/>
            <a:ext cx="3224160" cy="4255920"/>
          </a:xfrm>
          <a:prstGeom prst="rect">
            <a:avLst/>
          </a:prstGeom>
          <a:ln w="0">
            <a:noFill/>
          </a:ln>
        </p:spPr>
      </p:pic>
      <p:sp>
        <p:nvSpPr>
          <p:cNvPr id="19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ARTA013"/>
          <p:cNvPicPr/>
          <p:nvPr/>
        </p:nvPicPr>
        <p:blipFill>
          <a:blip r:embed="rId1"/>
          <a:stretch/>
        </p:blipFill>
        <p:spPr>
          <a:xfrm>
            <a:off x="1600200" y="251460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038480" y="2743200"/>
            <a:ext cx="51055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levantando pesa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escribiendo con un lápiz enorm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3000" y="502920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viendo televisión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haciendo ejercici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CARTA022"/>
          <p:cNvPicPr/>
          <p:nvPr/>
        </p:nvPicPr>
        <p:blipFill>
          <a:blip r:embed="rId1"/>
          <a:stretch/>
        </p:blipFill>
        <p:spPr>
          <a:xfrm>
            <a:off x="838080" y="2514600"/>
            <a:ext cx="5943600" cy="245412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FIN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 español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nidad tres Etapa 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6" descr="TENISPL5"/>
          <p:cNvPicPr/>
          <p:nvPr/>
        </p:nvPicPr>
        <p:blipFill>
          <a:blip r:embed="rId1"/>
          <a:stretch/>
        </p:blipFill>
        <p:spPr>
          <a:xfrm>
            <a:off x="1219320" y="2743200"/>
            <a:ext cx="3321000" cy="3251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029200" y="2743200"/>
            <a:ext cx="39625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jugando al béisbo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jugando al teni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RELAX3"/>
          <p:cNvPicPr/>
          <p:nvPr/>
        </p:nvPicPr>
        <p:blipFill>
          <a:blip r:embed="rId1"/>
          <a:stretch/>
        </p:blipFill>
        <p:spPr>
          <a:xfrm>
            <a:off x="1143000" y="2362320"/>
            <a:ext cx="4672080" cy="2798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105520" y="2743200"/>
            <a:ext cx="4038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leyendo un periódic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descansando en la play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029200" y="2743200"/>
            <a:ext cx="39625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caminando en el bosqu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bailando en la fies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MEN559"/>
          <p:cNvPicPr/>
          <p:nvPr/>
        </p:nvPicPr>
        <p:blipFill>
          <a:blip r:embed="rId1"/>
          <a:stretch/>
        </p:blipFill>
        <p:spPr>
          <a:xfrm>
            <a:off x="1600200" y="2590920"/>
            <a:ext cx="2184480" cy="36604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648320" y="2743200"/>
            <a:ext cx="4343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corriendo porque tiene mie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bailand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6" descr="MEN260"/>
          <p:cNvPicPr/>
          <p:nvPr/>
        </p:nvPicPr>
        <p:blipFill>
          <a:blip r:embed="rId1"/>
          <a:stretch/>
        </p:blipFill>
        <p:spPr>
          <a:xfrm>
            <a:off x="1676520" y="2971800"/>
            <a:ext cx="2222280" cy="325764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n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48320" y="2743200"/>
            <a:ext cx="4343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n comiendo una meriend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n leyendo un libro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MOTHSON"/>
          <p:cNvPicPr/>
          <p:nvPr/>
        </p:nvPicPr>
        <p:blipFill>
          <a:blip r:embed="rId1"/>
          <a:stretch/>
        </p:blipFill>
        <p:spPr>
          <a:xfrm>
            <a:off x="762120" y="2590920"/>
            <a:ext cx="3747960" cy="365436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867280" y="2438280"/>
            <a:ext cx="2971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lavando la rop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viendo televisión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HTS030B"/>
          <p:cNvPicPr/>
          <p:nvPr/>
        </p:nvPicPr>
        <p:blipFill>
          <a:blip r:embed="rId1"/>
          <a:stretch/>
        </p:blipFill>
        <p:spPr>
          <a:xfrm>
            <a:off x="990720" y="2971800"/>
            <a:ext cx="467172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4300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¿Qué está haciendo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952880" y="2438280"/>
            <a:ext cx="3886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omando una siest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33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Está trabajando en la oficin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WOBOD391"/>
          <p:cNvPicPr/>
          <p:nvPr/>
        </p:nvPicPr>
        <p:blipFill>
          <a:blip r:embed="rId1"/>
          <a:stretch/>
        </p:blipFill>
        <p:spPr>
          <a:xfrm>
            <a:off x="1371600" y="2743200"/>
            <a:ext cx="3286080" cy="246204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1:15:36Z</dcterms:created>
  <dc:creator>Paul Widergren</dc:creator>
  <dc:description/>
  <dc:language>en-US</dc:language>
  <cp:lastModifiedBy>Jackson</cp:lastModifiedBy>
  <dcterms:modified xsi:type="dcterms:W3CDTF">2011-03-17T04:50:02Z</dcterms:modified>
  <cp:revision>5</cp:revision>
  <dc:subject/>
  <dc:title>Present Progressive</dc:title>
</cp:coreProperties>
</file>