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7B5-FAFD-4DB5-BA1C-ED708F7F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49B-A0C4-4F6D-8859-F949FB78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47BDC-4254-41F2-A16C-AD1DDB05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B94D9-4FA3-4BD0-8BAC-EDBC1045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37ACA-A361-4AF4-BFC9-5E757159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BC00A-B74F-4241-9F25-F8D37331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AF8A9-F000-484A-97EA-EA156BFF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1DC22-876B-45D8-BD4F-E90EA62A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E01C4-430B-4E33-B897-0CE64761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9B2E3-807A-4AB6-B5ED-C9ADC837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DD1A2-B09A-45B1-955B-4EAC91CE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1F0BB-3F71-4D3D-A0F3-FAAAB58C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346-8D32-4269-9350-2A4574F2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7B222-66A6-42DA-BB4D-A8541D47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BCF30-78C9-4731-984F-4160A11E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3D961-6068-4468-996C-6FC478A1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6318C-DC97-4B3B-86F9-EA3B97FD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0DB43-DF96-40ED-9D23-B0549752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350CBC-918B-440E-A7C6-7E76C49A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E30CA-33E6-473B-AB9D-9C0DF00B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C2805-28D7-41DA-BF54-D6D3585B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E7C99-044D-435A-8185-6CD44AC6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39BF3-CEBB-48C2-9313-1AF062A4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A43-6325-45B9-B25A-DE9C8D7C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25E57-7B3E-493A-A2D3-0854DB6F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AB0B0-3065-485B-925A-7D593E5F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62E93-2BED-43D4-B4D4-F2D34CFA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AF10D-CFFF-4512-A105-93456A5A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03960-212F-4665-A059-AF1EE033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6B82A-710E-46B1-92B6-CA419683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D6F7D-696E-410A-B315-AE373D6E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918A7-DB18-467D-ACD4-872A2231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FA273-A7AC-465C-9216-03AF80EB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758CC-F3D6-475B-A619-CCE76371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6D29-A357-4B5D-8123-25F2247C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1CCE0-6D0F-4349-93E0-9EBD934C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745B1-4D2A-4957-86CE-21E8F64F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9EFD3-0275-4C83-8ABD-D748A184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36A6D-A46D-4DD3-8F04-4506E192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9E2BB-09A0-49E1-ABCC-5E78D795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BADBC-532D-4664-84D8-3FDD9020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58107-AA27-4D3D-8180-18EF0AA1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034D2-3F75-4723-80E7-DE1526E2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7242C-A791-45E8-B82F-393584D1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90621-02C9-4C61-837B-2431E93D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469F-4624-490A-A032-89B6FFC2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E50E4C-250D-42DD-82A9-93C052F6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48AAF-9E93-4628-AFEA-D7E92D57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36EE0-544B-4867-A69E-129319B9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BA5A5-333F-420E-B9FD-1315DFF8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5E629-0B8B-4BF0-9E36-7026CD27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7FF8-D9A7-486F-A446-93EF61A2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4EBF-EFF5-4F1B-8967-EB570013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81D5-AF09-40A0-99ED-16F135B9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8887-3B33-49B0-9560-2E0E0EA5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360A-6470-4960-A674-9DBC8797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A38-5061-4ACF-A78D-80B5D628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D0E7-CC5E-41F7-8ECB-11D4452E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1D7C-6B5A-4B08-8FA2-E9226685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4652-8196-4AFF-9C07-5544EE0D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C63C-3948-442C-9DDF-735286A4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6142-5E75-43F8-ACDD-55EE7AF9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38B2-ACB1-4F45-8072-F2842D62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386D2-E959-427F-8E4A-C9A9791F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E1B63-E6A4-46FF-9959-082D21FC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A9AF-352F-43A6-99D5-2228DBA8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E1CD-DB77-4418-9E6E-96FECC60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BCE-F7E1-47E1-BB01-C02B1E1B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A82D6-0CED-4E28-96F2-0476A60F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C752E-11DF-4981-99C9-0B09DC68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C2729-C7FA-4AA5-BAD4-73E80F22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0E69D-041D-4635-A02E-CF54C772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C5A83-7C46-452A-A6A7-7366B32E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5EFF8-D2B6-4542-9518-E9CC334E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B8DF6-0D59-45E9-BD4B-3D35BD20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3EEC5-12E9-4566-B5E9-C556B6DE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67CCE-59F8-4708-AAB4-D0876799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A49DB-FC00-4328-8D73-020AB618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52C-3C76-4BD2-96E7-16B401D8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998F4-EB54-4F50-9323-3607C116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6DA25-A520-4EDD-AB56-31C5B9E5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73E40-CA9C-4C0F-A53C-F07BCCA6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EBA61-17EC-443A-999D-459F93DE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0943E-C66F-42CB-9EDE-F1717B31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F17A3-83D2-4439-A443-9ACFDE93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22433-3FA9-4D44-B6E7-D8EEE064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730AB-8C1D-458C-8F55-B225D0F9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A4EA2-4DAC-404B-8FA8-EA436EB6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508D5-B0A6-4604-AEFD-1357FC8A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1FE-F861-4F0C-AD7B-26CB48F3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E0098-33AF-477A-936E-F5282FB8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0964B-1DA3-4BD0-BB40-46C2EC70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95F70-93CE-478B-80BD-1578A966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1D098-F630-482C-B133-0995C5D7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00D40-A1B9-4380-A7BD-5E6D7549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86E60-1629-499B-A96F-4C494A91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02824-2B01-4AAD-B53C-EF46C952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9BDA4-A5FF-4B31-ADE9-C3549FFF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F2423-22E1-41EB-AE67-C6B5EB1B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509D8-0083-41C0-9EB7-86250794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9AE-E470-46DB-9888-F92B1875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5273C-FB11-483C-AE64-AFC0EBF7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2E94F-4974-4A6E-8ABE-757F81CE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BBCEA-E713-4882-AAA3-53A0003D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92D41-055A-489F-92C2-DF9D4BF4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64860-88EC-48CD-B161-8CABFD20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04FA9-0F8E-461F-9552-B5B3F352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00750-40A1-4835-BDF0-8698BE67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E4C6F-6EDF-4687-A4EA-783A9792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829B5-F910-4E22-BDD8-51C8D664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EB6BC-5B91-495E-84DB-BA4C50DB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E69-8534-4345-8EC3-31856BD7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578D1-4A42-45AA-A5AA-A80FAA01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D1D2D-8257-4534-A7A7-7B782CD0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27E75-8E44-4C51-845F-3808BB0E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66B3A-B62B-46DE-AA50-2F25C351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27846-5BF9-4A30-B697-429572D9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3BA63-6652-458E-AC7B-77653051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9D284-885C-4D23-BAA4-130D7075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FB44F-4A77-4AB4-B01B-BEF2F074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E4A09-5C0C-48C1-A5C2-8FA6F26A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95C25-8F23-4757-9CB5-3E25E12A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A6B-E13C-474F-9259-85DFAAE9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989FE-7948-4751-9EBF-57F312EA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8F069-4A43-4729-B17F-4C3C5B2D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750E6-3D8A-4398-BB6C-5DBCACC4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C3F50-CB33-41B9-B806-82126F74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93F23-BEEF-4621-8646-1D13483F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47882-56BD-4179-858A-2AE54F35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4B6AA-C678-4222-91FA-677CB38B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14F1A-8A53-43B7-A04E-1B6D54AA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BC214-7239-4ED6-B889-E9EA6F87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2CA7E-4D70-4E5A-8E85-0ED4AEF6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2CE-FBDC-42F7-815B-E4F39796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3AA15-8496-431B-A806-6DEB2738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F5B7C-7F84-4298-9224-23056931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A3FC1-71AE-41C5-ADFE-FAAA9300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6EA80-AE31-447D-845C-1715FAAC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3C952-FF9C-41FC-8374-2E430F09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C67F4-1C6F-4B36-AC03-F5041FBD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D3FB4-43FF-4186-B718-DA30FCEE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19997-284C-472F-9946-7AF60B3E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8F380-DB7D-48BF-BE11-30DE0235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B0477-F1D3-43AF-A348-2CF6DFA4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7C58-996D-4FD9-942A-9E7D4E5C8D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039B-E4C4-430E-873D-75DE4DCDE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B79E-4ED7-448E-8811-D58F22FE9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4084-160E-4766-8153-325B609A85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5564-7D07-4507-8E13-9216A8F1E1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0DB9-693E-438F-A6FA-989A7067EF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96F4-4C3B-4FE5-9F7E-BF657F9F0D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90A1-F519-492F-9D37-D403C32305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703B-4D74-4F3C-894D-A626A6E63E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6600-14C8-44DA-BA68-AEF5F35556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E2E0-4AAF-48D6-A5E0-4899A78B3E1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8A90-4BF1-473A-8AE4-0FD9AC3E2D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1295280" y="12952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1905120" y="2666880"/>
            <a:ext cx="58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English, pronouns that indicated that the subject of the sentence does something to himself or herself are calle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flex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5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gelio _________ lava los dient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Comment 4"/>
          <p:cNvSpPr/>
          <p:nvPr/>
        </p:nvSpPr>
        <p:spPr>
          <a:xfrm>
            <a:off x="2895480" y="25146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 niños _________ duermen inmediateme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Comment 4"/>
          <p:cNvSpPr/>
          <p:nvPr/>
        </p:nvSpPr>
        <p:spPr>
          <a:xfrm>
            <a:off x="37339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ú) _________ maquillas en el bañ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Comment 4"/>
          <p:cNvSpPr/>
          <p:nvPr/>
        </p:nvSpPr>
        <p:spPr>
          <a:xfrm>
            <a:off x="2438280" y="2514600"/>
            <a:ext cx="9144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Nosotros) _________ levantamos a las siete y die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Comment 4"/>
          <p:cNvSpPr/>
          <p:nvPr/>
        </p:nvSpPr>
        <p:spPr>
          <a:xfrm>
            <a:off x="37339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_________ ducho depués del partido de basquetb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Comment 4"/>
          <p:cNvSpPr/>
          <p:nvPr/>
        </p:nvSpPr>
        <p:spPr>
          <a:xfrm>
            <a:off x="1981080" y="243828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 papá _________ afeita por la maña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Comment 4"/>
          <p:cNvSpPr/>
          <p:nvPr/>
        </p:nvSpPr>
        <p:spPr>
          <a:xfrm>
            <a:off x="30481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838080" y="25909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 mamá _________ pone el perfume antes de ir al restaura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Comment 4"/>
          <p:cNvSpPr/>
          <p:nvPr/>
        </p:nvSpPr>
        <p:spPr>
          <a:xfrm>
            <a:off x="3368520" y="25146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 la ropa después de levantar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Comment 4"/>
          <p:cNvSpPr/>
          <p:nvPr/>
        </p:nvSpPr>
        <p:spPr>
          <a:xfrm>
            <a:off x="1600200" y="243828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 quito la ropa antes de duchar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Comment 4"/>
          <p:cNvSpPr/>
          <p:nvPr/>
        </p:nvSpPr>
        <p:spPr>
          <a:xfrm>
            <a:off x="1295280" y="25146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to _________ lava los dientes después de co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Comment 4"/>
          <p:cNvSpPr/>
          <p:nvPr/>
        </p:nvSpPr>
        <p:spPr>
          <a:xfrm>
            <a:off x="2133720" y="251460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3"/>
          <p:cNvSpPr/>
          <p:nvPr/>
        </p:nvSpPr>
        <p:spPr>
          <a:xfrm>
            <a:off x="685800" y="914400"/>
            <a:ext cx="77724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English reflexive pronouns end i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self (-selves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cut myself shav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looked at herself in the mirr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embarassed oursel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mall children dressed themsel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 lavas las manos antes de co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Comment 4"/>
          <p:cNvSpPr/>
          <p:nvPr/>
        </p:nvSpPr>
        <p:spPr>
          <a:xfrm>
            <a:off x="1523880" y="243828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838080" y="259092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 hermana_________ lava el pelo y después _______ seca el pelo con un secador de pel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Comment 4"/>
          <p:cNvSpPr/>
          <p:nvPr/>
        </p:nvSpPr>
        <p:spPr>
          <a:xfrm>
            <a:off x="37339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Comment 5"/>
          <p:cNvSpPr/>
          <p:nvPr/>
        </p:nvSpPr>
        <p:spPr>
          <a:xfrm>
            <a:off x="4800600" y="32004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7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838080" y="259092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r la mañana, siempre _________ levanto temprano, _______ las pijamas, y _______ pongo la rop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Comment 4"/>
          <p:cNvSpPr/>
          <p:nvPr/>
        </p:nvSpPr>
        <p:spPr>
          <a:xfrm>
            <a:off x="1143000" y="312408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Comment 5"/>
          <p:cNvSpPr/>
          <p:nvPr/>
        </p:nvSpPr>
        <p:spPr>
          <a:xfrm>
            <a:off x="1219320" y="38098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Comment 6"/>
          <p:cNvSpPr/>
          <p:nvPr/>
        </p:nvSpPr>
        <p:spPr>
          <a:xfrm>
            <a:off x="1219320" y="441972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Footer Placeholder 8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"/>
          <p:cNvSpPr/>
          <p:nvPr/>
        </p:nvSpPr>
        <p:spPr>
          <a:xfrm>
            <a:off x="838080" y="25909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 chicos _________ acuestan temprano hoy porque están cansad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Comment 4"/>
          <p:cNvSpPr/>
          <p:nvPr/>
        </p:nvSpPr>
        <p:spPr>
          <a:xfrm>
            <a:off x="37339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Nosotros) _________ afeitamos antes de ducharn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Comment 4"/>
          <p:cNvSpPr/>
          <p:nvPr/>
        </p:nvSpPr>
        <p:spPr>
          <a:xfrm>
            <a:off x="37339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3"/>
          <p:cNvSpPr/>
          <p:nvPr/>
        </p:nvSpPr>
        <p:spPr>
          <a:xfrm>
            <a:off x="838080" y="2590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¿Cuándo _________ levantaste hoy?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Comment 4"/>
          <p:cNvSpPr/>
          <p:nvPr/>
        </p:nvSpPr>
        <p:spPr>
          <a:xfrm>
            <a:off x="3733920" y="2438280"/>
            <a:ext cx="8380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"/>
          <p:cNvSpPr/>
          <p:nvPr/>
        </p:nvSpPr>
        <p:spPr>
          <a:xfrm>
            <a:off x="838080" y="2590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¿Cuándo _________ acostaste ay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Comment 4"/>
          <p:cNvSpPr/>
          <p:nvPr/>
        </p:nvSpPr>
        <p:spPr>
          <a:xfrm>
            <a:off x="3733920" y="2438280"/>
            <a:ext cx="8380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 acuesto y ________ duermo inmediateme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Comment 4"/>
          <p:cNvSpPr/>
          <p:nvPr/>
        </p:nvSpPr>
        <p:spPr>
          <a:xfrm>
            <a:off x="9907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Comment 5"/>
          <p:cNvSpPr/>
          <p:nvPr/>
        </p:nvSpPr>
        <p:spPr>
          <a:xfrm>
            <a:off x="48769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7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838080" y="25909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Nosotros) _________ despertamos y ________ levantamos en segu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Comment 4"/>
          <p:cNvSpPr/>
          <p:nvPr/>
        </p:nvSpPr>
        <p:spPr>
          <a:xfrm>
            <a:off x="37339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Comment 5"/>
          <p:cNvSpPr/>
          <p:nvPr/>
        </p:nvSpPr>
        <p:spPr>
          <a:xfrm>
            <a:off x="4267080" y="32004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Footer Placeholder 7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838080" y="259092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tes de comer, mi famila y yo siempre _______ lavamos las manos y ________ sentamos en la mes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Comment 4"/>
          <p:cNvSpPr/>
          <p:nvPr/>
        </p:nvSpPr>
        <p:spPr>
          <a:xfrm>
            <a:off x="3581280" y="312408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Comment 5"/>
          <p:cNvSpPr/>
          <p:nvPr/>
        </p:nvSpPr>
        <p:spPr>
          <a:xfrm>
            <a:off x="3733920" y="38098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Footer Placeholder 7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685800" y="914400"/>
            <a:ext cx="82296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anish has reflexive pronouns and often uses them in phrases where English does not.  The reflexive pronoun still refers back to the subject of the sent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 levanté a las seis.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 got up at six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 lava los dientes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e brushes his teeth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s vamos.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et’s 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WordArt 2"/>
          <p:cNvSpPr txBox="1"/>
          <p:nvPr/>
        </p:nvSpPr>
        <p:spPr>
          <a:xfrm>
            <a:off x="1600200" y="914400"/>
            <a:ext cx="63244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32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533520" y="449280"/>
            <a:ext cx="82296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eflexive pronouns in Spanish are somewhat like the indirect object pronouns.   Instead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however, the reflexive pronou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u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 gusta    | (yo) me la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 gusta      |  (tú) te  la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gusta      |  (Ana) se l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s gusta   |  (nosotros) nos lav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gusta    |  (Ellos) se lav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Comment 3"/>
          <p:cNvSpPr/>
          <p:nvPr/>
        </p:nvSpPr>
        <p:spPr>
          <a:xfrm>
            <a:off x="3352680" y="609480"/>
            <a:ext cx="4800600" cy="22885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te how the reflexive verb always refers back to the subjec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5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685800" y="914400"/>
            <a:ext cx="82296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-- Levantarse tempran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 _______ levanto tempra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ú ______ levantas tempra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blo ________ levanta tempra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sotros _________ levantamos tempra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tedes _______ levantan tempra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 y Lupe _______ levantan tempra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Comment 3"/>
          <p:cNvSpPr/>
          <p:nvPr/>
        </p:nvSpPr>
        <p:spPr>
          <a:xfrm>
            <a:off x="1600200" y="16002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Comment 9"/>
          <p:cNvSpPr/>
          <p:nvPr/>
        </p:nvSpPr>
        <p:spPr>
          <a:xfrm>
            <a:off x="1523880" y="243828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Comment 10"/>
          <p:cNvSpPr/>
          <p:nvPr/>
        </p:nvSpPr>
        <p:spPr>
          <a:xfrm>
            <a:off x="2057400" y="32004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Comment 11"/>
          <p:cNvSpPr/>
          <p:nvPr/>
        </p:nvSpPr>
        <p:spPr>
          <a:xfrm>
            <a:off x="2666880" y="41148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Comment 12"/>
          <p:cNvSpPr/>
          <p:nvPr/>
        </p:nvSpPr>
        <p:spPr>
          <a:xfrm>
            <a:off x="2666880" y="487692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Comment 13"/>
          <p:cNvSpPr/>
          <p:nvPr/>
        </p:nvSpPr>
        <p:spPr>
          <a:xfrm>
            <a:off x="3124080" y="57150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10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685800" y="914400"/>
            <a:ext cx="82296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-- acostarse tar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 _______ acuesto tar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ú ______ acuestas tar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blo ________ acuesta tar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sotros _________ acostamos tar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tedes _______ acuestan tar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 y Lupe _______ acuestan tar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Comment 3"/>
          <p:cNvSpPr/>
          <p:nvPr/>
        </p:nvSpPr>
        <p:spPr>
          <a:xfrm>
            <a:off x="1600200" y="16002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Comment 4"/>
          <p:cNvSpPr/>
          <p:nvPr/>
        </p:nvSpPr>
        <p:spPr>
          <a:xfrm>
            <a:off x="1523880" y="243828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Comment 5"/>
          <p:cNvSpPr/>
          <p:nvPr/>
        </p:nvSpPr>
        <p:spPr>
          <a:xfrm>
            <a:off x="2057400" y="32004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Comment 6"/>
          <p:cNvSpPr/>
          <p:nvPr/>
        </p:nvSpPr>
        <p:spPr>
          <a:xfrm>
            <a:off x="2666880" y="41148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Comment 7"/>
          <p:cNvSpPr/>
          <p:nvPr/>
        </p:nvSpPr>
        <p:spPr>
          <a:xfrm>
            <a:off x="2666880" y="487692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Comment 8"/>
          <p:cNvSpPr/>
          <p:nvPr/>
        </p:nvSpPr>
        <p:spPr>
          <a:xfrm>
            <a:off x="3124080" y="57150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10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914400" y="838080"/>
            <a:ext cx="723888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flexive pronouns normally are placed directly before the verb, but they may be (but do not have to be) attached to infinitives and present partici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vo los d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oy lavándo            los d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y a lavar              los dientes pro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Comment 3"/>
          <p:cNvSpPr/>
          <p:nvPr/>
        </p:nvSpPr>
        <p:spPr>
          <a:xfrm>
            <a:off x="1295280" y="38862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Comment 4"/>
          <p:cNvSpPr/>
          <p:nvPr/>
        </p:nvSpPr>
        <p:spPr>
          <a:xfrm>
            <a:off x="3200400" y="54864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Comment 5"/>
          <p:cNvSpPr/>
          <p:nvPr/>
        </p:nvSpPr>
        <p:spPr>
          <a:xfrm>
            <a:off x="3581280" y="4648320"/>
            <a:ext cx="9907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7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Yo) _________ levanto a las se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Comment 4"/>
          <p:cNvSpPr/>
          <p:nvPr/>
        </p:nvSpPr>
        <p:spPr>
          <a:xfrm>
            <a:off x="2438280" y="243828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Nosotros) _________ acostamos a las diez y media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Comment 4"/>
          <p:cNvSpPr/>
          <p:nvPr/>
        </p:nvSpPr>
        <p:spPr>
          <a:xfrm>
            <a:off x="37339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3T10:38:44Z</dcterms:created>
  <dc:creator>Paul Widergren</dc:creator>
  <dc:description/>
  <dc:language>en-US</dc:language>
  <cp:lastModifiedBy>Jackson</cp:lastModifiedBy>
  <dcterms:modified xsi:type="dcterms:W3CDTF">2011-03-17T04:57:48Z</dcterms:modified>
  <cp:revision>2</cp:revision>
  <dc:subject/>
  <dc:title>No Slide Title</dc:title>
</cp:coreProperties>
</file>