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DDB-15DA-4E0B-883B-9EE0454A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007-2E7C-4EA5-A7FC-F25B61E6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E4E61-8334-4208-B1BF-0483BB86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4547E-88C7-4D8A-87AD-B1D2DAA2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50168-C609-41DE-BD57-C563BE9B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9D8E2-1482-4C44-B72C-9938F81A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3B248-AE34-4032-8D1E-7BCBE24B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EEB72-A6D2-4F4F-B57D-52FED2C6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B5AB8-4E49-42A9-9E49-C7AC73D5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0F4B0-8200-4E4F-B436-D9079127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CC36D-D240-4C33-99D3-D4D38954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185BB-2EB6-462A-9C3E-BA4463D5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290-E50F-4640-865E-2A4626BF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9BFAF-65AC-4D03-8FDE-E4C3F7DB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45723-7B26-4173-9554-869AE5A2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63F5E-BA62-44C1-85E9-0840C4BE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E750D-E612-4C58-9C5A-C70BA28A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C5436-8AAA-4A43-8D9E-DBD224D9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89FD8-3505-4AC3-B3D1-B79FD3CE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40681-1811-43B6-B615-FAF28F4F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276A8-CB3D-4C10-B6AE-3556D88F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0FE43-2B5B-4E06-8B1A-67C9FAB6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8D994-3CB6-4988-AED3-52D171ED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E7D-E487-401E-BCEE-B6BCB90E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C514C-4334-481A-A8FF-8C8E0AF6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9C02A-AA09-4298-AD78-2889F040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F4DC8-5E91-4E1E-8313-3CCC692B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6795E-03D7-484A-9D3B-90103E5B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D195F-DECB-4277-8976-94BEF9C7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87F2A-F258-4A85-BF62-690CCB05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196B7-D6A8-4398-AFBB-DBDFDA3A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546A5-7418-4946-9475-63002C9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08589-964E-47C5-AEDB-03C1CB8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1F711-7F12-4723-B682-A824224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3DD6-4B68-4A9C-AAA2-F03AD269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5824F-B0FE-4AB1-85BC-5DBF616C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E65DC-C066-4901-9846-4B2E23B6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4BC17-F5E3-4172-8CA5-5517AFB3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8A141-C386-4336-BE1A-F2956AE0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E089E-89BE-4C8A-BD0C-55FC0027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1A82A-513C-4BBB-B393-D13CE0AB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80F84-3E67-4F15-BDEC-1C87AFF0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0BBDC-960F-4B7F-8B6E-49F00180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07200-2448-4F24-89DE-6B30AF5C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EF13E-F6E4-442B-81AE-F4EC8D6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AB87-0650-42A3-B0E0-ADB9BB1C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8890C-CE94-4C0F-9891-639F3954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0B2E6-DCCB-4F95-B440-5E6C292C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7BEDB-0BCC-42B8-B090-4922BD95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18ECB-4AA2-4034-9A5B-C0ADECE2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BDE4A-CD89-4921-AA4D-CD84673F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40E0-5740-43D1-B7FF-AA3E5F31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9315-CA39-43A3-A153-D3317039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1BB0-B5E3-4E9C-860C-C89E6B93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500D-647C-4A2A-9BA3-14757486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A17E-5AF4-423F-A68A-14BBE041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2DD-E122-447F-9582-AFC90161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5823-FE07-4747-AEA3-49E97B1D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061A-B120-465C-81D4-86633940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3A51-527C-48A6-A038-FC2F32DA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8697-34D8-4745-BAA9-B96FC626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7220-E30A-4240-AF0F-43848867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943C-2DDD-470A-A850-44D4AE49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0F01-CEC4-4B34-834D-1CCD89EB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49E31-9FBC-40AE-B441-2ECF6208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DDBD-0F61-4BAC-AD8E-458E12A8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4D140-F900-4ACF-8F3E-C6AF7611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C8F-7722-4F44-A8A6-1DA3A3BE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953C-2EEE-4FF1-9B1D-8C8227B6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438A-CAA6-4BCE-86B3-73CF93D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B9F99-7A79-4627-A4B2-32C4F870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66B8-6EC3-4B71-835C-045A5DE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55AF6-D1E6-4285-8ADE-350AFA96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59D0-1686-4C44-B231-B870A01E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730E-3D89-4877-83E4-0932F9B2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3E898-C1D4-4496-B1E6-24E6F1CD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2CBC2-AB17-4DCC-AB3C-11233C4A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D500-FB31-4180-9970-CB34EB31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CB3-870B-48CC-8827-ECAD79D6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EE00-6E28-429B-9632-6CA9AC4F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D4E8-D1BC-4AE0-846A-7F32B8D5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AD01-4DEC-4AAF-942E-BCB27C26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DDFF-4C9F-429B-BD36-3E53E7C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1AF0-1B46-47B7-8DC2-12A9E18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3A7D5-8E15-4693-BBEE-B928BA6E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B1C89-D331-4F4F-B311-FFE4B9C0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0DF1A-CE50-4F4F-8A31-46D705FC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541E-3140-431C-A7A8-C88A2A04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7175-7C63-4DD6-B4D4-208A7CAC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A1A-E4BB-4C9E-A5C1-56B7F1E3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646B0-73E8-4174-998A-FE82C303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3A5EA-73C5-45A7-BB73-047BC948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B48E9-81C2-4E92-BFCB-EAF0E7EC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A211B-DC18-4040-9B7F-DB440946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2B951-E2F5-4EAE-9DAE-E022E26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C61B6-55D7-47AC-B1CA-70925CDC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F17D3-C0C8-4A35-B849-D19A220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B8AE4-4137-4766-A406-3B9F95CF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04631-52C1-4291-B2F2-90BA596E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49846-F287-4AFB-82F1-8637AB6D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A21-B93F-4023-AA4C-1A1660B2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3DC69-329D-4674-A953-30B1CF3B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7C882-FA0C-4ABB-81B3-71AB3FAC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F1B3C-113E-4773-9B2C-45A3D114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1CFB-608D-4960-B2CB-5C123666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44DAE-3009-4D2A-89E1-4B894B79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4D1CB-1A72-494B-9938-8CD5A90B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D1F45-E10A-4EAB-8443-8DE69C8C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8956E-4668-4051-9B62-0C2DA4A5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76E8F-2B47-4FA7-8F3C-88109992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5ABA2-8129-4117-A002-2506971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50C-D22B-4B41-B14D-DBAAA96B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A1A22-F68B-47AF-9A6F-975EE191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33202-4639-40B1-AA86-5EA45745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C71F-E123-4938-9A3E-357B7397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34AF1-6D89-4993-BB9F-E1C61A4E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CAB80-735F-4ECC-96B6-C023AC34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89C5B-CD24-497C-93C9-36A9AB0C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E2E8D-5080-4D8A-8BCB-11745C3C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FCB19-2983-4090-90B2-8C15B088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61271-8140-49A2-AD20-9E6F1DB7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3EFE1-3AA0-473F-9AB9-9BE53AC9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A51-0CBA-4912-A219-CE0E4D9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96725-AAB6-4556-986B-EAADAE78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01ADC-2F70-48EE-B98B-B4228F8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744C4-F8C5-4561-933A-3EFE4E56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59ED8-6357-4F90-96B5-E5801F8A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F9E20-88E1-4C1A-BFC4-EE90B8EC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C628A-D5EA-4CF9-891E-5D18ADA8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A86B4-2097-48C4-AD7F-9182E6D6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225ED-FA6B-47CF-BE97-E4CA8F29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C0B16-2E70-461B-9F71-E409B3DE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9BA6E-B17D-4D41-B017-FCF4327D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0B8-46F9-43A6-B7FF-8E36A9E8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90710-6E61-48D9-947B-853F57AB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52675-B9AC-45AC-B37E-054FF842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6A712-CFFA-4F90-8889-A06680D9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CBE8F-4E90-4E58-B6B8-D48001D3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DD6B8-E3B7-4103-9D73-4A96BD47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3F750-F110-4011-B7DF-38263DAF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02281-1CB5-4B15-9F00-D08BCFC0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CE670-B9EA-4650-9144-B929BB2D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F30E0-6480-4635-9DDC-3ACC8C96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9F312-5BB2-423B-8405-2A2AAAE4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28B9-0D86-4E2F-828E-5BB9D0B67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9BB5-F882-43AD-AE9D-7B8E5C0A1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7EC2-2FA0-4F71-9B17-76E4F394F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146E-412A-4097-B998-A39B4C82F9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141C-CEC8-4380-9FA0-AF79FE0D4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4B0B-185E-4352-A4AF-F67AE932F0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9535-C167-4A43-AC97-917A2C251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15C6-4C7A-42FB-846D-DBFF50D823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1C16-7C03-48A6-BAF6-6D84320A0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E29E-ECF1-4D1B-91C8-7694329B2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ADD4-0524-4495-96DC-F79546021C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DE1E-B05B-4EDB-B25A-6A8DC5633D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295280" y="12952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1905120" y="2666880"/>
            <a:ext cx="58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English, pronouns that indicated that the subject of the sentence does something to himself or herself are calle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flex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5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gelio _________ lava los dient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Comment 4"/>
          <p:cNvSpPr/>
          <p:nvPr/>
        </p:nvSpPr>
        <p:spPr>
          <a:xfrm>
            <a:off x="2895480" y="25146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niños _________ duermen inmediatem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ú) _________ maquillas en el bañ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Comment 4"/>
          <p:cNvSpPr/>
          <p:nvPr/>
        </p:nvSpPr>
        <p:spPr>
          <a:xfrm>
            <a:off x="2438280" y="2514600"/>
            <a:ext cx="9144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osotros) _________ levantamos a las siete y di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_________ ducho depués del partido de basquetb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Comment 4"/>
          <p:cNvSpPr/>
          <p:nvPr/>
        </p:nvSpPr>
        <p:spPr>
          <a:xfrm>
            <a:off x="1981080" y="24382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 papá _________ afeita por la maña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Comment 4"/>
          <p:cNvSpPr/>
          <p:nvPr/>
        </p:nvSpPr>
        <p:spPr>
          <a:xfrm>
            <a:off x="30481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838080" y="25909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 mamá _________ pone el perfume antes de ir al restaura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Comment 4"/>
          <p:cNvSpPr/>
          <p:nvPr/>
        </p:nvSpPr>
        <p:spPr>
          <a:xfrm>
            <a:off x="3368520" y="25146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 la ropa después de levantar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Comment 4"/>
          <p:cNvSpPr/>
          <p:nvPr/>
        </p:nvSpPr>
        <p:spPr>
          <a:xfrm>
            <a:off x="1600200" y="24382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 quito la ropa antes de duchar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Comment 4"/>
          <p:cNvSpPr/>
          <p:nvPr/>
        </p:nvSpPr>
        <p:spPr>
          <a:xfrm>
            <a:off x="1295280" y="25146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to _________ lava los dientes después de co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Comment 4"/>
          <p:cNvSpPr/>
          <p:nvPr/>
        </p:nvSpPr>
        <p:spPr>
          <a:xfrm>
            <a:off x="2133720" y="251460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685800" y="914400"/>
            <a:ext cx="77724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English reflexive pronouns end i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self (-selves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cut myself shav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looked at herself in the mirr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embarassed oursel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mall children dressed themsel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 lavas las manos antes de co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Comment 4"/>
          <p:cNvSpPr/>
          <p:nvPr/>
        </p:nvSpPr>
        <p:spPr>
          <a:xfrm>
            <a:off x="1523880" y="24382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838080" y="259092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 hermana_________ lava el pelo y después _______ seca el pelo con un secador de pel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Comment 5"/>
          <p:cNvSpPr/>
          <p:nvPr/>
        </p:nvSpPr>
        <p:spPr>
          <a:xfrm>
            <a:off x="4800600" y="32004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7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838080" y="259092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r la mañana, siempre _________ levanto temprano, _______ las pijamas, y _______ pongo la rop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Comment 4"/>
          <p:cNvSpPr/>
          <p:nvPr/>
        </p:nvSpPr>
        <p:spPr>
          <a:xfrm>
            <a:off x="1143000" y="31240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Comment 5"/>
          <p:cNvSpPr/>
          <p:nvPr/>
        </p:nvSpPr>
        <p:spPr>
          <a:xfrm>
            <a:off x="1219320" y="38098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Comment 6"/>
          <p:cNvSpPr/>
          <p:nvPr/>
        </p:nvSpPr>
        <p:spPr>
          <a:xfrm>
            <a:off x="1219320" y="441972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Footer Placeholder 8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"/>
          <p:cNvSpPr/>
          <p:nvPr/>
        </p:nvSpPr>
        <p:spPr>
          <a:xfrm>
            <a:off x="838080" y="25909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chicos _________ acuestan temprano hoy porque están cansad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osotros) _________ afeitamos antes de ducharn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"/>
          <p:cNvSpPr/>
          <p:nvPr/>
        </p:nvSpPr>
        <p:spPr>
          <a:xfrm>
            <a:off x="838080" y="2590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Cuándo _________ levantaste hoy?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Comment 4"/>
          <p:cNvSpPr/>
          <p:nvPr/>
        </p:nvSpPr>
        <p:spPr>
          <a:xfrm>
            <a:off x="3733920" y="2438280"/>
            <a:ext cx="8380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838080" y="2590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Cuándo _________ acostaste ay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Comment 4"/>
          <p:cNvSpPr/>
          <p:nvPr/>
        </p:nvSpPr>
        <p:spPr>
          <a:xfrm>
            <a:off x="3733920" y="2438280"/>
            <a:ext cx="8380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 acuesto y ________ duermo inmediatem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Comment 4"/>
          <p:cNvSpPr/>
          <p:nvPr/>
        </p:nvSpPr>
        <p:spPr>
          <a:xfrm>
            <a:off x="9907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Comment 5"/>
          <p:cNvSpPr/>
          <p:nvPr/>
        </p:nvSpPr>
        <p:spPr>
          <a:xfrm>
            <a:off x="4876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7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838080" y="25909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osotros) _________ despertamos y ________ levantamos en segu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Comment 5"/>
          <p:cNvSpPr/>
          <p:nvPr/>
        </p:nvSpPr>
        <p:spPr>
          <a:xfrm>
            <a:off x="4267080" y="32004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ooter Placeholder 7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838080" y="259092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tes de comer, mi famila y yo siempre _______ lavamos las manos y ________ sentamos en la me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Comment 4"/>
          <p:cNvSpPr/>
          <p:nvPr/>
        </p:nvSpPr>
        <p:spPr>
          <a:xfrm>
            <a:off x="3581280" y="31240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Comment 5"/>
          <p:cNvSpPr/>
          <p:nvPr/>
        </p:nvSpPr>
        <p:spPr>
          <a:xfrm>
            <a:off x="3733920" y="38098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ooter Placeholder 7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685800" y="914400"/>
            <a:ext cx="82296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anish has reflexive pronouns and often uses them in phrases where English does not.  The reflexive pronoun still refers back to the subject of the sent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 levanté a las seis.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 got up at six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lava los dientes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e brushes his teeth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s vamos.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et’s 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WordArt 2"/>
          <p:cNvSpPr txBox="1"/>
          <p:nvPr/>
        </p:nvSpPr>
        <p:spPr>
          <a:xfrm>
            <a:off x="1600200" y="914400"/>
            <a:ext cx="63244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533520" y="449280"/>
            <a:ext cx="82296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flexive pronouns in Spanish are somewhat like the indirect object pronouns.   Instead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however, the reflexive pronou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u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 gusta    | (yo) me la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 gusta      |  (tú) te  la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gusta      |  (Ana) se l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s gusta   |  (nosotros) nos lav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gusta    |  (Ellos) se lav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Comment 3"/>
          <p:cNvSpPr/>
          <p:nvPr/>
        </p:nvSpPr>
        <p:spPr>
          <a:xfrm>
            <a:off x="3352680" y="609480"/>
            <a:ext cx="4800600" cy="22885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e how the reflexive verb always refers back to the subjec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685800" y="914400"/>
            <a:ext cx="82296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-- Levantarse tempran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 _______ levanto tempr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ú ______ levantas tempr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blo ________ levanta tempr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sotros _________ levantamos tempr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tedes _______ levantan tempr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 y Lupe _______ levantan tempr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Comment 3"/>
          <p:cNvSpPr/>
          <p:nvPr/>
        </p:nvSpPr>
        <p:spPr>
          <a:xfrm>
            <a:off x="1600200" y="16002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Comment 9"/>
          <p:cNvSpPr/>
          <p:nvPr/>
        </p:nvSpPr>
        <p:spPr>
          <a:xfrm>
            <a:off x="1523880" y="24382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Comment 10"/>
          <p:cNvSpPr/>
          <p:nvPr/>
        </p:nvSpPr>
        <p:spPr>
          <a:xfrm>
            <a:off x="2057400" y="32004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Comment 11"/>
          <p:cNvSpPr/>
          <p:nvPr/>
        </p:nvSpPr>
        <p:spPr>
          <a:xfrm>
            <a:off x="2666880" y="41148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Comment 12"/>
          <p:cNvSpPr/>
          <p:nvPr/>
        </p:nvSpPr>
        <p:spPr>
          <a:xfrm>
            <a:off x="2666880" y="487692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Comment 13"/>
          <p:cNvSpPr/>
          <p:nvPr/>
        </p:nvSpPr>
        <p:spPr>
          <a:xfrm>
            <a:off x="3124080" y="57150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10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685800" y="914400"/>
            <a:ext cx="82296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-- acostarse tar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 _______ acuesto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ú ______ acuestas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blo ________ acuesta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sotros _________ acostamos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tedes _______ acuestan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 y Lupe _______ acuestan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Comment 3"/>
          <p:cNvSpPr/>
          <p:nvPr/>
        </p:nvSpPr>
        <p:spPr>
          <a:xfrm>
            <a:off x="1600200" y="16002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Comment 4"/>
          <p:cNvSpPr/>
          <p:nvPr/>
        </p:nvSpPr>
        <p:spPr>
          <a:xfrm>
            <a:off x="1523880" y="24382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Comment 5"/>
          <p:cNvSpPr/>
          <p:nvPr/>
        </p:nvSpPr>
        <p:spPr>
          <a:xfrm>
            <a:off x="2057400" y="32004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Comment 6"/>
          <p:cNvSpPr/>
          <p:nvPr/>
        </p:nvSpPr>
        <p:spPr>
          <a:xfrm>
            <a:off x="2666880" y="41148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Comment 7"/>
          <p:cNvSpPr/>
          <p:nvPr/>
        </p:nvSpPr>
        <p:spPr>
          <a:xfrm>
            <a:off x="2666880" y="487692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Comment 8"/>
          <p:cNvSpPr/>
          <p:nvPr/>
        </p:nvSpPr>
        <p:spPr>
          <a:xfrm>
            <a:off x="3124080" y="57150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10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914400" y="838080"/>
            <a:ext cx="723888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lexive pronouns normally are placed directly before the verb, but they may be (but do not have to be) attached to infinitives and present partici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vo los d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oy lavándo            los d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y a lavar              los dientes pro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Comment 3"/>
          <p:cNvSpPr/>
          <p:nvPr/>
        </p:nvSpPr>
        <p:spPr>
          <a:xfrm>
            <a:off x="1295280" y="38862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Comment 4"/>
          <p:cNvSpPr/>
          <p:nvPr/>
        </p:nvSpPr>
        <p:spPr>
          <a:xfrm>
            <a:off x="3200400" y="548640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Comment 5"/>
          <p:cNvSpPr/>
          <p:nvPr/>
        </p:nvSpPr>
        <p:spPr>
          <a:xfrm>
            <a:off x="3581280" y="4648320"/>
            <a:ext cx="9907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7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o) _________ levanto a las se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Comment 4"/>
          <p:cNvSpPr/>
          <p:nvPr/>
        </p:nvSpPr>
        <p:spPr>
          <a:xfrm>
            <a:off x="2438280" y="2438280"/>
            <a:ext cx="12034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53352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reflexive pronou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380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osotros) _________ acostamos a las diez y media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Comment 4"/>
          <p:cNvSpPr/>
          <p:nvPr/>
        </p:nvSpPr>
        <p:spPr>
          <a:xfrm>
            <a:off x="3733920" y="2438280"/>
            <a:ext cx="1203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10:38:44Z</dcterms:created>
  <dc:creator>Paul Widergren</dc:creator>
  <dc:description/>
  <dc:language>en-US</dc:language>
  <cp:lastModifiedBy>Jackson</cp:lastModifiedBy>
  <dcterms:modified xsi:type="dcterms:W3CDTF">2011-03-17T04:57:48Z</dcterms:modified>
  <cp:revision>2</cp:revision>
  <dc:subject/>
  <dc:title>No Slide Title</dc:title>
</cp:coreProperties>
</file>