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6436-E68C-4690-880E-D42988B8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EE0E-9268-4E3D-AE04-7FBABBC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3061-20A1-4E34-BE73-C77EEC21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1990-9608-4A62-8E45-BEB152F2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ABC3-741C-4683-B961-1D4B1D1A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A0BF-50C1-4F1A-8C48-E5A9F55F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75EC-9F8C-443F-BC95-07918D0E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F7C9-CF68-4CDB-8B5E-28F9507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D29-65D0-4A7C-AE75-F818E71F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0217-8CE4-49C6-B45D-20EAF49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6C53-96C9-4754-A707-95012F9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C16B-5B7E-4049-ACDA-880F9B3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BD4B-AF50-484A-85F3-645B6EC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14E4-BEFE-4DCA-9BC0-E6124335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508A-CD32-47E9-B006-2909212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842E-860E-4B8A-BDD9-1C7D8426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A605-E01B-402F-A7F9-6B9C61F8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743D9-5713-4A3B-AB6E-88D72E5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9BEF-0490-4EE6-B22C-F0F5268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8D63-2060-47EE-BF2B-2437B947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0B56-E345-466A-A56F-4391005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36D7-2295-41A0-B507-71F7E84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C68D-A45E-4ADF-97C0-AEDE0E8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68B7-B562-4F6F-94E1-4CC7C586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54A4-2A7E-4B88-B2CF-916CAFCF85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C90-52BC-4493-98DC-5D810963B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ab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know how to do somet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Sven ________ hablar sue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133720" y="1295280"/>
            <a:ext cx="2361960" cy="838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Sven ________ hablar sue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Ustedes ________ jugar al baloncesto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483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Ustedes ________ jugar al baloncesto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_ hacer el surfing porque vivo al lado de la play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0481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_ hacer el surfing porque vivo al lado de la play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arlos ________ bailar unos bailes méxicano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191120" y="533520"/>
            <a:ext cx="236196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arlos ________ bailar unos bailes méxicano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52388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dos los dominicanos _______ jugar al béisb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828800" y="12952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52388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dos los dominicanos _______ jugar al béisb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Ana ________ hablar español y franc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hermana Diana ________ patinar en el hiel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209680" y="1295280"/>
            <a:ext cx="2362320" cy="838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hermana Diana ________ patinar en el hiel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os niños _______ jugar al ten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51055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os niños _______ jugar al ten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 tocar el piano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97180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 tocar el piano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Juan ______ tocar la guitar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828800" y="1295280"/>
            <a:ext cx="2362320" cy="838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Juan ______ tocar la guitar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tocar música bonit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95288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tocar música bonit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3505320" y="457200"/>
            <a:ext cx="236196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752480" y="5284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Ana ________ hablar español y franc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_ cantar muchas canciones en españ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18148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_ cantar muchas canciones en españ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amá _______ cocinar la cocina méxican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4038480" y="5335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amá _______ cocinar la cocina méxican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apá _______ reparar el coche porque es mecáni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733920" y="533520"/>
            <a:ext cx="236196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apá _______ reparar el coche porque es mecáni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tío ________ usar la computado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886200" y="5335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tío ________ usar la computado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no _______ usar la computador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no _______ usar la computador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hablar inglés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1055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hablar inglés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as chicas italianas ________ hablar italiano y ingl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209680" y="12952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as chicas italianas ________ hablar italiano y ingl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ú ________ hablar japonés, ¿verdad?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481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ú ________ hablar japonés, ¿verdad?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1:16:30Z</dcterms:created>
  <dc:creator>Paul Widergren</dc:creator>
  <dc:description/>
  <dc:language>en-US</dc:language>
  <cp:lastModifiedBy>Jackson</cp:lastModifiedBy>
  <dcterms:modified xsi:type="dcterms:W3CDTF">2011-03-17T04:58:02Z</dcterms:modified>
  <cp:revision>8</cp:revision>
  <dc:subject/>
  <dc:title>jugar</dc:title>
</cp:coreProperties>
</file>