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7ADE-EBFC-401A-B1AF-B443B9C1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7C94-75F3-4DFD-8711-C3B66032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20B9-CCBE-4E18-9DD5-12E232BF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A135-770B-4649-A110-B7DB3F7C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57C5-37F8-4A1A-AE4B-4532A1BC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55BF-9989-4F9C-93B8-9310B75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6198-141B-41EF-8490-25CEABC9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346E-AD68-4B41-9026-FEA080B3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A829-E36B-4646-87CA-005E148D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F278-F4E7-4AAD-8B02-354C58F2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D8E8-795F-4AB4-A40E-28D85ED4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26F3-94A0-45A2-B1B7-A9C95422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8673-DFE0-4395-BDC4-EFCC90C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3E5F-2B17-4BD3-A290-523B692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540D-82D4-4F3F-919B-D6DECD0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5C20-DE92-47B0-B15B-DF022771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44AA-8A68-4A5E-B300-06945ED3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A53A-8D44-438B-BD99-1B2B61FE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8196-386F-477F-8859-12B0E0B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9729-7682-48D2-89E4-7625348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B3AD-5B18-4CC7-B533-0FEB9AF2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E82C-7DB2-4538-8145-626FFED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F1E1-1349-45FA-B731-6FD9E9C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5BD2-6C23-4B77-8408-D037F006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DC5C-0044-4CC4-A26D-FDA63E153D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8131-7259-458F-AE85-FCB1716238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ab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know how to do somet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Sven ________ hablar sue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133720" y="1295280"/>
            <a:ext cx="2361960" cy="838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Sven ________ hablar sue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Ustedes ________ jugar al baloncesto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483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Ustedes ________ jugar al baloncesto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_ hacer el surfing porque vivo al lado de la play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0481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_ hacer el surfing porque vivo al lado de la play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arlos ________ bailar unos bailes méxicano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191120" y="533520"/>
            <a:ext cx="236196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arlos ________ bailar unos bailes méxicano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52388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dos los dominicanos _______ jugar al béisb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828800" y="12952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52388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dos los dominicanos _______ jugar al béisb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Ana ________ hablar español y franc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hermana Diana ________ patinar en el hiel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209680" y="1295280"/>
            <a:ext cx="2362320" cy="838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hermana Diana ________ patinar en el hiel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os niños _______ jugar al ten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51055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os niños _______ jugar al ten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 tocar el piano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297180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_______ tocar el piano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Juan ______ tocar la guitar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828800" y="1295280"/>
            <a:ext cx="2362320" cy="838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amigo Juan ______ tocar la guitar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tocar música bonit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95288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tocar música bonit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3505320" y="457200"/>
            <a:ext cx="236196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752480" y="5284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Ana ________ hablar español y franc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_ cantar muchas canciones en españ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18148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_ cantar muchas canciones en españo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amá _______ cocinar la cocina méxican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4038480" y="5335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amá _______ cocinar la cocina méxican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apá _______ reparar el coche porque es mecáni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733920" y="533520"/>
            <a:ext cx="236196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apá _______ reparar el coche porque es mecánic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tío ________ usar la computado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886200" y="5335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i tío ________ usar la computado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no _______ usar la computador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6200" y="53352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Yo no _______ usar la computadora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hablar inglés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1055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osotros ________ hablar inglés muy bi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as chicas italianas ________ hablar italiano y ingl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209680" y="12952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752480" y="53352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as chicas italianas ________ hablar italiano y inglé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ú ________ hablar japonés, ¿verdad?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048120" y="533520"/>
            <a:ext cx="236196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a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752480" y="5335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ú ________ hablar japonés, ¿verdad?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A-VISTA © 2006, A school of SPANISH 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1:16:30Z</dcterms:created>
  <dc:creator>Paul Widergren</dc:creator>
  <dc:description/>
  <dc:language>en-US</dc:language>
  <cp:lastModifiedBy>Jackson</cp:lastModifiedBy>
  <dcterms:modified xsi:type="dcterms:W3CDTF">2011-03-17T04:58:02Z</dcterms:modified>
  <cp:revision>8</cp:revision>
  <dc:subject/>
  <dc:title>jugar</dc:title>
</cp:coreProperties>
</file>