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0C2-CA18-4DC8-B7B4-56F8DDD6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A9F-B0D7-4866-A395-93F24722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7E1-5D6D-4C2F-BBF5-3B27A7EE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E59-061B-4D32-B644-AE8D19DA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DD03-B906-4736-8F54-6C3FEBD3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E2C3-100D-4A07-AA7F-B6A38971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E8C6-24F3-4E1C-969B-FF39ABD8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A982-48E9-484E-9B3B-32180CFD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47D2-8F5B-436F-B6A4-4A84A90A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5FC4-2E0E-412E-9750-CD3971AA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FF1B-F359-49E9-B848-9308323D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646-425E-4855-9547-49038D0D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7795-E481-474B-B78A-A7004AB0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9240-496E-470D-9F12-DBB8EF63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6439-75C2-463A-A73E-E24C6523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14B0-2115-4517-83DB-2AED0925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ACBB-9B81-4B47-B0DD-DAD1F4C7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413-BD94-443C-A755-979652EE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30D-C603-46FB-BE4F-CA9B3797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718-8289-49BD-88C9-6FDD4069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120-7D43-463D-B42D-1728EDBA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77F-A175-4595-84D6-74B1D2B9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25F-83CC-4777-882F-738482F1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F9A-8325-4AE6-B053-00FB7635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0000" y="25956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6920" y="4276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0720" y="150084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0720" y="400752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0720" y="275184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0000" y="525384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C4DE-63BF-427E-9BF0-A847AA938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prstGeom prst="pi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prstGeom prst="pi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prstGeom prst="pie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D631-333F-4B26-8631-443CF8467FC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209680" y="106668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wel stem-changing verbs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3429000" y="3657600"/>
            <a:ext cx="21337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Footer Placeholder 5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0" y="2666880"/>
            <a:ext cx="5334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madre 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n el centro comercia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Comment 7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905120" y="2666880"/>
            <a:ext cx="6933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Antonio en la bibliotec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Comment 4"/>
          <p:cNvSpPr/>
          <p:nvPr/>
        </p:nvSpPr>
        <p:spPr>
          <a:xfrm>
            <a:off x="4419720" y="2592360"/>
            <a:ext cx="3809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0" y="2286000"/>
            <a:ext cx="5715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emocion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oy a __________ a mis abuelos que vienen a visitarnos en el aeropuer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Comment 4"/>
          <p:cNvSpPr/>
          <p:nvPr/>
        </p:nvSpPr>
        <p:spPr>
          <a:xfrm>
            <a:off x="4038480" y="32004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286000" y="228600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Dónde está mi libro?  No l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Comment 4"/>
          <p:cNvSpPr/>
          <p:nvPr/>
        </p:nvSpPr>
        <p:spPr>
          <a:xfrm>
            <a:off x="2362320" y="3962520"/>
            <a:ext cx="2971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stede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e es un buen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de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Comment 4"/>
          <p:cNvSpPr/>
          <p:nvPr/>
        </p:nvSpPr>
        <p:spPr>
          <a:xfrm>
            <a:off x="4572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al cine 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Comment 4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e es una excelent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de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Comment 4"/>
          <p:cNvSpPr/>
          <p:nvPr/>
        </p:nvSpPr>
        <p:spPr>
          <a:xfrm>
            <a:off x="4800600" y="2362320"/>
            <a:ext cx="31240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hicos  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al gimnasio para jug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 balonces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Comment 4"/>
          <p:cNvSpPr/>
          <p:nvPr/>
        </p:nvSpPr>
        <p:spPr>
          <a:xfrm>
            <a:off x="54864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amigos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 ir a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rcado.  ¿Quie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compañarn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Comment 4"/>
          <p:cNvSpPr/>
          <p:nvPr/>
        </p:nvSpPr>
        <p:spPr>
          <a:xfrm>
            <a:off x="2209680" y="3657600"/>
            <a:ext cx="31244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lculad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9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Comment 4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Comment 5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Footer Placeholder 7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0" y="26668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 en mi cam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Comment 4"/>
          <p:cNvSpPr/>
          <p:nvPr/>
        </p:nvSpPr>
        <p:spPr>
          <a:xfrm>
            <a:off x="3429000" y="23623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Comment 5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Comment 6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Comment 7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Footer Placeholder 9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impres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2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Comment 4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Comment 5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Footer Placeholder 7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computadoras allí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200 dólares cada u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Comment 4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Comment 5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libro de español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Comment 4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Comment 5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Footer Placeholder 7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lapic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a eso de 1 dólar, cre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Comment 4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Comment 5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Footer Placeholder 7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Comment 2"/>
          <p:cNvSpPr/>
          <p:nvPr/>
        </p:nvSpPr>
        <p:spPr>
          <a:xfrm>
            <a:off x="2971800" y="28195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ocho horas cada noch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Comment 4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i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2666880"/>
            <a:ext cx="5943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estudiantes nunc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 l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ase de españ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Comment 7"/>
          <p:cNvSpPr/>
          <p:nvPr/>
        </p:nvSpPr>
        <p:spPr>
          <a:xfrm>
            <a:off x="2438280" y="3657600"/>
            <a:ext cx="35816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286000" y="266688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ás tarde los sábad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Comment 4"/>
          <p:cNvSpPr/>
          <p:nvPr/>
        </p:nvSpPr>
        <p:spPr>
          <a:xfrm>
            <a:off x="3276720" y="236232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anuel siempr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uando está cans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Comment 4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0" y="2438280"/>
            <a:ext cx="6705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 gu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n rato por la tarde si es posibl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Comment 4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mis amigos en el restaurante mexica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Comment 4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ont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Comment 5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ont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Comment 6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Comment 7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Footer Placeholder 9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n lápiz en el suel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Comment 4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Jackson</cp:lastModifiedBy>
  <dcterms:modified xsi:type="dcterms:W3CDTF">2011-03-17T04:59:42Z</dcterms:modified>
  <cp:revision>4</cp:revision>
  <dc:subject/>
  <dc:title>No Slide Title</dc:title>
</cp:coreProperties>
</file>