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77D-2CAE-4C13-886A-A4DD9F52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739-BD9B-40EA-B6A8-178250B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E2F-792D-453B-83AE-1835DB3F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F80-AB49-4284-B1F5-531E355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E29F-9EEB-46D0-80C8-F9C1CC93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EFB-EEBE-4D01-95D0-68472EBB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FE9-08C0-419F-A2F7-7A499BA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579-8CA7-4538-9E4F-DDC49FB0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841C-DAF0-4297-ADAB-308D494A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F199-F9B5-4EA8-B28C-D9C64D0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9D3-396D-433A-9EAC-7DDF298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E06-46A7-4E34-9163-F787297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3979-CA89-451A-8086-2B1AB3A8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A94F-A7D0-455E-9E47-821843E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677F-247B-4601-9F08-34D26E7F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EA1-6B7C-40B7-8D42-4A0ECA59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8D4-BFF7-47DD-A20E-AFE79BAD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073-E36F-484B-9F59-4C27883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AE7-C423-42F2-8553-9AF3E01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4E7-D4F6-472E-8629-4672F046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E02-642E-4CD2-BBAA-D8D6F739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105-3D9E-45EB-ADA5-CDF9137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50F-00D3-4D7B-92D0-333A02B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699-F948-4EFB-BF2D-0B36C77A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000" y="25956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6920" y="427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0720" y="15008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0720" y="400752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518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000" y="525384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49C6-5826-471C-96C4-E318593D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E129-60C3-4A26-A481-B04F109B74F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429000" y="3657600"/>
            <a:ext cx="2133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n el centro comercia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Comment 7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905120" y="2666880"/>
            <a:ext cx="6933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Antonio en 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Comment 4"/>
          <p:cNvSpPr/>
          <p:nvPr/>
        </p:nvSpPr>
        <p:spPr>
          <a:xfrm>
            <a:off x="4419720" y="2592360"/>
            <a:ext cx="3809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0" y="2286000"/>
            <a:ext cx="5715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emocion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 __________ a mis abuelos que vienen a visitarnos en el aeropuer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4038480" y="32004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86000" y="228600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ónde está mi libro?  No l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Comment 4"/>
          <p:cNvSpPr/>
          <p:nvPr/>
        </p:nvSpPr>
        <p:spPr>
          <a:xfrm>
            <a:off x="2362320" y="3962520"/>
            <a:ext cx="2971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 buen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Comment 4"/>
          <p:cNvSpPr/>
          <p:nvPr/>
        </p:nvSpPr>
        <p:spPr>
          <a:xfrm>
            <a:off x="4572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cine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a excelent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Comment 4"/>
          <p:cNvSpPr/>
          <p:nvPr/>
        </p:nvSpPr>
        <p:spPr>
          <a:xfrm>
            <a:off x="4800600" y="236232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 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gimnasio para jug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 balonce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54864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 ir a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rcado.  ¿Quie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compañarn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2209680" y="3657600"/>
            <a:ext cx="31244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lculad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0" y="26668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 en mi cam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Comment 4"/>
          <p:cNvSpPr/>
          <p:nvPr/>
        </p:nvSpPr>
        <p:spPr>
          <a:xfrm>
            <a:off x="3429000" y="23623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Comment 5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Comment 6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Comment 7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Footer Placeholder 9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impres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omputadoras allí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00 dólares cad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libro de españo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lapic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a eso de 1 dólar, cre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Comment 4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Comment 5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Footer Placeholder 7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mment 2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ocho horas cada noch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Comment 4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2666880"/>
            <a:ext cx="5943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nunc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l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ase de españ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Comment 7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 los sábad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Comment 4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anuel siemp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ando está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Comment 4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0" y="2438280"/>
            <a:ext cx="6705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rato por la tarde si es posibl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Comment 4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mis amigos en el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Comment 5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Comment 6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Comment 7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Footer Placeholder 9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lápiz en el suel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3691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Jackson</cp:lastModifiedBy>
  <dcterms:modified xsi:type="dcterms:W3CDTF">2011-03-17T04:59:42Z</dcterms:modified>
  <cp:revision>4</cp:revision>
  <dc:subject/>
  <dc:title>No Slide Title</dc:title>
</cp:coreProperties>
</file>