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0A3-A276-4EE7-9BFA-44AC13A2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EA4-7CFC-4545-A3D2-E0A21A1A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3F6-6D46-492F-A53D-D2F3B6F2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112-15DB-4E61-87CD-FB1DADED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FBAF-0A62-48B6-847D-01DCF1D6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30F9-CDB5-460D-9471-88FF0B70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7918-8C60-4BD7-93C1-D308354A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B708-ADF2-45BA-8F57-20751002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ABA6-49C0-4DB4-965A-FCAD2444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5562-134B-499D-91E3-D53FA315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75B8-FA4D-4866-AF96-AAFF8628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A3F-A4D4-41B9-A396-CDADC68F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6143-96C3-44DB-B559-2E4E18C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D639-AF36-4363-935C-4821B2D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EC8F-9E95-434F-BFD7-1C911A8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55A1-F1CF-4ECA-AE33-B53F4630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01C0-3009-45A5-9A9D-5A041552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5B9-A763-46E4-B155-60B49A82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CE4-314E-4F86-ADFA-8C67098A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BA3-AEFF-42FC-8D6C-0D6BF396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80D-E127-4482-9321-ABC09356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B9A-B77B-4B4F-843B-A99BDFD7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AD8-9ADC-4E64-9D23-AB7E8393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A2E-C710-46F0-8EF3-6BC3A3E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2520" y="25776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5480" y="42912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800" y="1499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800" y="400608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1800" y="2750400"/>
              <a:ext cx="69552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2520" y="5252040"/>
              <a:ext cx="695160" cy="6904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A3BC-6B04-4107-9711-9E8396A43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A4BA-3F99-47EC-B025-B05410CFD14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429000" y="3657600"/>
            <a:ext cx="21337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refer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tí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de compras en el centro comercia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Comment 7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refer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905120" y="2666880"/>
            <a:ext cx="6933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jugar al fútbol en el parqu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Comment 4"/>
          <p:cNvSpPr/>
          <p:nvPr/>
        </p:nvSpPr>
        <p:spPr>
          <a:xfrm>
            <a:off x="4419720" y="2592360"/>
            <a:ext cx="32763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refer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286000" y="2286000"/>
            <a:ext cx="62485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uándo estoy cansado,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 tomar un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iesta o descansa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2286000" y="32004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refer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0" y="2286000"/>
            <a:ext cx="6553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Qué __________ hacer los sábados por la tarde? 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 ir de compras en el merc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Comment 4"/>
          <p:cNvSpPr/>
          <p:nvPr/>
        </p:nvSpPr>
        <p:spPr>
          <a:xfrm>
            <a:off x="4038480" y="213372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Comment 5"/>
          <p:cNvSpPr/>
          <p:nvPr/>
        </p:nvSpPr>
        <p:spPr>
          <a:xfrm>
            <a:off x="3352680" y="38862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acar una buen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t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Comment 4"/>
          <p:cNvSpPr/>
          <p:nvPr/>
        </p:nvSpPr>
        <p:spPr>
          <a:xfrm>
            <a:off x="4572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ncontrar a mis amigos a la fiesta de Natali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Comment 4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morzar en la cafeteri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Comment 4"/>
          <p:cNvSpPr/>
          <p:nvPr/>
        </p:nvSpPr>
        <p:spPr>
          <a:xfrm>
            <a:off x="4800600" y="2362320"/>
            <a:ext cx="31240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286000" y="2666880"/>
            <a:ext cx="6477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hicos  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ntender la lección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Comment 4"/>
          <p:cNvSpPr/>
          <p:nvPr/>
        </p:nvSpPr>
        <p:spPr>
          <a:xfrm>
            <a:off x="54864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 volver 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sa a las cinco de l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ard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Comment 4"/>
          <p:cNvSpPr/>
          <p:nvPr/>
        </p:nvSpPr>
        <p:spPr>
          <a:xfrm>
            <a:off x="2209680" y="3657600"/>
            <a:ext cx="31244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record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mañana es t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umpleañ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Comment 4"/>
          <p:cNvSpPr/>
          <p:nvPr/>
        </p:nvSpPr>
        <p:spPr>
          <a:xfrm>
            <a:off x="3429000" y="236232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od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0" y="2666880"/>
            <a:ext cx="533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 hablar un poco de españ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Comment 4"/>
          <p:cNvSpPr/>
          <p:nvPr/>
        </p:nvSpPr>
        <p:spPr>
          <a:xfrm>
            <a:off x="335268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Comment 5"/>
          <p:cNvSpPr/>
          <p:nvPr/>
        </p:nvSpPr>
        <p:spPr>
          <a:xfrm>
            <a:off x="335448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Comment 6"/>
          <p:cNvSpPr/>
          <p:nvPr/>
        </p:nvSpPr>
        <p:spPr>
          <a:xfrm>
            <a:off x="335448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Comment 7"/>
          <p:cNvSpPr/>
          <p:nvPr/>
        </p:nvSpPr>
        <p:spPr>
          <a:xfrm>
            <a:off x="335448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record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286000" y="2666880"/>
            <a:ext cx="6477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amá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 preparar la comid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Comment 4"/>
          <p:cNvSpPr/>
          <p:nvPr/>
        </p:nvSpPr>
        <p:spPr>
          <a:xfrm>
            <a:off x="4191120" y="236232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d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record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 ir de compras despué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 la escue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Comment 4"/>
          <p:cNvSpPr/>
          <p:nvPr/>
        </p:nvSpPr>
        <p:spPr>
          <a:xfrm>
            <a:off x="4876920" y="2592360"/>
            <a:ext cx="35049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d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record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tenemos que 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r la tarea en la clas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 matemática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2362320" y="3429000"/>
            <a:ext cx="35049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d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volv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salimos a l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res y  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las cinco de la tard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Comment 4"/>
          <p:cNvSpPr/>
          <p:nvPr/>
        </p:nvSpPr>
        <p:spPr>
          <a:xfrm>
            <a:off x="4267080" y="3657600"/>
            <a:ext cx="3505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vi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volv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sales a las ocho y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las once de la noch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Comment 4"/>
          <p:cNvSpPr/>
          <p:nvPr/>
        </p:nvSpPr>
        <p:spPr>
          <a:xfrm>
            <a:off x="2590920" y="3657600"/>
            <a:ext cx="35049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v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volv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na y Beto van d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mpras y 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ntes del almuerz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Comment 4"/>
          <p:cNvSpPr/>
          <p:nvPr/>
        </p:nvSpPr>
        <p:spPr>
          <a:xfrm>
            <a:off x="5334120" y="3657600"/>
            <a:ext cx="31240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v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volv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salgo a la escuela 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siete y media 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a casa 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tres y medi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Comment 4"/>
          <p:cNvSpPr/>
          <p:nvPr/>
        </p:nvSpPr>
        <p:spPr>
          <a:xfrm>
            <a:off x="2590920" y="4648320"/>
            <a:ext cx="31240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v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Comment 2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od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arlos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ir al WalMart después de la escuel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Comment 4"/>
          <p:cNvSpPr/>
          <p:nvPr/>
        </p:nvSpPr>
        <p:spPr>
          <a:xfrm>
            <a:off x="243828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od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0" y="2666880"/>
            <a:ext cx="5943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cant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uy bien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Comment 7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od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yudar a tu hermana si no tienes nada que hacer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Comment 4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od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siemp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cer todo lo que quier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Comment 4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ode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286000" y="2438280"/>
            <a:ext cx="6705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iero 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blar tres idiomas después de salir de la universidad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Comment 4"/>
          <p:cNvSpPr/>
          <p:nvPr/>
        </p:nvSpPr>
        <p:spPr>
          <a:xfrm>
            <a:off x="4572000" y="220968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refer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mis amigos en el restaurante mexica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Comment 4"/>
          <p:cNvSpPr/>
          <p:nvPr/>
        </p:nvSpPr>
        <p:spPr>
          <a:xfrm>
            <a:off x="3429000" y="23623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Comment 5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Comment 6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Comment 7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refer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adar en la piscina que en el lag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Jackson</cp:lastModifiedBy>
  <dcterms:modified xsi:type="dcterms:W3CDTF">2011-03-17T05:00:01Z</dcterms:modified>
  <cp:revision>3</cp:revision>
  <dc:subject/>
  <dc:title>No Slide Title</dc:title>
</cp:coreProperties>
</file>