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784-0DAE-4854-8FA8-755872BE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456-FB38-4830-B704-D7C349C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FA8ED-DF23-4400-BEE8-17217F1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F8ED3-E0EE-43B2-8718-CB3E69B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8A7DD-1959-42D0-A9D3-BBC34E0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8F46-B906-44E3-A38F-3F64AFC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FBC15-B7A1-4329-8817-1A2E0D0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6928C-4908-405A-931C-0F40ADB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CFD64-A96E-457E-B561-16878F8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5F018-B9A6-4C92-82E5-EE3F463C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E5494-927E-426A-897D-007EBF29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550-5276-4CF7-A936-211585C7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F1D-078A-4D9C-A2EE-C73B3F99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EC1-C021-428E-9234-BAE4F41A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442-2BBE-4791-A4C5-FD32952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A76-6EB0-46DF-ADC2-70286C97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868-6652-4DAF-A064-4402C5DC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FB7-E626-4AB2-8892-9061A26A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D30-7374-4B47-80C9-28E11C0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449-A4D6-4A09-9D1B-64EC49D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4B8-6B4B-47AA-B8FA-011D7C2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4243-2E52-430C-A4DB-C071CB7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E65E-0DBD-4994-B31D-76F5B33F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645-2FC7-4EC7-A872-50506F2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809-5A89-48EF-BCAC-1F4161E7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493-0543-43AA-9DD4-79A237B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A943-9A1A-4117-8A89-D9F48B98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9B8B-290C-4430-B9C9-53B3185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7AC9-CC7A-41D2-986F-68D9458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98F7-F447-436E-AFF8-52D2445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5E15-E30F-4E48-9132-A5A3D3A6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572-788A-4D35-8CD6-76E2971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1B9D-9214-4D7C-A190-69AF6CC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65BA-07B1-4815-A824-9E5E8D4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EC59-FC08-40E6-98F9-21B6847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12CD-C39D-492E-85B4-9F32169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1E98-BD83-467F-8CF7-AE0E6E9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C78E-50E8-4377-8B9F-6F6D61C4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B4DD-97E7-405B-92F2-36E9B517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FC35-6575-4B7E-A0E7-DCB5F9D5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68ED-8A71-47D1-ABEE-E9FFB9E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03E9-BEA8-42F5-8AB2-156BB72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A3B-18DB-4BAD-8030-67400965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AD47-F837-493E-87CC-307001C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DEF8-BFC2-4629-B910-8BADCE0E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FA5E-9C15-4B2F-A06E-FA57381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819D-36CE-4C10-861A-E5B2DC4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B101-0522-4CA1-AD28-320EA15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613E-49BD-4092-860D-BA38DE7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0C53-B201-4245-89E6-3B462B9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3345-C107-4960-A7DF-E5066C8A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845F-27D8-4761-8A0C-04827763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18A0-8020-4249-901B-62BEA482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C77-140F-4CBF-8BE6-EF10AE2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50BF-D82F-488A-BF0D-830C4FCA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5873-6EFD-463B-A92A-054D6437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D2DE-F199-4F00-A3F7-48D0AB0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1F30C-53C7-48B5-80BE-33B8F99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94B0-BF0E-4590-A828-BC24139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5D5E-CAD0-4703-9401-48D8469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545F-4491-4034-A38D-43A9A53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246F-672C-42FB-9B6A-B11D982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CEFE-561B-408A-8BE3-B67DEBC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F9EA-F7CE-45CC-AAFA-6E00005A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409-5EE3-4D27-906F-BC50C743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ED33-8F8F-4F71-B7B4-D0D97F4A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A70A-A3F0-481C-8317-8587F33A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09A60-1045-4D3B-9965-E752699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14D5-457C-4504-AE93-43414DA8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3BB5-F34F-4031-AC71-FB470E27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2625-7616-42BB-AB71-39A0D87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646C-F661-4D4F-A296-BCFA6B0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BED9B-676E-4902-9642-BB31EFC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58828-F77A-4268-945A-4D8E890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FE1C-9071-495A-98D5-42143C7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C76-FD63-4961-9611-1DA85E9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CE09-182C-45D3-95A8-744C6567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25FA-83C1-4AE7-AD2A-0A5329CF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FC7C-47A8-4C18-B218-65B0458F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9E3B9-E7A1-4E21-815E-4D52F45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E2AD9-887F-4E3F-B394-D1748E5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37A1-F84F-4CE7-9335-B6E9114A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1F64-55F9-4E99-B316-2768FD5D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FE36-3299-408D-9165-0D8F6AE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D4AE-5920-4861-B86D-7EB1351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5A806-77EE-407B-945F-96A7A98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CD1-98EA-49A5-90E6-DAB5031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4DE5F-5E56-43E5-AC9F-B22A83B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72EB-C06C-4F04-95E4-30BB2E9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3171-0CF8-4C81-946A-88A6402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E51D-12DC-4F21-AFB9-516BA180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9C57-D5BC-4F94-813C-C47A6AC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5995C-6521-470C-AB28-8AE34643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D125-AEE8-4D4A-A664-934AC2D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014D5-EEF1-4100-A8FE-CF7E92C4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12CA-F3CF-4032-8072-EADA076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DFD9-0B74-4463-9A25-8092E1C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81E-26E9-4EB6-A6DC-F6D9DB82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723F5-461B-4EF2-A681-0D5FC8C7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2F1F4-355E-4A47-9787-10A39A7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EA8D-2104-4C97-8290-787B447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AABF-BE52-4A2A-9129-9241AAA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3205-8809-455C-9026-5E1820C1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86EF-452B-437B-8842-9ECB8C16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079F-7DD1-47D5-9A04-CEBCB56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EF45-E768-46F9-9BEF-3EF9F1D6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BD4E-8AC3-4D02-B12B-F4164BF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08DD6-5260-423D-820F-4A6A12A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06F-941D-470A-B5F2-588F2ADD6F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F2D6-ACA8-4F8D-BB59-768A29B3ED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69ED-2D77-4EB6-8526-C7F53A2E29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E477-F6F5-4311-A81A-911D7D6C7D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F56-0BDB-4E4D-9051-58495BF3B6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D67-762B-4AAA-BA06-C68F5BCE45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626-711F-45AD-9F0C-D79A83A6AB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31C-82B8-4DE4-A84D-37386A33E1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9F0-8EED-48E1-8744-AF323C93FC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3"/>
          <p:cNvSpPr/>
          <p:nvPr/>
        </p:nvSpPr>
        <p:spPr>
          <a:xfrm>
            <a:off x="2971800" y="2666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Comment 4"/>
          <p:cNvSpPr/>
          <p:nvPr/>
        </p:nvSpPr>
        <p:spPr>
          <a:xfrm>
            <a:off x="9448920" y="68580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Comment 5"/>
          <p:cNvSpPr/>
          <p:nvPr/>
        </p:nvSpPr>
        <p:spPr>
          <a:xfrm>
            <a:off x="5943600" y="73152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6"/>
          <p:cNvSpPr/>
          <p:nvPr/>
        </p:nvSpPr>
        <p:spPr>
          <a:xfrm>
            <a:off x="9753480" y="48006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7"/>
          <p:cNvSpPr/>
          <p:nvPr/>
        </p:nvSpPr>
        <p:spPr>
          <a:xfrm>
            <a:off x="-3352680" y="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Comment 8"/>
          <p:cNvSpPr/>
          <p:nvPr/>
        </p:nvSpPr>
        <p:spPr>
          <a:xfrm>
            <a:off x="9906120" y="380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9"/>
          <p:cNvSpPr/>
          <p:nvPr/>
        </p:nvSpPr>
        <p:spPr>
          <a:xfrm>
            <a:off x="-3200400" y="2666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10"/>
          <p:cNvSpPr/>
          <p:nvPr/>
        </p:nvSpPr>
        <p:spPr>
          <a:xfrm>
            <a:off x="2057400" y="73152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11"/>
          <p:cNvSpPr/>
          <p:nvPr/>
        </p:nvSpPr>
        <p:spPr>
          <a:xfrm>
            <a:off x="9906120" y="259092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762120" y="297180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3"/>
          <p:cNvSpPr/>
          <p:nvPr/>
        </p:nvSpPr>
        <p:spPr>
          <a:xfrm>
            <a:off x="685800" y="4191120"/>
            <a:ext cx="61722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5"/>
          <p:cNvSpPr/>
          <p:nvPr/>
        </p:nvSpPr>
        <p:spPr>
          <a:xfrm>
            <a:off x="-4419720" y="2590920"/>
            <a:ext cx="34290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s tú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_________ cator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990720" y="9907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usted, señor Martine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_________ cincuenta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engo y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_________ dieciseis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ronica  _________ quin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Comment 4"/>
          <p:cNvSpPr/>
          <p:nvPr/>
        </p:nvSpPr>
        <p:spPr>
          <a:xfrm>
            <a:off x="4572000" y="3429000"/>
            <a:ext cx="1828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Javier, el padre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ier _________ treinta y nuev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4"/>
          <p:cNvSpPr/>
          <p:nvPr/>
        </p:nvSpPr>
        <p:spPr>
          <a:xfrm>
            <a:off x="3276720" y="41148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la abuela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 abuela _________ sesenta y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omment 4"/>
          <p:cNvSpPr/>
          <p:nvPr/>
        </p:nvSpPr>
        <p:spPr>
          <a:xfrm>
            <a:off x="4191120" y="41148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Andrés, el hermano menor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rés _________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Comment 4"/>
          <p:cNvSpPr/>
          <p:nvPr/>
        </p:nvSpPr>
        <p:spPr>
          <a:xfrm>
            <a:off x="35812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Andrés, el hermano menor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rés _________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mment 4"/>
          <p:cNvSpPr/>
          <p:nvPr/>
        </p:nvSpPr>
        <p:spPr>
          <a:xfrm>
            <a:off x="35812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762120" y="533520"/>
            <a:ext cx="57150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1066680" y="4267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do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Comment 4"/>
          <p:cNvSpPr/>
          <p:nvPr/>
        </p:nvSpPr>
        <p:spPr>
          <a:xfrm>
            <a:off x="4038480" y="4114800"/>
            <a:ext cx="2971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n los gemelos, Juan y Javi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1066680" y="4267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 y Javier ________ do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Comment 4"/>
          <p:cNvSpPr/>
          <p:nvPr/>
        </p:nvSpPr>
        <p:spPr>
          <a:xfrm>
            <a:off x="49528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39880" y="457200"/>
            <a:ext cx="739116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685800" y="1752480"/>
            <a:ext cx="57150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839880" y="457200"/>
            <a:ext cx="739116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685800" y="4191120"/>
            <a:ext cx="57150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4"/>
          <p:cNvSpPr/>
          <p:nvPr/>
        </p:nvSpPr>
        <p:spPr>
          <a:xfrm>
            <a:off x="-5486400" y="2590920"/>
            <a:ext cx="5013360" cy="34736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ingula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762120" y="533520"/>
            <a:ext cx="61722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762120" y="175248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AutoShape 4"/>
          <p:cNvCxnSpPr>
            <a:stCxn id="429" idx="1"/>
            <a:endCxn id="429" idx="1"/>
          </p:cNvCxnSpPr>
          <p:nvPr/>
        </p:nvCxnSpPr>
        <p:spPr>
          <a:xfrm>
            <a:off x="653760" y="2247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AutoShape 5"/>
          <p:cNvCxnSpPr>
            <a:endCxn id="429" idx="3"/>
          </p:cNvCxnSpPr>
          <p:nvPr/>
        </p:nvCxnSpPr>
        <p:spPr>
          <a:xfrm>
            <a:off x="1676160" y="1752480"/>
            <a:ext cx="5213880" cy="49608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2" name="AutoShape 6"/>
          <p:cNvCxnSpPr/>
          <p:nvPr/>
        </p:nvCxnSpPr>
        <p:spPr>
          <a:xfrm>
            <a:off x="37339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3" name="AutoShape 7"/>
          <p:cNvCxnSpPr/>
          <p:nvPr/>
        </p:nvCxnSpPr>
        <p:spPr>
          <a:xfrm>
            <a:off x="6854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4" name="AutoShape 8"/>
          <p:cNvCxnSpPr/>
          <p:nvPr/>
        </p:nvCxnSpPr>
        <p:spPr>
          <a:xfrm>
            <a:off x="7621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5" name="AutoShape 9"/>
          <p:cNvCxnSpPr/>
          <p:nvPr/>
        </p:nvCxnSpPr>
        <p:spPr>
          <a:xfrm>
            <a:off x="685440" y="22096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6" name="AutoShape 10"/>
          <p:cNvCxnSpPr/>
          <p:nvPr/>
        </p:nvCxnSpPr>
        <p:spPr>
          <a:xfrm>
            <a:off x="3276720" y="22096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7" name="AutoShape 11"/>
          <p:cNvCxnSpPr>
            <a:stCxn id="429" idx="0"/>
            <a:endCxn id="429" idx="1"/>
          </p:cNvCxnSpPr>
          <p:nvPr/>
        </p:nvCxnSpPr>
        <p:spPr>
          <a:xfrm flipH="1">
            <a:off x="653400" y="172080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8" name="AutoShape 12"/>
          <p:cNvCxnSpPr>
            <a:endCxn id="429" idx="2"/>
          </p:cNvCxnSpPr>
          <p:nvPr/>
        </p:nvCxnSpPr>
        <p:spPr>
          <a:xfrm>
            <a:off x="685440" y="2514240"/>
            <a:ext cx="3087000" cy="2610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9" name="AutoShape 13"/>
          <p:cNvCxnSpPr/>
          <p:nvPr/>
        </p:nvCxnSpPr>
        <p:spPr>
          <a:xfrm>
            <a:off x="1980720" y="213372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0" name="AutoShape 14"/>
          <p:cNvCxnSpPr/>
          <p:nvPr/>
        </p:nvCxnSpPr>
        <p:spPr>
          <a:xfrm>
            <a:off x="34286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441" name="Footer Placeholder 1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AutoShape 4"/>
          <p:cNvCxnSpPr>
            <a:stCxn id="443" idx="1"/>
            <a:endCxn id="443" idx="1"/>
          </p:cNvCxnSpPr>
          <p:nvPr/>
        </p:nvCxnSpPr>
        <p:spPr>
          <a:xfrm>
            <a:off x="653760" y="2247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AutoShape 5"/>
          <p:cNvCxnSpPr>
            <a:endCxn id="443" idx="3"/>
          </p:cNvCxnSpPr>
          <p:nvPr/>
        </p:nvCxnSpPr>
        <p:spPr>
          <a:xfrm>
            <a:off x="1676160" y="1752480"/>
            <a:ext cx="5213880" cy="49608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6" name="AutoShape 6"/>
          <p:cNvCxnSpPr/>
          <p:nvPr/>
        </p:nvCxnSpPr>
        <p:spPr>
          <a:xfrm>
            <a:off x="37339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7" name="AutoShape 7"/>
          <p:cNvCxnSpPr/>
          <p:nvPr/>
        </p:nvCxnSpPr>
        <p:spPr>
          <a:xfrm>
            <a:off x="6854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8" name="AutoShape 8"/>
          <p:cNvCxnSpPr/>
          <p:nvPr/>
        </p:nvCxnSpPr>
        <p:spPr>
          <a:xfrm>
            <a:off x="7621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9" name="AutoShape 9"/>
          <p:cNvCxnSpPr/>
          <p:nvPr/>
        </p:nvCxnSpPr>
        <p:spPr>
          <a:xfrm>
            <a:off x="685440" y="22096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0" name="AutoShape 10"/>
          <p:cNvCxnSpPr/>
          <p:nvPr/>
        </p:nvCxnSpPr>
        <p:spPr>
          <a:xfrm>
            <a:off x="3276720" y="22096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1" name="AutoShape 11"/>
          <p:cNvCxnSpPr>
            <a:stCxn id="443" idx="0"/>
            <a:endCxn id="443" idx="1"/>
          </p:cNvCxnSpPr>
          <p:nvPr/>
        </p:nvCxnSpPr>
        <p:spPr>
          <a:xfrm flipH="1">
            <a:off x="653400" y="172080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2" name="AutoShape 12"/>
          <p:cNvCxnSpPr>
            <a:endCxn id="443" idx="2"/>
          </p:cNvCxnSpPr>
          <p:nvPr/>
        </p:nvCxnSpPr>
        <p:spPr>
          <a:xfrm>
            <a:off x="685440" y="2514240"/>
            <a:ext cx="3087000" cy="2610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3" name="AutoShape 13"/>
          <p:cNvCxnSpPr/>
          <p:nvPr/>
        </p:nvCxnSpPr>
        <p:spPr>
          <a:xfrm>
            <a:off x="1980720" y="213372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4" name="AutoShape 14"/>
          <p:cNvCxnSpPr/>
          <p:nvPr/>
        </p:nvCxnSpPr>
        <p:spPr>
          <a:xfrm>
            <a:off x="34286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455" name="Footer Placeholder 1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1:53:50Z</dcterms:created>
  <dc:creator>Paul Widergren</dc:creator>
  <dc:description/>
  <dc:language>en-US</dc:language>
  <cp:lastModifiedBy>Jackson</cp:lastModifiedBy>
  <dcterms:modified xsi:type="dcterms:W3CDTF">2011-03-17T05:00:52Z</dcterms:modified>
  <cp:revision>2</cp:revision>
  <dc:subject/>
  <dc:title>No Slide Title</dc:title>
</cp:coreProperties>
</file>