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7906-88C6-4E33-B67E-BE0050290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7605-4DD0-4323-98C0-4D84073E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2740-8107-4B2B-AA39-CD472F39F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C3A3-AE3F-4430-BDBF-23C4B4778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9968-78B7-4CA8-B446-25C6F51F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9A9A-E9E7-40E8-B20F-AA3364F7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151C-422A-494A-AE5B-0B959F1D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13A4-650B-407F-A33E-801726F3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D289-9ED1-4299-9F79-49FC5742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E374-8BD8-4295-8BA2-ACD40AFE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EB42-017B-4C43-B0B7-0E1439DB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0DE8-42C9-4938-BE09-2F8E8B4A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F1C4-A685-4781-A3B9-F30DEC8F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931D-A5DD-4ACC-B14B-FC75F8C4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1AF1-A63E-4B2B-BFD0-A8C46C86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DCFC-4F82-4C0D-A9D1-65C4CD672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F894-9C7A-45D2-820A-ED0D38C76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380E-DE0A-447A-9AC0-19EEFAC3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BE9C-08B0-432D-88E0-0E526BAA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3C75-88CE-497A-9726-01C3B24C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5F21-6366-4403-916F-CD90BC0B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00CC-A81B-41F8-99F9-04A22169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77B1-9985-41F3-811A-0DC522A9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5F11-C1FA-431B-BCC1-88BABBED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6160" y="0"/>
            <a:ext cx="8772480" cy="6726240"/>
            <a:chOff x="146160" y="0"/>
            <a:chExt cx="8772480" cy="6726240"/>
          </a:xfrm>
        </p:grpSpPr>
        <p:grpSp>
          <p:nvGrpSpPr>
            <p:cNvPr id="1" name="Group 3"/>
            <p:cNvGrpSpPr/>
            <p:nvPr/>
          </p:nvGrpSpPr>
          <p:grpSpPr>
            <a:xfrm>
              <a:off x="146160" y="649440"/>
              <a:ext cx="8772480" cy="6076800"/>
              <a:chOff x="146160" y="649440"/>
              <a:chExt cx="8772480" cy="607680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146160" y="649440"/>
                <a:ext cx="8772480" cy="607680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  <a:effectLst>
                <a:outerShdw dist="107932" dir="2700000" blurRad="0" rotWithShape="0">
                  <a:srgbClr val="6633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" name="Group 5"/>
              <p:cNvGrpSpPr/>
              <p:nvPr/>
            </p:nvGrpSpPr>
            <p:grpSpPr>
              <a:xfrm>
                <a:off x="189000" y="677880"/>
                <a:ext cx="984240" cy="896760"/>
                <a:chOff x="189000" y="677880"/>
                <a:chExt cx="984240" cy="896760"/>
              </a:xfrm>
            </p:grpSpPr>
            <p:sp>
              <p:nvSpPr>
                <p:cNvPr id="4" name="Freeform 6"/>
                <p:cNvSpPr/>
                <p:nvPr/>
              </p:nvSpPr>
              <p:spPr>
                <a:xfrm>
                  <a:off x="201600" y="728640"/>
                  <a:ext cx="920880" cy="846000"/>
                </a:xfrm>
                <a:prstGeom prst="pie">
                  <a:avLst/>
                </a:prstGeom>
                <a:solidFill>
                  <a:srgbClr val="6633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Freeform 7"/>
                <p:cNvSpPr/>
                <p:nvPr/>
              </p:nvSpPr>
              <p:spPr>
                <a:xfrm>
                  <a:off x="189000" y="677880"/>
                  <a:ext cx="984240" cy="750960"/>
                </a:xfrm>
                <a:prstGeom prst="pi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" name="Group 8"/>
            <p:cNvGrpSpPr/>
            <p:nvPr/>
          </p:nvGrpSpPr>
          <p:grpSpPr>
            <a:xfrm>
              <a:off x="3254400" y="0"/>
              <a:ext cx="2603520" cy="988920"/>
              <a:chOff x="3254400" y="0"/>
              <a:chExt cx="2603520" cy="988920"/>
            </a:xfrm>
          </p:grpSpPr>
          <p:sp>
            <p:nvSpPr>
              <p:cNvPr id="7" name="Rectangle 9"/>
              <p:cNvSpPr/>
              <p:nvPr/>
            </p:nvSpPr>
            <p:spPr>
              <a:xfrm>
                <a:off x="325440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3736800" y="493560"/>
                <a:ext cx="36864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4941720" y="485640"/>
                <a:ext cx="368640" cy="57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4229280" y="0"/>
                <a:ext cx="601560" cy="58752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25772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299120" y="15840"/>
                <a:ext cx="442800" cy="130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Oval 15"/>
              <p:cNvSpPr/>
              <p:nvPr/>
            </p:nvSpPr>
            <p:spPr>
              <a:xfrm>
                <a:off x="430056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433224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3463920" y="423720"/>
                <a:ext cx="2155680" cy="56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513240" y="488880"/>
                <a:ext cx="850680" cy="29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3487680" y="911160"/>
                <a:ext cx="2104920" cy="6372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3511440" y="487440"/>
                <a:ext cx="2063880" cy="355680"/>
              </a:xfrm>
              <a:prstGeom prst="pi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4653000" y="492120"/>
                <a:ext cx="887400" cy="29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507960" y="6067080"/>
            <a:ext cx="2387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048120" y="6067080"/>
            <a:ext cx="32256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413040" y="6067440"/>
            <a:ext cx="21337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Freeform 27"/>
          <p:cNvSpPr/>
          <p:nvPr/>
        </p:nvSpPr>
        <p:spPr>
          <a:xfrm>
            <a:off x="3654360" y="2257560"/>
            <a:ext cx="2048040" cy="90360"/>
          </a:xfrm>
          <a:prstGeom prst="pi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204840" y="0"/>
            <a:ext cx="8781840" cy="6753240"/>
            <a:chOff x="204840" y="0"/>
            <a:chExt cx="8781840" cy="6753240"/>
          </a:xfrm>
        </p:grpSpPr>
        <p:sp>
          <p:nvSpPr>
            <p:cNvPr id="63" name="Freeform 3"/>
            <p:cNvSpPr/>
            <p:nvPr/>
          </p:nvSpPr>
          <p:spPr>
            <a:xfrm>
              <a:off x="204840" y="652320"/>
              <a:ext cx="8781840" cy="61009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Group 4"/>
            <p:cNvGrpSpPr/>
            <p:nvPr/>
          </p:nvGrpSpPr>
          <p:grpSpPr>
            <a:xfrm>
              <a:off x="3300480" y="0"/>
              <a:ext cx="2603520" cy="988920"/>
              <a:chOff x="3300480" y="0"/>
              <a:chExt cx="2603520" cy="988920"/>
            </a:xfrm>
          </p:grpSpPr>
          <p:sp>
            <p:nvSpPr>
              <p:cNvPr id="65" name="Rectangle 5"/>
              <p:cNvSpPr/>
              <p:nvPr/>
            </p:nvSpPr>
            <p:spPr>
              <a:xfrm>
                <a:off x="330048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Rectangle 6"/>
              <p:cNvSpPr/>
              <p:nvPr/>
            </p:nvSpPr>
            <p:spPr>
              <a:xfrm>
                <a:off x="3782880" y="493560"/>
                <a:ext cx="36828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Rectangle 7"/>
              <p:cNvSpPr/>
              <p:nvPr/>
            </p:nvSpPr>
            <p:spPr>
              <a:xfrm>
                <a:off x="4975200" y="507960"/>
                <a:ext cx="368280" cy="50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8"/>
              <p:cNvSpPr/>
              <p:nvPr/>
            </p:nvSpPr>
            <p:spPr>
              <a:xfrm>
                <a:off x="4275000" y="0"/>
                <a:ext cx="601920" cy="58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9"/>
              <p:cNvSpPr/>
              <p:nvPr/>
            </p:nvSpPr>
            <p:spPr>
              <a:xfrm>
                <a:off x="430380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0"/>
              <p:cNvSpPr/>
              <p:nvPr/>
            </p:nvSpPr>
            <p:spPr>
              <a:xfrm>
                <a:off x="4344840" y="15840"/>
                <a:ext cx="443160" cy="130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11"/>
              <p:cNvSpPr/>
              <p:nvPr/>
            </p:nvSpPr>
            <p:spPr>
              <a:xfrm>
                <a:off x="434664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12"/>
              <p:cNvSpPr/>
              <p:nvPr/>
            </p:nvSpPr>
            <p:spPr>
              <a:xfrm>
                <a:off x="437832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3"/>
              <p:cNvSpPr/>
              <p:nvPr/>
            </p:nvSpPr>
            <p:spPr>
              <a:xfrm>
                <a:off x="3510000" y="423720"/>
                <a:ext cx="2155680" cy="56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4"/>
              <p:cNvSpPr/>
              <p:nvPr/>
            </p:nvSpPr>
            <p:spPr>
              <a:xfrm>
                <a:off x="3559320" y="488880"/>
                <a:ext cx="850680" cy="29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5"/>
              <p:cNvSpPr/>
              <p:nvPr/>
            </p:nvSpPr>
            <p:spPr>
              <a:xfrm>
                <a:off x="3533760" y="911160"/>
                <a:ext cx="2104920" cy="6372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6"/>
              <p:cNvSpPr/>
              <p:nvPr/>
            </p:nvSpPr>
            <p:spPr>
              <a:xfrm>
                <a:off x="3557520" y="487440"/>
                <a:ext cx="2063880" cy="355680"/>
              </a:xfrm>
              <a:prstGeom prst="pi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7"/>
              <p:cNvSpPr/>
              <p:nvPr/>
            </p:nvSpPr>
            <p:spPr>
              <a:xfrm>
                <a:off x="4699080" y="492120"/>
                <a:ext cx="887400" cy="29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Freeform 18"/>
          <p:cNvSpPr/>
          <p:nvPr/>
        </p:nvSpPr>
        <p:spPr>
          <a:xfrm>
            <a:off x="272880" y="797040"/>
            <a:ext cx="806760" cy="717480"/>
          </a:xfrm>
          <a:prstGeom prst="pie">
            <a:avLst/>
          </a:pr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19"/>
          <p:cNvSpPr/>
          <p:nvPr/>
        </p:nvSpPr>
        <p:spPr>
          <a:xfrm>
            <a:off x="255600" y="654120"/>
            <a:ext cx="984240" cy="7668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680760" y="6067440"/>
            <a:ext cx="23000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07880" y="6067440"/>
            <a:ext cx="31244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372360" y="6067440"/>
            <a:ext cx="231120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Oval 4"/>
          <p:cNvSpPr/>
          <p:nvPr/>
        </p:nvSpPr>
        <p:spPr>
          <a:xfrm>
            <a:off x="1905120" y="2209680"/>
            <a:ext cx="5410080" cy="31244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venir 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o come from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an __________ de Méxic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2666880" y="15238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io y yo __________ del aeropuerto ahor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io y yo __________ del aeropuerto ahor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4191120" y="1295280"/>
            <a:ext cx="21333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ú __________ del muse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ú __________ del muse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2514600" y="15238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ú __________ del museo de antropologí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ú __________ del museo de antropologí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2362320" y="12193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sotros __________ de Harris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sotros __________ de Harris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2971800" y="15238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estros abuelos __________ de Tex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l cine – from the mov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l concierto – from the concer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 la biblioteca – from the librar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l restaurante – from the restaura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 la cafetería – from the cafeteri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l parque – from the parqu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l banco – from the ban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estros abuelos __________ de Tex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4952880" y="12193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la y yo __________ de Russellvil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la y yo __________ de Russellvil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4419720" y="1295280"/>
            <a:ext cx="21333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gnacio __________ de la tienda de deport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gnacio __________ de la tienda de deport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2895480" y="12193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na _______ de la zapaterí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na _______ de la zapaterí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2514600" y="160020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sotros _______ del parqu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1219320" y="54100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sotros _______ del parqu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1219320" y="54100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3200400" y="167652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De dónde ___________ tú?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 abuela ___________ del centro comer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De dónde ___________ tú?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4114800" y="15238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 ____________ de la cafeterí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 ____________ de la cafeterí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1981080" y="15238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 ustedes de la clase de matemática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 ustedes de la clase de matemática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1219320" y="12193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, __________ de la bibliotec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, __________ de la bibliotec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2133720" y="1523880"/>
            <a:ext cx="21333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9"/>
          <p:cNvSpPr/>
          <p:nvPr/>
        </p:nvSpPr>
        <p:spPr>
          <a:xfrm>
            <a:off x="1905120" y="2209680"/>
            <a:ext cx="5333760" cy="28958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Footer Placeholder 11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 abuela ___________ del centro comer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3505320" y="12193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 ___________ de la escuel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 ___________ de la escuel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133720" y="160020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 y Lupe __________ del ci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 y Lupe __________ del ci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3657600" y="160020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an __________ de Méxic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0:24:54Z</dcterms:created>
  <dc:creator>Paul Widergren</dc:creator>
  <dc:description/>
  <dc:language>en-US</dc:language>
  <cp:lastModifiedBy>Jackson</cp:lastModifiedBy>
  <dcterms:modified xsi:type="dcterms:W3CDTF">2011-03-17T05:01:15Z</dcterms:modified>
  <cp:revision>8</cp:revision>
  <dc:subject/>
  <dc:title>Slide 1</dc:title>
</cp:coreProperties>
</file>