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83C-8494-4FE8-8771-5913BC92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903-2D99-45FC-8069-B6177EBD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B1B-6D09-47DE-93AF-790E3CDF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2D1-4DB7-4732-82DE-04D3349C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8D67-D84E-4E55-BB3F-BC1B9910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CF61-C1CB-46CB-858E-669722ED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611B-F143-4DCE-837A-3D032433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1203-EC6F-4813-8F07-C3333FB4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4D70-FA86-4986-8F4A-BD4E066B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9096-A01D-4751-8BFE-B76D0F2A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2E38-0102-4EB1-AC1A-3D542D4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A1E-298B-406D-8BDC-E0049C97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871E-DC8D-4B7D-98F8-B0F62B9C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B653-932B-4D54-9EA0-1897BCE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F36E-79C8-4012-9779-9FA54C64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72A1-8B43-443E-9C17-140C3E88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AE63-E9F8-4AF8-82EE-A3E5558A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25B-7463-4468-B3B3-FE21F08C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B12-9A94-4162-8F9B-31C8CC11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F17-CE21-44A5-9F79-CBF28A61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F74-3883-435A-8CC9-534C9E7D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A4B-C460-41EE-8B2F-11F63B2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155-F5D6-4BA5-B838-D190DCDB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E9E-EC5D-4F25-9EAA-4DD4661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prstGeom prst="pie">
                  <a:avLst/>
                </a:pr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1905120" y="2209680"/>
            <a:ext cx="5410080" cy="3124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enir 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come from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an __________ de Méxi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666880" y="15238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io y yo __________ del aeropuerto a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io y yo __________ del aeropuerto a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191120" y="1295280"/>
            <a:ext cx="21333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ú __________ del muse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ú __________ del muse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514600" y="15238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ú __________ del museo de antropolog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ú __________ del museo de antropolog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362320" y="12193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otros __________ de Harris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otros __________ de Harris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971800" y="15238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estros abuelos __________ de Tex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 cine – from the mov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 concierto – from the conce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la biblioteca – from the libra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 restaurante – from the restaura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la cafetería – from the cafeter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 parque – from the parqu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 banco – from the ban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estros abuelos __________ de Tex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4952880" y="12193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la y yo __________ de Russellvil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la y yo __________ de Russellvil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4419720" y="1295280"/>
            <a:ext cx="21333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acio __________ de la tienda de depor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acio __________ de la tienda de depor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2895480" y="12193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na _______ de la zapa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na _______ de la zapa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2514600" y="160020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otros _______ del parq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219320" y="54100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otros _______ del parq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219320" y="54100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200400" y="167652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dónde ___________ tú?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abuela ___________ del centro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dónde ___________ tú?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114800" y="15238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____________ de la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____________ de la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981080" y="15238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 ustedes de la clase de matemáti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 ustedes de la clase de matemáti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1219320" y="12193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, __________ de la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, __________ de la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133720" y="1523880"/>
            <a:ext cx="21333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1905120" y="2209680"/>
            <a:ext cx="5333760" cy="28958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abuela ___________ del centro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505320" y="12193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___________ de la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___________ de la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133720" y="160020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 y Lupe __________ del c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 y Lupe __________ del c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657600" y="160020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an __________ de Méxi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0:24:54Z</dcterms:created>
  <dc:creator>Paul Widergren</dc:creator>
  <dc:description/>
  <dc:language>en-US</dc:language>
  <cp:lastModifiedBy>Jackson</cp:lastModifiedBy>
  <dcterms:modified xsi:type="dcterms:W3CDTF">2011-03-17T05:01:15Z</dcterms:modified>
  <cp:revision>8</cp:revision>
  <dc:subject/>
  <dc:title>Slide 1</dc:title>
</cp:coreProperties>
</file>